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DC3-AA52-477D-9B69-6AD8990F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D1A-3A62-4F5F-84ED-4B7CD2D6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2DF-1223-491A-9BD8-346E01A3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C18-E707-4237-9572-626DFB5E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69C-B8BB-4061-A8E1-1C8BEB61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CA5-DB66-47E7-A409-2F64DB5D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B5F-51DC-444C-8C07-A84DD09E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B0B-D20E-48BF-9731-C0BA4063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7DD-84C5-4EEF-BCBD-392A059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722-19E7-4F76-962F-A905F426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B70-929A-4929-8624-F343000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08C-2A3D-4E64-8906-7ECC373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332A-90CD-4503-8BDD-0D2FE3EE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7352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mitivida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(o impropiamente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constante dieléctric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 es una constante física que describe cómo un campo eléctrico afecta y es afectado por un medio. La permitividad del vacío     es 8,8541878176x10-12 F/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\varepsilon_0"/>
          <p:cNvPicPr/>
          <p:nvPr/>
        </p:nvPicPr>
        <p:blipFill>
          <a:blip r:embed="rId1"/>
          <a:stretch/>
        </p:blipFill>
        <p:spPr>
          <a:xfrm>
            <a:off x="3956040" y="2384280"/>
            <a:ext cx="223920" cy="168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36338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mitividad de un material es usualmente dada como relación a la del vacío, denominándose permitividad relativa,           (también llamada constante dieléctrica en algunos casos). La permitividad absoluta se calcula multiplicando la permitividad relativa por la del vací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            es la susceptibilidad eléctrica del mate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\varepsilon_{r}"/>
          <p:cNvPicPr/>
          <p:nvPr/>
        </p:nvPicPr>
        <p:blipFill>
          <a:blip r:embed="rId2"/>
          <a:stretch/>
        </p:blipFill>
        <p:spPr>
          <a:xfrm>
            <a:off x="5210280" y="4005360"/>
            <a:ext cx="225360" cy="16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\varepsilon = \varepsilon_r \varepsilon_0  = (1+\chi_e)\varepsilon_0 "/>
          <p:cNvPicPr/>
          <p:nvPr/>
        </p:nvPicPr>
        <p:blipFill>
          <a:blip r:embed="rId3"/>
          <a:stretch/>
        </p:blipFill>
        <p:spPr>
          <a:xfrm>
            <a:off x="1476360" y="4829040"/>
            <a:ext cx="2303640" cy="255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\,\chi_e"/>
          <p:cNvPicPr/>
          <p:nvPr/>
        </p:nvPicPr>
        <p:blipFill>
          <a:blip r:embed="rId4"/>
          <a:stretch/>
        </p:blipFill>
        <p:spPr>
          <a:xfrm>
            <a:off x="1403280" y="5087880"/>
            <a:ext cx="289080" cy="212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ustificando una consulta en la catedra de 18/03 con respecto a permi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038320" y="1197000"/>
          <a:ext cx="5068800" cy="4675320"/>
        </p:xfrm>
        <a:graphic>
          <a:graphicData uri="http://schemas.openxmlformats.org/drawingml/2006/table">
            <a:tbl>
              <a:tblPr/>
              <a:tblGrid>
                <a:gridCol w="1538280"/>
                <a:gridCol w="882720"/>
                <a:gridCol w="2647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stencia dieléctric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kV/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ua a 20 º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quel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opr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p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f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exig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cel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rio pyr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360" y="620640"/>
            <a:ext cx="89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siguiente tabla se muestran las permitividades absolutas de algunos dieléctr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2:30:17Z</dcterms:created>
  <dc:creator> </dc:creator>
  <dc:description/>
  <dc:language>en-US</dc:language>
  <cp:lastModifiedBy> </cp:lastModifiedBy>
  <dcterms:modified xsi:type="dcterms:W3CDTF">2009-03-19T02:49:55Z</dcterms:modified>
  <cp:revision>3</cp:revision>
  <dc:subject/>
  <dc:title>Slide 1</dc:title>
</cp:coreProperties>
</file>