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664-A6D9-4A22-B43B-25CFF7A1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FE5-BBF8-4CC5-A76F-10C69DAF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C7A-F546-49D0-ABD2-0034E78F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3C0-6CA1-430F-9FAE-0D1188DE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4CE-4279-4387-8849-47A90BC8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76E-5324-4A7F-A3FA-343919B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996-5F0E-4792-84E5-F2A5E206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A65-0153-413C-8A0B-3381741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050-2EB8-4107-B783-F959417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EFD-6249-4FEF-93E0-A839302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784-3A73-4EDC-93DC-014629C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66D-D20C-4C69-AA7D-3065248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D48-5965-4EB8-A45C-D23236A9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7352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mitivida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o impropiamente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nstante dieléctr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es una constante física que describe cómo un campo eléctrico afecta y es afectado por un medio. La permitividad del vacío     es 8,8541878176x10-12 F/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\varepsilon_0"/>
          <p:cNvPicPr/>
          <p:nvPr/>
        </p:nvPicPr>
        <p:blipFill>
          <a:blip r:embed="rId1"/>
          <a:stretch/>
        </p:blipFill>
        <p:spPr>
          <a:xfrm>
            <a:off x="3956040" y="2384280"/>
            <a:ext cx="223920" cy="16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6338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mitividad de un material es usualmente dada como relación a la del vacío, denominándose permitividad relativa,           (también llamada constante dieléctrica en algunos casos). La permitividad absoluta se calcula multiplicando la permitividad relativa por la del vací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           es la susceptibilidad eléctrica del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\varepsilon_{r}"/>
          <p:cNvPicPr/>
          <p:nvPr/>
        </p:nvPicPr>
        <p:blipFill>
          <a:blip r:embed="rId2"/>
          <a:stretch/>
        </p:blipFill>
        <p:spPr>
          <a:xfrm>
            <a:off x="5210280" y="4005360"/>
            <a:ext cx="225360" cy="1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\varepsilon = \varepsilon_r \varepsilon_0  = (1+\chi_e)\varepsilon_0 "/>
          <p:cNvPicPr/>
          <p:nvPr/>
        </p:nvPicPr>
        <p:blipFill>
          <a:blip r:embed="rId3"/>
          <a:stretch/>
        </p:blipFill>
        <p:spPr>
          <a:xfrm>
            <a:off x="1476360" y="482904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\,\chi_e"/>
          <p:cNvPicPr/>
          <p:nvPr/>
        </p:nvPicPr>
        <p:blipFill>
          <a:blip r:embed="rId4"/>
          <a:stretch/>
        </p:blipFill>
        <p:spPr>
          <a:xfrm>
            <a:off x="1403280" y="5087880"/>
            <a:ext cx="289080" cy="2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ndo una consulta en la catedra de 18/03 con respecto a perm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38320" y="1197000"/>
          <a:ext cx="5068800" cy="4675320"/>
        </p:xfrm>
        <a:graphic>
          <a:graphicData uri="http://schemas.openxmlformats.org/drawingml/2006/table">
            <a:tbl>
              <a:tblPr/>
              <a:tblGrid>
                <a:gridCol w="1538280"/>
                <a:gridCol w="882720"/>
                <a:gridCol w="2647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 dieléctric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V/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ua a 20 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que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op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f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xig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cel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rio pyr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360" y="620640"/>
            <a:ext cx="89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siguiente tabla se muestran las permitividades absolutas de algunos dieléct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2:30:17Z</dcterms:created>
  <dc:creator> </dc:creator>
  <dc:description/>
  <dc:language>en-US</dc:language>
  <cp:lastModifiedBy> </cp:lastModifiedBy>
  <dcterms:modified xsi:type="dcterms:W3CDTF">2009-03-19T02:49:55Z</dcterms:modified>
  <cp:revision>3</cp:revision>
  <dc:subject/>
  <dc:title>Slide 1</dc:title>
</cp:coreProperties>
</file>