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0C3-5EAF-40F4-977D-00AF118D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8E7-7372-43C7-A65D-4424915D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257-3D38-4E07-AF5E-39D4D992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FA6-A974-419A-A433-874FFC01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FD3-391D-4EEB-82C6-4AEE0E6D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E70-E8B2-45CC-91E8-8B314B06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94A-98E9-4252-8720-8AAF9466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AA2-2C24-4FE2-A554-28BB1C22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987-D1C0-497F-8DE9-8AEE492A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F7B-72D9-4BB5-AE9D-90E503B4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93F-2E1A-46D1-9540-7BAFB637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8B9-73F0-4FB3-A9E7-C24C897C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06E1-E745-4877-99D6-9B412A211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7352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mitivida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o impropiamente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constante dieléctr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 es una constante física que describe cómo un campo eléctrico afecta y es afectado por un medio. La permitividad del vacío     es 8,8541878176x10-12 F/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\varepsilon_0"/>
          <p:cNvPicPr/>
          <p:nvPr/>
        </p:nvPicPr>
        <p:blipFill>
          <a:blip r:embed="rId1"/>
          <a:stretch/>
        </p:blipFill>
        <p:spPr>
          <a:xfrm>
            <a:off x="3956040" y="2384280"/>
            <a:ext cx="223920" cy="16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36338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mitividad de un material es usualmente dada como relación a la del vacío, denominándose permitividad relativa,           (también llamada constante dieléctrica en algunos casos). La permitividad absoluta se calcula multiplicando la permitividad relativa por la del vací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           es la susceptibilidad eléctrica del mate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\varepsilon_{r}"/>
          <p:cNvPicPr/>
          <p:nvPr/>
        </p:nvPicPr>
        <p:blipFill>
          <a:blip r:embed="rId2"/>
          <a:stretch/>
        </p:blipFill>
        <p:spPr>
          <a:xfrm>
            <a:off x="5210280" y="4005360"/>
            <a:ext cx="225360" cy="16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\varepsilon = \varepsilon_r \varepsilon_0  = (1+\chi_e)\varepsilon_0 "/>
          <p:cNvPicPr/>
          <p:nvPr/>
        </p:nvPicPr>
        <p:blipFill>
          <a:blip r:embed="rId3"/>
          <a:stretch/>
        </p:blipFill>
        <p:spPr>
          <a:xfrm>
            <a:off x="1476360" y="4829040"/>
            <a:ext cx="2303640" cy="25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\,\chi_e"/>
          <p:cNvPicPr/>
          <p:nvPr/>
        </p:nvPicPr>
        <p:blipFill>
          <a:blip r:embed="rId4"/>
          <a:stretch/>
        </p:blipFill>
        <p:spPr>
          <a:xfrm>
            <a:off x="1403280" y="5087880"/>
            <a:ext cx="289080" cy="212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ndo una consulta en la catedra de 18/03 con respecto a perm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038320" y="1197000"/>
          <a:ext cx="5068800" cy="4675320"/>
        </p:xfrm>
        <a:graphic>
          <a:graphicData uri="http://schemas.openxmlformats.org/drawingml/2006/table">
            <a:tbl>
              <a:tblPr/>
              <a:tblGrid>
                <a:gridCol w="1538280"/>
                <a:gridCol w="882720"/>
                <a:gridCol w="2647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 dieléctric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kV/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ua a 20 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que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opr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f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xig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cel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drio pyr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8360" y="620640"/>
            <a:ext cx="89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siguiente tabla se muestran las permitividades absolutas de algunos dieléct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2:30:17Z</dcterms:created>
  <dc:creator> </dc:creator>
  <dc:description/>
  <dc:language>en-US</dc:language>
  <cp:lastModifiedBy> </cp:lastModifiedBy>
  <dcterms:modified xsi:type="dcterms:W3CDTF">2009-03-19T02:49:55Z</dcterms:modified>
  <cp:revision>3</cp:revision>
  <dc:subject/>
  <dc:title>Slide 1</dc:title>
</cp:coreProperties>
</file>