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81B-52C3-42B9-A593-1DA1741C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3F3-7FF2-4A4B-AEA2-7B950634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649-6D21-42F3-BBB3-4D323B67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2D0-A498-41C5-8087-7DD90E9D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DFD-6416-4E02-851C-81C4E629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141-9642-48D8-8F92-71C1255D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E72-DE6E-42B5-8774-CCA54D44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A4A-86ED-43BA-A29C-9B576F7F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776-49A0-4A4A-AFC3-F9B981E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B78-19E6-41B7-B7B1-7EE534A9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DA9-9BF2-4DBA-940B-28E7716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ECE-928A-432F-8863-B6B4B63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CAB9-25CA-47BA-80EA-F3E34F06A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7352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mitivida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o impropiamente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onstante dieléctr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 es una constante física que describe cómo un campo eléctrico afecta y es afectado por un medio. La permitividad del vacío     es 8,8541878176x10-12 F/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\varepsilon_0"/>
          <p:cNvPicPr/>
          <p:nvPr/>
        </p:nvPicPr>
        <p:blipFill>
          <a:blip r:embed="rId1"/>
          <a:stretch/>
        </p:blipFill>
        <p:spPr>
          <a:xfrm>
            <a:off x="3956040" y="2384280"/>
            <a:ext cx="223920" cy="16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36338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mitividad de un material es usualmente dada como relación a la del vacío, denominándose permitividad relativa,           (también llamada constante dieléctrica en algunos casos). La permitividad absoluta se calcula multiplicando la permitividad relativa por la del vací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           es la susceptibilidad eléctrica del mate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\varepsilon_{r}"/>
          <p:cNvPicPr/>
          <p:nvPr/>
        </p:nvPicPr>
        <p:blipFill>
          <a:blip r:embed="rId2"/>
          <a:stretch/>
        </p:blipFill>
        <p:spPr>
          <a:xfrm>
            <a:off x="5210280" y="4005360"/>
            <a:ext cx="225360" cy="16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\varepsilon = \varepsilon_r \varepsilon_0  = (1+\chi_e)\varepsilon_0 "/>
          <p:cNvPicPr/>
          <p:nvPr/>
        </p:nvPicPr>
        <p:blipFill>
          <a:blip r:embed="rId3"/>
          <a:stretch/>
        </p:blipFill>
        <p:spPr>
          <a:xfrm>
            <a:off x="1476360" y="4829040"/>
            <a:ext cx="2303640" cy="25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\,\chi_e"/>
          <p:cNvPicPr/>
          <p:nvPr/>
        </p:nvPicPr>
        <p:blipFill>
          <a:blip r:embed="rId4"/>
          <a:stretch/>
        </p:blipFill>
        <p:spPr>
          <a:xfrm>
            <a:off x="1403280" y="5087880"/>
            <a:ext cx="289080" cy="21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ndo una consulta en la catedra de 18/03 con respecto a perm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038320" y="1197000"/>
          <a:ext cx="5068800" cy="4675320"/>
        </p:xfrm>
        <a:graphic>
          <a:graphicData uri="http://schemas.openxmlformats.org/drawingml/2006/table">
            <a:tbl>
              <a:tblPr/>
              <a:tblGrid>
                <a:gridCol w="1538280"/>
                <a:gridCol w="882720"/>
                <a:gridCol w="2647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 dieléctric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V/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ua a 20 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que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opr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f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xig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cel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rio pyr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360" y="620640"/>
            <a:ext cx="89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siguiente tabla se muestran las permitividades absolutas de algunos dieléct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2:30:17Z</dcterms:created>
  <dc:creator> </dc:creator>
  <dc:description/>
  <dc:language>en-US</dc:language>
  <cp:lastModifiedBy> </cp:lastModifiedBy>
  <dcterms:modified xsi:type="dcterms:W3CDTF">2009-03-19T02:49:55Z</dcterms:modified>
  <cp:revision>3</cp:revision>
  <dc:subject/>
  <dc:title>Slide 1</dc:title>
</cp:coreProperties>
</file>