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8288000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475A-357B-4255-A339-73C1BC2B5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736452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4CBB-98EE-4AA6-BA8B-2EE744EA9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934812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0A23-21C4-4B9E-80BC-9C8B19F4A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47928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4416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647928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1204416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36F74-8928-4112-8869-E901A4AA8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F3F14-6461-49D3-B3BB-75C665909E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3209400"/>
            <a:ext cx="1645884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E29F-8793-4B27-96C4-281DA83939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1645884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1653F-D78F-4990-A7D2-5243F11486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FF1DA-6207-4814-97D8-0E5CCDB0EB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0363D-F191-4C12-834F-392AA2C46F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547200"/>
            <a:ext cx="16458840" cy="10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4D1D-3094-4D74-A934-8C9887F9D0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3CF10-9250-43D5-9353-0BB080C206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3209400"/>
            <a:ext cx="1645884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B031-B6A2-463C-8F30-3B65890AA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34812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7FCD-A83E-4BB2-9EBA-7259D8756D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290B2-73CC-4351-BB69-1D252C3110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736452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AC95-C5E0-4646-B2C3-03B691EFFA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934812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49047-0D91-4AFC-B1A6-E9A20F2711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928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04416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647928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1204416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5B361-64EF-400D-BEAD-9B46FE58FE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1645884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A10B-F1FB-473F-A840-1948628DB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0F8A-8A51-428E-90BB-19182875B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8A62-DCA7-4F6A-969D-B429D92BB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547200"/>
            <a:ext cx="16458840" cy="10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90D9-DE95-4D66-BBB6-9A8F058CB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F01E-BEBA-434C-83B8-1F346521A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34812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6EB0-CFD8-40E8-8418-C1CE5E3D7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78B2-85D0-4BAF-A788-521B54292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4260600"/>
            <a:ext cx="15544800" cy="2940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3200" y="7772040"/>
            <a:ext cx="12801600" cy="3505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43000"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  <a:p>
            <a:pPr lvl="1" marL="376560" algn="ctr">
              <a:spcBef>
                <a:spcPts val="1500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  <a:p>
            <a:pPr lvl="2" marL="769680" algn="ctr">
              <a:spcBef>
                <a:spcPts val="1500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  <a:p>
            <a:pPr lvl="3" marL="1163160" algn="ctr">
              <a:spcBef>
                <a:spcPts val="1500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  <a:p>
            <a:pPr lvl="4" marL="1556280" algn="ctr">
              <a:spcBef>
                <a:spcPts val="1500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  <a:p>
            <a:pPr lvl="5" marL="1556280" algn="ctr"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  <a:p>
            <a:pPr lvl="6" marL="1556280" algn="ctr"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6974720" y="12998160"/>
            <a:ext cx="3985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78787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B595-E6CD-402B-907B-144EB77F9B3C}" type="slidenum"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16974720" y="12998160"/>
            <a:ext cx="3985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78787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6D15-1A0B-453E-91E1-C2B6CCBF3054}" type="slidenum"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914400" y="3209400"/>
            <a:ext cx="1645884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17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712880" y="7260840"/>
            <a:ext cx="5857920" cy="3714840"/>
          </a:xfrm>
          <a:prstGeom prst="line">
            <a:avLst/>
          </a:prstGeom>
          <a:ln w="114480">
            <a:solidFill>
              <a:srgbClr val="c0504d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690560" y="3690720"/>
            <a:ext cx="8267760" cy="7314840"/>
            <a:chOff x="1690560" y="3690720"/>
            <a:chExt cx="8267760" cy="7314840"/>
          </a:xfrm>
        </p:grpSpPr>
        <p:sp>
          <p:nvSpPr>
            <p:cNvPr id="82" name=""/>
            <p:cNvSpPr/>
            <p:nvPr/>
          </p:nvSpPr>
          <p:spPr>
            <a:xfrm flipV="1">
              <a:off x="1710360" y="3690720"/>
              <a:ext cx="3240" cy="731484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1690560" y="10834200"/>
              <a:ext cx="8267760" cy="16200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712520" y="6665760"/>
            <a:ext cx="6292080" cy="4168800"/>
            <a:chOff x="1712520" y="6665760"/>
            <a:chExt cx="6292080" cy="4168800"/>
          </a:xfrm>
        </p:grpSpPr>
        <p:sp>
          <p:nvSpPr>
            <p:cNvPr id="85" name=""/>
            <p:cNvSpPr/>
            <p:nvPr/>
          </p:nvSpPr>
          <p:spPr>
            <a:xfrm flipH="1">
              <a:off x="7569720" y="7262640"/>
              <a:ext cx="3240" cy="3571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1712520" y="7261200"/>
              <a:ext cx="5859000" cy="142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20200" y="8975520"/>
              <a:ext cx="2844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33040" y="6665760"/>
              <a:ext cx="275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7576560" y="6546960"/>
            <a:ext cx="874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,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"/>
          <p:cNvSpPr/>
          <p:nvPr/>
        </p:nvSpPr>
        <p:spPr>
          <a:xfrm>
            <a:off x="1428840" y="10912320"/>
            <a:ext cx="3697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"/>
          <p:cNvSpPr/>
          <p:nvPr/>
        </p:nvSpPr>
        <p:spPr>
          <a:xfrm>
            <a:off x="7674120" y="7032600"/>
            <a:ext cx="374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"/>
          <p:cNvSpPr/>
          <p:nvPr/>
        </p:nvSpPr>
        <p:spPr>
          <a:xfrm>
            <a:off x="-32400" y="0"/>
            <a:ext cx="3723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Vectores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10393560" y="3141720"/>
            <a:ext cx="729576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Significado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Cambio de ORIGEN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SUMA de vector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ROTACIÓN de coordenada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Invariantes”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609480" y="3367080"/>
            <a:ext cx="19505520" cy="796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9C27-168D-4B4C-8FCA-D0976A24499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712400" y="5570280"/>
            <a:ext cx="8859960" cy="314460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"/>
          <p:cNvSpPr/>
          <p:nvPr/>
        </p:nvSpPr>
        <p:spPr>
          <a:xfrm>
            <a:off x="-19800" y="0"/>
            <a:ext cx="466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Invariantes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"/>
          <p:cNvSpPr/>
          <p:nvPr/>
        </p:nvSpPr>
        <p:spPr>
          <a:xfrm>
            <a:off x="2653920" y="1427040"/>
            <a:ext cx="1338012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Propiedades de las coordenadas que no 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cambian en una rotación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"/>
          <p:cNvSpPr/>
          <p:nvPr/>
        </p:nvSpPr>
        <p:spPr>
          <a:xfrm>
            <a:off x="1482120" y="11287080"/>
            <a:ext cx="15835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Con solo un vector el único invariante es el MÓDULO…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más funciones arbitrarias del módulo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710960" y="3857760"/>
            <a:ext cx="3240" cy="48592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712400" y="8572680"/>
            <a:ext cx="11717640" cy="14256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"/>
          <p:cNvSpPr/>
          <p:nvPr/>
        </p:nvSpPr>
        <p:spPr>
          <a:xfrm>
            <a:off x="8862840" y="5427720"/>
            <a:ext cx="628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CE4A9-17A9-41D7-A05A-378928140375}" type="slidenum">
              <a:t>10</a:t>
            </a:fld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324800" y="1998360"/>
            <a:ext cx="2143080" cy="571500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283400" y="4427640"/>
            <a:ext cx="5715000" cy="330984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"/>
          <p:cNvSpPr/>
          <p:nvPr/>
        </p:nvSpPr>
        <p:spPr>
          <a:xfrm>
            <a:off x="2147400" y="5594400"/>
            <a:ext cx="60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ymbol"/>
                <a:ea typeface="Symbol"/>
              </a:rPr>
              <a:t>θ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"/>
          <p:cNvSpPr/>
          <p:nvPr/>
        </p:nvSpPr>
        <p:spPr>
          <a:xfrm>
            <a:off x="1005120" y="3879720"/>
            <a:ext cx="937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R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"/>
          <p:cNvSpPr/>
          <p:nvPr/>
        </p:nvSpPr>
        <p:spPr>
          <a:xfrm>
            <a:off x="4862520" y="5594400"/>
            <a:ext cx="937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R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324480" y="426960"/>
            <a:ext cx="11963520" cy="27432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286920" y="3855960"/>
            <a:ext cx="2000160" cy="5430960"/>
          </a:xfrm>
          <a:prstGeom prst="pie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"/>
          <p:cNvSpPr/>
          <p:nvPr/>
        </p:nvSpPr>
        <p:spPr>
          <a:xfrm>
            <a:off x="12772440" y="10144080"/>
            <a:ext cx="5199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INVARIANTE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9753480"/>
            <a:ext cx="1251900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6CB9E-7533-47BA-8D19-D115A3AB29E9}" type="slidenum">
              <a:t>11</a:t>
            </a:fld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427640" y="712440"/>
            <a:ext cx="2714400" cy="542916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426920" y="4856040"/>
            <a:ext cx="9860040" cy="12859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"/>
          <p:cNvSpPr/>
          <p:nvPr/>
        </p:nvSpPr>
        <p:spPr>
          <a:xfrm>
            <a:off x="7142040" y="712800"/>
            <a:ext cx="7002720" cy="40003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2001680" y="4998960"/>
            <a:ext cx="1811160" cy="19177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713120" y="1284120"/>
            <a:ext cx="1812960" cy="1917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9858240" y="426960"/>
            <a:ext cx="4530960" cy="1917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47640" y="4572000"/>
            <a:ext cx="60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ymbol"/>
                <a:ea typeface="Symbol"/>
              </a:rPr>
              <a:t>θ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2141640" y="8143920"/>
            <a:ext cx="14289120" cy="443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90185-7E2A-414D-B4FE-CB1A4C6C0385}" type="slidenum">
              <a:t>12</a:t>
            </a:fld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403440" y="9296280"/>
            <a:ext cx="520920" cy="8254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822840" y="7302600"/>
            <a:ext cx="672840" cy="6364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651640" y="10248840"/>
            <a:ext cx="546120" cy="920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"/>
          <p:cNvSpPr/>
          <p:nvPr/>
        </p:nvSpPr>
        <p:spPr>
          <a:xfrm>
            <a:off x="301680" y="787320"/>
            <a:ext cx="772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d5d5"/>
                </a:solidFill>
                <a:latin typeface="Calibri"/>
                <a:ea typeface="Calibri"/>
              </a:rPr>
              <a:t>Teorema del coseno... usando vectores...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768760" y="5562720"/>
            <a:ext cx="3797280" cy="4724280"/>
          </a:xfrm>
          <a:prstGeom prst="line">
            <a:avLst/>
          </a:prstGeom>
          <a:ln w="38160">
            <a:solidFill>
              <a:srgbClr val="ffe6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779200" y="9969480"/>
            <a:ext cx="5830920" cy="303120"/>
          </a:xfrm>
          <a:prstGeom prst="line">
            <a:avLst/>
          </a:prstGeom>
          <a:ln w="38160">
            <a:solidFill>
              <a:srgbClr val="ffe6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"/>
          <p:cNvSpPr/>
          <p:nvPr/>
        </p:nvSpPr>
        <p:spPr>
          <a:xfrm>
            <a:off x="6566040" y="5587920"/>
            <a:ext cx="1993680" cy="4356360"/>
          </a:xfrm>
          <a:prstGeom prst="line">
            <a:avLst/>
          </a:prstGeom>
          <a:ln w="38160">
            <a:solidFill>
              <a:srgbClr val="ffe6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601040" y="7162920"/>
            <a:ext cx="565200" cy="59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771B0-E081-4F99-A747-F8684248F1D2}" type="slidenum">
              <a:t>13</a:t>
            </a:fld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8724960" y="1168560"/>
            <a:ext cx="57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8724960" y="3390840"/>
            <a:ext cx="4916520" cy="1244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6362640" y="6375240"/>
            <a:ext cx="8724960" cy="11559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768760" y="8026560"/>
            <a:ext cx="10147320" cy="1003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1471680" y="10463040"/>
            <a:ext cx="12752280" cy="12463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"/>
          <p:cNvSpPr/>
          <p:nvPr/>
        </p:nvSpPr>
        <p:spPr>
          <a:xfrm>
            <a:off x="136800" y="101520"/>
            <a:ext cx="772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d5d5"/>
                </a:solidFill>
                <a:latin typeface="Calibri"/>
                <a:ea typeface="Calibri"/>
              </a:rPr>
              <a:t>Teorema del coseno... usando vectores...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1193760" y="4838760"/>
            <a:ext cx="520920" cy="82548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558360" y="1104840"/>
            <a:ext cx="3796920" cy="4724280"/>
            <a:chOff x="558360" y="1104840"/>
            <a:chExt cx="3796920" cy="4724280"/>
          </a:xfrm>
        </p:grpSpPr>
        <p:pic>
          <p:nvPicPr>
            <p:cNvPr id="276" name="" descr=""/>
            <p:cNvPicPr/>
            <p:nvPr/>
          </p:nvPicPr>
          <p:blipFill>
            <a:blip r:embed="rId7"/>
            <a:stretch/>
          </p:blipFill>
          <p:spPr>
            <a:xfrm>
              <a:off x="950760" y="1282680"/>
              <a:ext cx="851040" cy="10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 flipH="1">
              <a:off x="558360" y="1104840"/>
              <a:ext cx="3796920" cy="4724280"/>
            </a:xfrm>
            <a:prstGeom prst="line">
              <a:avLst/>
            </a:prstGeom>
            <a:ln w="76320">
              <a:solidFill>
                <a:srgbClr val="ffe6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69880" y="228600"/>
            <a:ext cx="5830560" cy="5586480"/>
            <a:chOff x="569880" y="228600"/>
            <a:chExt cx="5830560" cy="5586480"/>
          </a:xfrm>
        </p:grpSpPr>
        <p:pic>
          <p:nvPicPr>
            <p:cNvPr id="279" name="" descr=""/>
            <p:cNvPicPr/>
            <p:nvPr/>
          </p:nvPicPr>
          <p:blipFill>
            <a:blip r:embed="rId8"/>
            <a:stretch/>
          </p:blipFill>
          <p:spPr>
            <a:xfrm>
              <a:off x="2755800" y="228600"/>
              <a:ext cx="63504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 flipH="1">
              <a:off x="569880" y="5511960"/>
              <a:ext cx="5830560" cy="303120"/>
            </a:xfrm>
            <a:prstGeom prst="line">
              <a:avLst/>
            </a:prstGeom>
            <a:ln w="76320">
              <a:solidFill>
                <a:srgbClr val="ffe6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079640" y="876240"/>
            <a:ext cx="5320800" cy="4572000"/>
            <a:chOff x="1079640" y="876240"/>
            <a:chExt cx="5320800" cy="457200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079640" y="876240"/>
              <a:ext cx="8380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4406760" y="1092240"/>
              <a:ext cx="1993680" cy="4356000"/>
            </a:xfrm>
            <a:prstGeom prst="line">
              <a:avLst/>
            </a:prstGeom>
            <a:ln w="88920">
              <a:solidFill>
                <a:srgbClr val="ffe6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B8F22-7C57-4F66-B96F-2FDBE12731EE}" type="slidenum">
              <a:t>14</a:t>
            </a:fld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44642-7ABD-4E3F-B972-77E5816208EB}" type="slidenum">
              <a:t>15</a:t>
            </a:fld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"/>
          <p:cNvSpPr/>
          <p:nvPr/>
        </p:nvSpPr>
        <p:spPr>
          <a:xfrm>
            <a:off x="-3600" y="0"/>
            <a:ext cx="3917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Resumen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"/>
          <p:cNvSpPr/>
          <p:nvPr/>
        </p:nvSpPr>
        <p:spPr>
          <a:xfrm>
            <a:off x="2985840" y="2141640"/>
            <a:ext cx="1157832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Suma de Vector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Módulo de un Vector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Multiplicación por escalar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Producto Escalar de dos vector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0840-764A-4EFD-809F-1BD473D161A8}" type="slidenum">
              <a:t>16</a:t>
            </a:fld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37206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16974720" y="12998160"/>
            <a:ext cx="3985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C367-53CC-46B6-9E86-157305F51A29}" type="slidenum"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8E889-22AC-4F8A-9B15-B2F3A8A4B981}" type="slidenum">
              <a:t>17</a:t>
            </a:fld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96880" y="1644480"/>
            <a:ext cx="14959080" cy="1166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8110-B8FB-45A3-BC8D-80F4E5FBC642}" type="slidenum">
              <a:t>2</a:t>
            </a:fld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84720" y="8260920"/>
            <a:ext cx="5859360" cy="3714840"/>
          </a:xfrm>
          <a:prstGeom prst="line">
            <a:avLst/>
          </a:prstGeom>
          <a:ln w="139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262400" y="4690800"/>
            <a:ext cx="8267760" cy="7314840"/>
            <a:chOff x="4262400" y="4690800"/>
            <a:chExt cx="8267760" cy="7314840"/>
          </a:xfrm>
        </p:grpSpPr>
        <p:sp>
          <p:nvSpPr>
            <p:cNvPr id="102" name=""/>
            <p:cNvSpPr/>
            <p:nvPr/>
          </p:nvSpPr>
          <p:spPr>
            <a:xfrm flipV="1">
              <a:off x="4282200" y="4690800"/>
              <a:ext cx="3240" cy="731484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262400" y="11834280"/>
              <a:ext cx="8267760" cy="16200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1712880" y="9858240"/>
            <a:ext cx="2571840" cy="2143440"/>
          </a:xfrm>
          <a:prstGeom prst="line">
            <a:avLst/>
          </a:prstGeom>
          <a:ln w="139680">
            <a:solidFill>
              <a:srgbClr val="9bbb5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756800" y="2599920"/>
            <a:ext cx="8267400" cy="7314840"/>
            <a:chOff x="1756800" y="2599920"/>
            <a:chExt cx="8267400" cy="7314840"/>
          </a:xfrm>
        </p:grpSpPr>
        <p:sp>
          <p:nvSpPr>
            <p:cNvPr id="106" name=""/>
            <p:cNvSpPr/>
            <p:nvPr/>
          </p:nvSpPr>
          <p:spPr>
            <a:xfrm flipV="1">
              <a:off x="1777680" y="2599920"/>
              <a:ext cx="2880" cy="731484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756800" y="9743400"/>
              <a:ext cx="8267400" cy="16200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V="1">
            <a:off x="1855800" y="8286480"/>
            <a:ext cx="8145360" cy="1571400"/>
          </a:xfrm>
          <a:prstGeom prst="line">
            <a:avLst/>
          </a:prstGeom>
          <a:ln w="139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999120" y="9715680"/>
            <a:ext cx="1393920" cy="1857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27040" y="10858680"/>
            <a:ext cx="1393920" cy="1857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998880" y="7000920"/>
            <a:ext cx="3600360" cy="1857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31520" y="0"/>
            <a:ext cx="1539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Suma de Vectores… desplazamientos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"/>
          <p:cNvSpPr/>
          <p:nvPr/>
        </p:nvSpPr>
        <p:spPr>
          <a:xfrm>
            <a:off x="9572760" y="3141720"/>
            <a:ext cx="873756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Cambio de  origen de coordenadas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3962B-7D4F-4F8A-A267-CC022FB4353D}" type="slidenum">
              <a:t>3</a:t>
            </a:fld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998960" y="8000640"/>
            <a:ext cx="6716880" cy="2428920"/>
          </a:xfrm>
          <a:prstGeom prst="line">
            <a:avLst/>
          </a:prstGeom>
          <a:ln w="3816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998240" y="5999040"/>
            <a:ext cx="1428840" cy="4430880"/>
          </a:xfrm>
          <a:prstGeom prst="line">
            <a:avLst/>
          </a:prstGeom>
          <a:ln w="1015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054040" y="10256400"/>
            <a:ext cx="10429560" cy="1429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995000" y="2569680"/>
            <a:ext cx="3240" cy="78598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141160" y="3570120"/>
            <a:ext cx="8001000" cy="6716880"/>
          </a:xfrm>
          <a:prstGeom prst="line">
            <a:avLst/>
          </a:prstGeom>
          <a:ln w="101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"/>
          <p:cNvSpPr/>
          <p:nvPr/>
        </p:nvSpPr>
        <p:spPr>
          <a:xfrm>
            <a:off x="11860560" y="7572240"/>
            <a:ext cx="1404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Ax,A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"/>
          <p:cNvSpPr/>
          <p:nvPr/>
        </p:nvSpPr>
        <p:spPr>
          <a:xfrm>
            <a:off x="5572440" y="4998960"/>
            <a:ext cx="13708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Bx,B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"/>
          <p:cNvSpPr/>
          <p:nvPr/>
        </p:nvSpPr>
        <p:spPr>
          <a:xfrm>
            <a:off x="13142880" y="3141720"/>
            <a:ext cx="27608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Ax+Bx,Ay+B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98960" y="8000640"/>
            <a:ext cx="6716880" cy="2428920"/>
          </a:xfrm>
          <a:prstGeom prst="line">
            <a:avLst/>
          </a:prstGeom>
          <a:ln w="10152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F9556-6AF1-44ED-90AF-04032CB976FE}" type="slidenum">
              <a:t>4</a:t>
            </a:fld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05240" y="9906120"/>
            <a:ext cx="11177640" cy="1498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427040" y="3141720"/>
            <a:ext cx="7429680" cy="3286080"/>
          </a:xfrm>
          <a:prstGeom prst="line">
            <a:avLst/>
          </a:prstGeom>
          <a:ln w="127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427040" y="3846600"/>
            <a:ext cx="5724720" cy="2581200"/>
          </a:xfrm>
          <a:prstGeom prst="line">
            <a:avLst/>
          </a:prstGeom>
          <a:ln w="127080">
            <a:solidFill>
              <a:srgbClr val="9bbb5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427040" y="4316040"/>
            <a:ext cx="4749840" cy="2111400"/>
          </a:xfrm>
          <a:prstGeom prst="line">
            <a:avLst/>
          </a:prstGeom>
          <a:ln w="127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2597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Cambio de escala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1449080" y="4287960"/>
            <a:ext cx="4983120" cy="3257280"/>
          </a:xfrm>
          <a:prstGeom prst="line">
            <a:avLst/>
          </a:prstGeom>
          <a:ln w="8892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429280" y="2286000"/>
            <a:ext cx="5832360" cy="5286240"/>
            <a:chOff x="11429280" y="2286000"/>
            <a:chExt cx="5832360" cy="5286240"/>
          </a:xfrm>
        </p:grpSpPr>
        <p:sp>
          <p:nvSpPr>
            <p:cNvPr id="134" name=""/>
            <p:cNvSpPr/>
            <p:nvPr/>
          </p:nvSpPr>
          <p:spPr>
            <a:xfrm flipH="1" flipV="1">
              <a:off x="11429640" y="2286000"/>
              <a:ext cx="17640" cy="528624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1429280" y="7421040"/>
              <a:ext cx="5832360" cy="1414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449080" y="3765600"/>
            <a:ext cx="5393520" cy="3655440"/>
            <a:chOff x="11449080" y="3765600"/>
            <a:chExt cx="5393520" cy="3655440"/>
          </a:xfrm>
        </p:grpSpPr>
        <p:sp>
          <p:nvSpPr>
            <p:cNvPr id="137" name=""/>
            <p:cNvSpPr/>
            <p:nvPr/>
          </p:nvSpPr>
          <p:spPr>
            <a:xfrm flipH="1">
              <a:off x="16428600" y="4287600"/>
              <a:ext cx="3240" cy="313344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449080" y="4287600"/>
              <a:ext cx="4981680" cy="124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558200" y="5790960"/>
              <a:ext cx="2844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763520" y="3765600"/>
              <a:ext cx="275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6437240" y="3662280"/>
            <a:ext cx="874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,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16538760" y="3286080"/>
            <a:ext cx="374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1125080" y="609480"/>
            <a:ext cx="579132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9C76C-4B86-4E63-A316-5DEBA1346487}" type="slidenum">
              <a:t>5</a:t>
            </a:fld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703600" y="7832880"/>
            <a:ext cx="5857920" cy="3714480"/>
          </a:xfrm>
          <a:prstGeom prst="line">
            <a:avLst/>
          </a:prstGeom>
          <a:ln w="1270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264320" y="5135040"/>
            <a:ext cx="12357720" cy="9074520"/>
            <a:chOff x="-1264320" y="5135040"/>
            <a:chExt cx="12357720" cy="9074520"/>
          </a:xfrm>
        </p:grpSpPr>
        <p:sp>
          <p:nvSpPr>
            <p:cNvPr id="148" name=""/>
            <p:cNvSpPr/>
            <p:nvPr/>
          </p:nvSpPr>
          <p:spPr>
            <a:xfrm flipH="1" flipV="1">
              <a:off x="-1264320" y="5135040"/>
              <a:ext cx="2598120" cy="907452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352160" y="11121480"/>
              <a:ext cx="9741240" cy="301032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131560" y="7832880"/>
            <a:ext cx="6984360" cy="2340000"/>
            <a:chOff x="2131560" y="7832880"/>
            <a:chExt cx="6984360" cy="2340000"/>
          </a:xfrm>
        </p:grpSpPr>
        <p:sp>
          <p:nvSpPr>
            <p:cNvPr id="151" name=""/>
            <p:cNvSpPr/>
            <p:nvPr/>
          </p:nvSpPr>
          <p:spPr>
            <a:xfrm>
              <a:off x="8564400" y="7834320"/>
              <a:ext cx="493560" cy="171324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2131560" y="7832880"/>
              <a:ext cx="6430680" cy="230976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717400" y="9547560"/>
              <a:ext cx="3985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y’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43680" y="8142480"/>
              <a:ext cx="3895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x’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607960" y="7601040"/>
            <a:ext cx="11026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’,y’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"/>
          <p:cNvSpPr/>
          <p:nvPr/>
        </p:nvSpPr>
        <p:spPr>
          <a:xfrm>
            <a:off x="1986840" y="12119040"/>
            <a:ext cx="3697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"/>
          <p:cNvSpPr/>
          <p:nvPr/>
        </p:nvSpPr>
        <p:spPr>
          <a:xfrm>
            <a:off x="8689320" y="6689880"/>
            <a:ext cx="374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679120" y="4262400"/>
            <a:ext cx="8267400" cy="7314480"/>
            <a:chOff x="2679120" y="4262400"/>
            <a:chExt cx="8267400" cy="7314480"/>
          </a:xfrm>
        </p:grpSpPr>
        <p:grpSp>
          <p:nvGrpSpPr>
            <p:cNvPr id="159" name=""/>
            <p:cNvGrpSpPr/>
            <p:nvPr/>
          </p:nvGrpSpPr>
          <p:grpSpPr>
            <a:xfrm>
              <a:off x="2679120" y="4262400"/>
              <a:ext cx="8267400" cy="7314480"/>
              <a:chOff x="2679120" y="4262400"/>
              <a:chExt cx="8267400" cy="731448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700000" y="4262400"/>
                <a:ext cx="2880" cy="7314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2679120" y="11405160"/>
                <a:ext cx="8267400" cy="162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701800" y="7236000"/>
              <a:ext cx="6291360" cy="4170960"/>
              <a:chOff x="2701800" y="7236000"/>
              <a:chExt cx="6291360" cy="4170960"/>
            </a:xfrm>
          </p:grpSpPr>
          <p:sp>
            <p:nvSpPr>
              <p:cNvPr id="163" name=""/>
              <p:cNvSpPr/>
              <p:nvPr/>
            </p:nvSpPr>
            <p:spPr>
              <a:xfrm flipH="1">
                <a:off x="8558280" y="7833240"/>
                <a:ext cx="3240" cy="3573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2701800" y="7831440"/>
                <a:ext cx="5858640" cy="142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708760" y="9546840"/>
                <a:ext cx="2844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38160" tIns="38160" bIns="38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y</a:t>
                </a:r>
                <a:endParaRPr b="0" lang="en-US" sz="3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21960" y="7236000"/>
                <a:ext cx="2750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38160" tIns="38160" bIns="38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7766280" y="7105680"/>
            <a:ext cx="874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,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"/>
          <p:cNvSpPr/>
          <p:nvPr/>
        </p:nvSpPr>
        <p:spPr>
          <a:xfrm>
            <a:off x="559080" y="855720"/>
            <a:ext cx="936900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Rotación de COORDENADA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001240" y="1855800"/>
            <a:ext cx="7858440" cy="994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FF11-CAD1-4E16-B128-B45BC142152E}" type="slidenum">
              <a:t>6</a:t>
            </a:fld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"/>
          <p:cNvSpPr/>
          <p:nvPr/>
        </p:nvSpPr>
        <p:spPr>
          <a:xfrm>
            <a:off x="3960" y="1284120"/>
            <a:ext cx="109342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La rotación no cambia el “MÓDULO”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712880" y="7260840"/>
            <a:ext cx="5857920" cy="3714840"/>
          </a:xfrm>
          <a:prstGeom prst="line">
            <a:avLst/>
          </a:prstGeom>
          <a:ln w="16524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90560" y="3690720"/>
            <a:ext cx="8267760" cy="7314840"/>
            <a:chOff x="1690560" y="3690720"/>
            <a:chExt cx="8267760" cy="7314840"/>
          </a:xfrm>
        </p:grpSpPr>
        <p:sp>
          <p:nvSpPr>
            <p:cNvPr id="175" name=""/>
            <p:cNvSpPr/>
            <p:nvPr/>
          </p:nvSpPr>
          <p:spPr>
            <a:xfrm flipV="1">
              <a:off x="1710360" y="3690720"/>
              <a:ext cx="3240" cy="731484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690560" y="10834200"/>
              <a:ext cx="8267760" cy="16200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712520" y="6665760"/>
            <a:ext cx="6292080" cy="4168800"/>
            <a:chOff x="1712520" y="6665760"/>
            <a:chExt cx="6292080" cy="4168800"/>
          </a:xfrm>
        </p:grpSpPr>
        <p:sp>
          <p:nvSpPr>
            <p:cNvPr id="178" name=""/>
            <p:cNvSpPr/>
            <p:nvPr/>
          </p:nvSpPr>
          <p:spPr>
            <a:xfrm flipH="1">
              <a:off x="7569720" y="7262640"/>
              <a:ext cx="3240" cy="3571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712520" y="7261200"/>
              <a:ext cx="5859000" cy="142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20200" y="8975520"/>
              <a:ext cx="2844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33040" y="6665760"/>
              <a:ext cx="275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576560" y="6546960"/>
            <a:ext cx="874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,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"/>
          <p:cNvSpPr/>
          <p:nvPr/>
        </p:nvSpPr>
        <p:spPr>
          <a:xfrm>
            <a:off x="997200" y="11547360"/>
            <a:ext cx="3697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"/>
          <p:cNvSpPr/>
          <p:nvPr/>
        </p:nvSpPr>
        <p:spPr>
          <a:xfrm>
            <a:off x="7699680" y="6118200"/>
            <a:ext cx="374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"/>
          <p:cNvSpPr/>
          <p:nvPr/>
        </p:nvSpPr>
        <p:spPr>
          <a:xfrm>
            <a:off x="11444040" y="2712960"/>
            <a:ext cx="54950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Teorema de Pitagora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"/>
          <p:cNvSpPr/>
          <p:nvPr/>
        </p:nvSpPr>
        <p:spPr>
          <a:xfrm>
            <a:off x="4005360" y="7858080"/>
            <a:ext cx="628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"/>
          <p:cNvSpPr/>
          <p:nvPr/>
        </p:nvSpPr>
        <p:spPr>
          <a:xfrm>
            <a:off x="3147480" y="10032840"/>
            <a:ext cx="60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ymbol"/>
                <a:ea typeface="Symbol"/>
              </a:rPr>
              <a:t>θ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582280" y="1371600"/>
            <a:ext cx="579132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1125080" y="7162920"/>
            <a:ext cx="6292800" cy="320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36165-6F97-4BC1-9683-B5B82F1FF4A9}" type="slidenum">
              <a:t>7</a:t>
            </a:fld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03600" y="7832880"/>
            <a:ext cx="5857920" cy="3714480"/>
          </a:xfrm>
          <a:prstGeom prst="line">
            <a:avLst/>
          </a:prstGeom>
          <a:ln w="1522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-1264320" y="5135040"/>
            <a:ext cx="12357720" cy="9074520"/>
            <a:chOff x="-1264320" y="5135040"/>
            <a:chExt cx="12357720" cy="9074520"/>
          </a:xfrm>
        </p:grpSpPr>
        <p:sp>
          <p:nvSpPr>
            <p:cNvPr id="194" name=""/>
            <p:cNvSpPr/>
            <p:nvPr/>
          </p:nvSpPr>
          <p:spPr>
            <a:xfrm flipH="1" flipV="1">
              <a:off x="-1264320" y="5135040"/>
              <a:ext cx="2598120" cy="907452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352160" y="11121480"/>
              <a:ext cx="9741240" cy="301032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131560" y="7832880"/>
            <a:ext cx="6984360" cy="2340000"/>
            <a:chOff x="2131560" y="7832880"/>
            <a:chExt cx="6984360" cy="2340000"/>
          </a:xfrm>
        </p:grpSpPr>
        <p:sp>
          <p:nvSpPr>
            <p:cNvPr id="197" name=""/>
            <p:cNvSpPr/>
            <p:nvPr/>
          </p:nvSpPr>
          <p:spPr>
            <a:xfrm>
              <a:off x="8564400" y="7834320"/>
              <a:ext cx="493560" cy="171324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131560" y="7832880"/>
              <a:ext cx="6430680" cy="230976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717400" y="9547560"/>
              <a:ext cx="3985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y’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43680" y="8142480"/>
              <a:ext cx="3895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x’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8620560" y="7575480"/>
            <a:ext cx="11026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’,y’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"/>
          <p:cNvSpPr/>
          <p:nvPr/>
        </p:nvSpPr>
        <p:spPr>
          <a:xfrm>
            <a:off x="1986840" y="12119040"/>
            <a:ext cx="3697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"/>
          <p:cNvSpPr/>
          <p:nvPr/>
        </p:nvSpPr>
        <p:spPr>
          <a:xfrm>
            <a:off x="8689320" y="6689880"/>
            <a:ext cx="374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679120" y="4262400"/>
            <a:ext cx="8267400" cy="7314480"/>
            <a:chOff x="2679120" y="4262400"/>
            <a:chExt cx="8267400" cy="7314480"/>
          </a:xfrm>
        </p:grpSpPr>
        <p:grpSp>
          <p:nvGrpSpPr>
            <p:cNvPr id="205" name=""/>
            <p:cNvGrpSpPr/>
            <p:nvPr/>
          </p:nvGrpSpPr>
          <p:grpSpPr>
            <a:xfrm>
              <a:off x="2679120" y="4262400"/>
              <a:ext cx="8267400" cy="7314480"/>
              <a:chOff x="2679120" y="4262400"/>
              <a:chExt cx="8267400" cy="731448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2700000" y="4262400"/>
                <a:ext cx="2880" cy="7314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2679120" y="11405160"/>
                <a:ext cx="8267400" cy="162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2701800" y="7236000"/>
              <a:ext cx="6291360" cy="4170960"/>
              <a:chOff x="2701800" y="7236000"/>
              <a:chExt cx="6291360" cy="4170960"/>
            </a:xfrm>
          </p:grpSpPr>
          <p:sp>
            <p:nvSpPr>
              <p:cNvPr id="209" name=""/>
              <p:cNvSpPr/>
              <p:nvPr/>
            </p:nvSpPr>
            <p:spPr>
              <a:xfrm flipH="1">
                <a:off x="8558280" y="7833240"/>
                <a:ext cx="3240" cy="3573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701800" y="7831440"/>
                <a:ext cx="5858640" cy="142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708760" y="9546840"/>
                <a:ext cx="2844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38160" tIns="38160" bIns="38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y</a:t>
                </a:r>
                <a:endParaRPr b="0" lang="en-US" sz="3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21960" y="7236000"/>
                <a:ext cx="2750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38160" tIns="38160" bIns="38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7753680" y="7118280"/>
            <a:ext cx="874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,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976280" y="8721720"/>
            <a:ext cx="1363320" cy="2152800"/>
            <a:chOff x="4976280" y="8721720"/>
            <a:chExt cx="1363320" cy="2152800"/>
          </a:xfrm>
        </p:grpSpPr>
        <p:sp>
          <p:nvSpPr>
            <p:cNvPr id="215" name=""/>
            <p:cNvSpPr/>
            <p:nvPr/>
          </p:nvSpPr>
          <p:spPr>
            <a:xfrm>
              <a:off x="4976280" y="8721720"/>
              <a:ext cx="62856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</a:t>
              </a:r>
              <a:endParaRPr b="0" lang="en-US" sz="8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49840" y="9578880"/>
              <a:ext cx="68976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φ</a:t>
              </a:r>
              <a:endParaRPr b="0" lang="en-US" sz="8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712240" y="10144080"/>
            <a:ext cx="9288360" cy="1428120"/>
            <a:chOff x="2712240" y="10144080"/>
            <a:chExt cx="9288360" cy="1428120"/>
          </a:xfrm>
        </p:grpSpPr>
        <p:sp>
          <p:nvSpPr>
            <p:cNvPr id="218" name=""/>
            <p:cNvSpPr/>
            <p:nvPr/>
          </p:nvSpPr>
          <p:spPr>
            <a:xfrm flipV="1">
              <a:off x="2712240" y="11429280"/>
              <a:ext cx="9288360" cy="142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33200" y="10144080"/>
              <a:ext cx="71856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α</a:t>
              </a:r>
              <a:endParaRPr b="0" lang="en-US" sz="8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9720" y="0"/>
            <a:ext cx="65131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La rotación cambia la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 “</a:t>
            </a: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ORIENTACIÓN”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66B7B-EA21-426A-82D2-9B753F27A554}" type="slidenum">
              <a:t>8</a:t>
            </a:fld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"/>
          <p:cNvSpPr/>
          <p:nvPr/>
        </p:nvSpPr>
        <p:spPr>
          <a:xfrm>
            <a:off x="8285040" y="4284720"/>
            <a:ext cx="1859040" cy="2143080"/>
          </a:xfrm>
          <a:prstGeom prst="pie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942160" y="457200"/>
            <a:ext cx="6294240" cy="3200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267080" y="7162920"/>
            <a:ext cx="1005840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5BDE-9A14-4547-ABBF-772562DA53E5}" type="slidenum">
              <a:t>9</a:t>
            </a:fld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varo S. Nunez</dc:creator>
  <dc:description/>
  <dc:language>en-US</dc:language>
  <cp:lastModifiedBy/>
  <cp:revision>0</cp:revision>
  <dc:subject/>
  <dc:title>Diapositiva 1</dc:title>
</cp:coreProperties>
</file>