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8288000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8619-A3FE-4194-93A3-866CB243C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1645884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7364520"/>
            <a:ext cx="1645884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AB54-6B3B-47A7-BA12-780E1660A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934812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7E9E-DEE8-482F-B208-E0457BB4E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479280" y="320940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44160" y="320940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736452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6479280" y="736452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12044160" y="736452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6910-0C0A-44A3-B8E9-548080593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634AB-EC5B-4299-B296-5ECB9D3B65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3209400"/>
            <a:ext cx="1645884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3A034-F629-4600-9215-1E11965311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1645884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C74F5-4935-48B1-935C-65F5A29CEB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D56F3-888C-4851-967C-0D14C0C8D6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48465-B027-4E8F-9892-E9CDC9C336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547200"/>
            <a:ext cx="16458840" cy="10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5A4A5-25E8-45F7-8A20-70295F45D2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74927-4544-4C80-8531-D3D7EA073B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3209400"/>
            <a:ext cx="1645884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991D-6BEF-4540-9A9D-5709AA57A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34812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BF4D2-0AC3-49D5-A87F-61B470D936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7364520"/>
            <a:ext cx="1645884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AFCE2-180E-42CC-BB10-0E7A914C41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1645884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7364520"/>
            <a:ext cx="1645884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75A89-D2B2-4EEA-A0DA-66924A04CA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934812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AD3E-5A52-48FF-9169-90A2D2A1D4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9280" y="320940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044160" y="320940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736452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6479280" y="736452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12044160" y="736452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242F5-485A-4994-B784-0EEA2C6C3B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1645884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E961-4706-46A2-A5C5-D69DB84BE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3F2E-38FE-47DF-84E8-6939140CA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B5E1-15A2-4720-96F9-BBC114906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547200"/>
            <a:ext cx="16458840" cy="10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FDAA8-B9E1-4B3E-BF0A-488F57CBC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FAF7-70CA-4DDB-AF37-04A9274DC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34812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553C-88F0-4400-95F3-A548ECD12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7364520"/>
            <a:ext cx="1645884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7555-AB8F-4CF0-AEC5-6AF0F0021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4260600"/>
            <a:ext cx="15544800" cy="2940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3200" y="7772040"/>
            <a:ext cx="12801600" cy="3505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43000"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6400" spc="-1" strike="noStrike">
              <a:solidFill>
                <a:srgbClr val="878787"/>
              </a:solidFill>
              <a:latin typeface="Calibri"/>
            </a:endParaRPr>
          </a:p>
          <a:p>
            <a:pPr lvl="1" marL="376560" algn="ctr">
              <a:spcBef>
                <a:spcPts val="1500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6400" spc="-1" strike="noStrike">
              <a:solidFill>
                <a:srgbClr val="878787"/>
              </a:solidFill>
              <a:latin typeface="Calibri"/>
            </a:endParaRPr>
          </a:p>
          <a:p>
            <a:pPr lvl="2" marL="769680" algn="ctr">
              <a:spcBef>
                <a:spcPts val="1500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6400" spc="-1" strike="noStrike">
              <a:solidFill>
                <a:srgbClr val="878787"/>
              </a:solidFill>
              <a:latin typeface="Calibri"/>
            </a:endParaRPr>
          </a:p>
          <a:p>
            <a:pPr lvl="3" marL="1163160" algn="ctr">
              <a:spcBef>
                <a:spcPts val="1500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6400" spc="-1" strike="noStrike">
              <a:solidFill>
                <a:srgbClr val="878787"/>
              </a:solidFill>
              <a:latin typeface="Calibri"/>
            </a:endParaRPr>
          </a:p>
          <a:p>
            <a:pPr lvl="4" marL="1556280" algn="ctr">
              <a:spcBef>
                <a:spcPts val="1500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6400" spc="-1" strike="noStrike">
              <a:solidFill>
                <a:srgbClr val="878787"/>
              </a:solidFill>
              <a:latin typeface="Calibri"/>
            </a:endParaRPr>
          </a:p>
          <a:p>
            <a:pPr lvl="5" marL="1556280" algn="ctr"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6400" spc="-1" strike="noStrike">
              <a:solidFill>
                <a:srgbClr val="878787"/>
              </a:solidFill>
              <a:latin typeface="Calibri"/>
            </a:endParaRPr>
          </a:p>
          <a:p>
            <a:pPr lvl="6" marL="1556280" algn="ctr"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64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6974720" y="12998160"/>
            <a:ext cx="3985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78787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0A68-638E-4676-8C93-A686A2508E88}" type="slidenum"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16974720" y="12998160"/>
            <a:ext cx="3985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78787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F808-CA59-4297-88B6-65D47BE1167E}" type="slidenum"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914400" y="3209400"/>
            <a:ext cx="1645884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17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712880" y="7260840"/>
            <a:ext cx="5857920" cy="3714840"/>
          </a:xfrm>
          <a:prstGeom prst="line">
            <a:avLst/>
          </a:prstGeom>
          <a:ln w="114480">
            <a:solidFill>
              <a:srgbClr val="c0504d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690560" y="3690720"/>
            <a:ext cx="8267760" cy="7314840"/>
            <a:chOff x="1690560" y="3690720"/>
            <a:chExt cx="8267760" cy="7314840"/>
          </a:xfrm>
        </p:grpSpPr>
        <p:sp>
          <p:nvSpPr>
            <p:cNvPr id="82" name=""/>
            <p:cNvSpPr/>
            <p:nvPr/>
          </p:nvSpPr>
          <p:spPr>
            <a:xfrm flipV="1">
              <a:off x="1710360" y="3690720"/>
              <a:ext cx="3240" cy="731484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1690560" y="10834200"/>
              <a:ext cx="8267760" cy="16200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712520" y="6665760"/>
            <a:ext cx="6292080" cy="4168800"/>
            <a:chOff x="1712520" y="6665760"/>
            <a:chExt cx="6292080" cy="4168800"/>
          </a:xfrm>
        </p:grpSpPr>
        <p:sp>
          <p:nvSpPr>
            <p:cNvPr id="85" name=""/>
            <p:cNvSpPr/>
            <p:nvPr/>
          </p:nvSpPr>
          <p:spPr>
            <a:xfrm flipH="1">
              <a:off x="7569720" y="7262640"/>
              <a:ext cx="3240" cy="3571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1712520" y="7261200"/>
              <a:ext cx="5859000" cy="142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20200" y="8975520"/>
              <a:ext cx="2844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33040" y="6665760"/>
              <a:ext cx="275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7576560" y="6546960"/>
            <a:ext cx="874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x,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"/>
          <p:cNvSpPr/>
          <p:nvPr/>
        </p:nvSpPr>
        <p:spPr>
          <a:xfrm>
            <a:off x="1428840" y="10912320"/>
            <a:ext cx="3697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"/>
          <p:cNvSpPr/>
          <p:nvPr/>
        </p:nvSpPr>
        <p:spPr>
          <a:xfrm>
            <a:off x="7674120" y="7032600"/>
            <a:ext cx="374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"/>
          <p:cNvSpPr/>
          <p:nvPr/>
        </p:nvSpPr>
        <p:spPr>
          <a:xfrm>
            <a:off x="-32400" y="0"/>
            <a:ext cx="3723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Vectores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10393560" y="3141720"/>
            <a:ext cx="729576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Significado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Cambio de ORIGEN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SUMA de vector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ROTACIÓN de coordenada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Invariantes”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609480" y="3367080"/>
            <a:ext cx="19505520" cy="796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DA0B-4FA6-4E9F-AEB1-43409FED8B2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712400" y="5570280"/>
            <a:ext cx="8859960" cy="314460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"/>
          <p:cNvSpPr/>
          <p:nvPr/>
        </p:nvSpPr>
        <p:spPr>
          <a:xfrm>
            <a:off x="-19800" y="0"/>
            <a:ext cx="466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Invariantes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"/>
          <p:cNvSpPr/>
          <p:nvPr/>
        </p:nvSpPr>
        <p:spPr>
          <a:xfrm>
            <a:off x="2653920" y="1427040"/>
            <a:ext cx="1338012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libri"/>
                <a:ea typeface="Calibri"/>
              </a:rPr>
              <a:t>Propiedades de las coordenadas que no 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libri"/>
                <a:ea typeface="Calibri"/>
              </a:rPr>
              <a:t>cambian en una rotación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"/>
          <p:cNvSpPr/>
          <p:nvPr/>
        </p:nvSpPr>
        <p:spPr>
          <a:xfrm>
            <a:off x="1482120" y="11287080"/>
            <a:ext cx="158353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Con solo un vector el único invariante es el MÓDULO…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más funciones arbitrarias del módulo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710960" y="3857760"/>
            <a:ext cx="3240" cy="48592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712400" y="8572680"/>
            <a:ext cx="11717640" cy="14256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"/>
          <p:cNvSpPr/>
          <p:nvPr/>
        </p:nvSpPr>
        <p:spPr>
          <a:xfrm>
            <a:off x="8862840" y="5427720"/>
            <a:ext cx="628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7C59F-B532-4197-B5CF-987140CAC677}" type="slidenum">
              <a:t>10</a:t>
            </a:fld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324800" y="1998360"/>
            <a:ext cx="2143080" cy="571500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283400" y="4427640"/>
            <a:ext cx="5715000" cy="330984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"/>
          <p:cNvSpPr/>
          <p:nvPr/>
        </p:nvSpPr>
        <p:spPr>
          <a:xfrm>
            <a:off x="2147400" y="5594400"/>
            <a:ext cx="607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ymbol"/>
                <a:ea typeface="Symbol"/>
              </a:rPr>
              <a:t>θ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"/>
          <p:cNvSpPr/>
          <p:nvPr/>
        </p:nvSpPr>
        <p:spPr>
          <a:xfrm>
            <a:off x="1005120" y="3879720"/>
            <a:ext cx="937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R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"/>
          <p:cNvSpPr/>
          <p:nvPr/>
        </p:nvSpPr>
        <p:spPr>
          <a:xfrm>
            <a:off x="4862520" y="5594400"/>
            <a:ext cx="937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R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324480" y="426960"/>
            <a:ext cx="11963520" cy="27432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286920" y="3855960"/>
            <a:ext cx="2000160" cy="5430960"/>
          </a:xfrm>
          <a:prstGeom prst="pie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"/>
          <p:cNvSpPr/>
          <p:nvPr/>
        </p:nvSpPr>
        <p:spPr>
          <a:xfrm>
            <a:off x="12772440" y="10144080"/>
            <a:ext cx="5199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INVARIANTE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9753480"/>
            <a:ext cx="1251900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06F29-E9B9-45B3-BCC0-61E8488B546D}" type="slidenum">
              <a:t>11</a:t>
            </a:fld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427640" y="712440"/>
            <a:ext cx="2714400" cy="542916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426920" y="4856040"/>
            <a:ext cx="9860040" cy="12859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"/>
          <p:cNvSpPr/>
          <p:nvPr/>
        </p:nvSpPr>
        <p:spPr>
          <a:xfrm>
            <a:off x="7142040" y="712800"/>
            <a:ext cx="7002720" cy="40003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2001680" y="4998960"/>
            <a:ext cx="1811160" cy="19177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713120" y="1284120"/>
            <a:ext cx="1812960" cy="1917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9858240" y="426960"/>
            <a:ext cx="4530960" cy="1917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47640" y="4572000"/>
            <a:ext cx="607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ymbol"/>
                <a:ea typeface="Symbol"/>
              </a:rPr>
              <a:t>θ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2141640" y="8143920"/>
            <a:ext cx="14289120" cy="443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9407A-51CF-4E3E-B5A7-4C5A7ECDACBE}" type="slidenum">
              <a:t>12</a:t>
            </a:fld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403440" y="9296280"/>
            <a:ext cx="520920" cy="8254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822840" y="7302600"/>
            <a:ext cx="672840" cy="6364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651640" y="10248840"/>
            <a:ext cx="546120" cy="920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"/>
          <p:cNvSpPr/>
          <p:nvPr/>
        </p:nvSpPr>
        <p:spPr>
          <a:xfrm>
            <a:off x="301680" y="787320"/>
            <a:ext cx="772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d5d5"/>
                </a:solidFill>
                <a:latin typeface="Calibri"/>
                <a:ea typeface="Calibri"/>
              </a:rPr>
              <a:t>Teorema del coseno... usando vectores...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768760" y="5562720"/>
            <a:ext cx="3797280" cy="4724280"/>
          </a:xfrm>
          <a:prstGeom prst="line">
            <a:avLst/>
          </a:prstGeom>
          <a:ln w="38160">
            <a:solidFill>
              <a:srgbClr val="ffe6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779200" y="9969480"/>
            <a:ext cx="5830920" cy="303120"/>
          </a:xfrm>
          <a:prstGeom prst="line">
            <a:avLst/>
          </a:prstGeom>
          <a:ln w="38160">
            <a:solidFill>
              <a:srgbClr val="ffe6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"/>
          <p:cNvSpPr/>
          <p:nvPr/>
        </p:nvSpPr>
        <p:spPr>
          <a:xfrm>
            <a:off x="6566040" y="5587920"/>
            <a:ext cx="1993680" cy="4356360"/>
          </a:xfrm>
          <a:prstGeom prst="line">
            <a:avLst/>
          </a:prstGeom>
          <a:ln w="38160">
            <a:solidFill>
              <a:srgbClr val="ffe6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601040" y="7162920"/>
            <a:ext cx="565200" cy="59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FF608-47A5-4D13-95DA-2A9A17ECE0CB}" type="slidenum">
              <a:t>13</a:t>
            </a:fld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8724960" y="1168560"/>
            <a:ext cx="57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8724960" y="3390840"/>
            <a:ext cx="4916520" cy="12445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6362640" y="6375240"/>
            <a:ext cx="8724960" cy="11559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768760" y="8026560"/>
            <a:ext cx="10147320" cy="1003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1471680" y="10463040"/>
            <a:ext cx="12752280" cy="12463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"/>
          <p:cNvSpPr/>
          <p:nvPr/>
        </p:nvSpPr>
        <p:spPr>
          <a:xfrm>
            <a:off x="136800" y="101520"/>
            <a:ext cx="772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d5d5"/>
                </a:solidFill>
                <a:latin typeface="Calibri"/>
                <a:ea typeface="Calibri"/>
              </a:rPr>
              <a:t>Teorema del coseno... usando vectores...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1193760" y="4838760"/>
            <a:ext cx="520920" cy="82548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558360" y="1104840"/>
            <a:ext cx="3796920" cy="4724280"/>
            <a:chOff x="558360" y="1104840"/>
            <a:chExt cx="3796920" cy="4724280"/>
          </a:xfrm>
        </p:grpSpPr>
        <p:pic>
          <p:nvPicPr>
            <p:cNvPr id="276" name="" descr=""/>
            <p:cNvPicPr/>
            <p:nvPr/>
          </p:nvPicPr>
          <p:blipFill>
            <a:blip r:embed="rId7"/>
            <a:stretch/>
          </p:blipFill>
          <p:spPr>
            <a:xfrm>
              <a:off x="950760" y="1282680"/>
              <a:ext cx="851040" cy="10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 flipH="1">
              <a:off x="558360" y="1104840"/>
              <a:ext cx="3796920" cy="4724280"/>
            </a:xfrm>
            <a:prstGeom prst="line">
              <a:avLst/>
            </a:prstGeom>
            <a:ln w="76320">
              <a:solidFill>
                <a:srgbClr val="ffe6f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69880" y="228600"/>
            <a:ext cx="5830560" cy="5586480"/>
            <a:chOff x="569880" y="228600"/>
            <a:chExt cx="5830560" cy="5586480"/>
          </a:xfrm>
        </p:grpSpPr>
        <p:pic>
          <p:nvPicPr>
            <p:cNvPr id="279" name="" descr=""/>
            <p:cNvPicPr/>
            <p:nvPr/>
          </p:nvPicPr>
          <p:blipFill>
            <a:blip r:embed="rId8"/>
            <a:stretch/>
          </p:blipFill>
          <p:spPr>
            <a:xfrm>
              <a:off x="2755800" y="228600"/>
              <a:ext cx="63504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 flipH="1">
              <a:off x="569880" y="5511960"/>
              <a:ext cx="5830560" cy="303120"/>
            </a:xfrm>
            <a:prstGeom prst="line">
              <a:avLst/>
            </a:prstGeom>
            <a:ln w="76320">
              <a:solidFill>
                <a:srgbClr val="ffe6f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079640" y="876240"/>
            <a:ext cx="5320800" cy="4572000"/>
            <a:chOff x="1079640" y="876240"/>
            <a:chExt cx="5320800" cy="4572000"/>
          </a:xfrm>
        </p:grpSpPr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1079640" y="876240"/>
              <a:ext cx="8380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4406760" y="1092240"/>
              <a:ext cx="1993680" cy="4356000"/>
            </a:xfrm>
            <a:prstGeom prst="line">
              <a:avLst/>
            </a:prstGeom>
            <a:ln w="88920">
              <a:solidFill>
                <a:srgbClr val="ffe6f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0120A-603C-41BE-8D82-E7102A68B9C1}" type="slidenum">
              <a:t>14</a:t>
            </a:fld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69493-C9A5-415F-8D19-6EE63C26BCE1}" type="slidenum">
              <a:t>15</a:t>
            </a:fld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"/>
          <p:cNvSpPr/>
          <p:nvPr/>
        </p:nvSpPr>
        <p:spPr>
          <a:xfrm>
            <a:off x="-3600" y="0"/>
            <a:ext cx="3917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Resumen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"/>
          <p:cNvSpPr/>
          <p:nvPr/>
        </p:nvSpPr>
        <p:spPr>
          <a:xfrm>
            <a:off x="2985840" y="2141640"/>
            <a:ext cx="1157832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libri"/>
                <a:ea typeface="Calibri"/>
              </a:rPr>
              <a:t>Suma de Vector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libri"/>
                <a:ea typeface="Calibri"/>
              </a:rPr>
              <a:t>Módulo de un Vector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libri"/>
                <a:ea typeface="Calibri"/>
              </a:rPr>
              <a:t>Multiplicación por escalar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libri"/>
                <a:ea typeface="Calibri"/>
              </a:rPr>
              <a:t>Producto Escalar de dos vector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8AD7F-F45C-4EA6-A827-F1C6836484A0}" type="slidenum">
              <a:t>16</a:t>
            </a:fld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37206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16974720" y="12998160"/>
            <a:ext cx="3985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307F-30CF-43C4-81FD-3ACCC3497510}" type="slidenum"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DE0E-2F58-4979-977E-0CCB1C5FC3F1}" type="slidenum">
              <a:t>17</a:t>
            </a:fld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96880" y="1644480"/>
            <a:ext cx="14959080" cy="1166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C29D5-8546-45CA-B9A2-C75DA5786678}" type="slidenum">
              <a:t>2</a:t>
            </a:fld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284720" y="8260920"/>
            <a:ext cx="5859360" cy="3714840"/>
          </a:xfrm>
          <a:prstGeom prst="line">
            <a:avLst/>
          </a:prstGeom>
          <a:ln w="139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262400" y="4690800"/>
            <a:ext cx="8267760" cy="7314840"/>
            <a:chOff x="4262400" y="4690800"/>
            <a:chExt cx="8267760" cy="7314840"/>
          </a:xfrm>
        </p:grpSpPr>
        <p:sp>
          <p:nvSpPr>
            <p:cNvPr id="102" name=""/>
            <p:cNvSpPr/>
            <p:nvPr/>
          </p:nvSpPr>
          <p:spPr>
            <a:xfrm flipV="1">
              <a:off x="4282200" y="4690800"/>
              <a:ext cx="3240" cy="731484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262400" y="11834280"/>
              <a:ext cx="8267760" cy="16200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1712880" y="9858240"/>
            <a:ext cx="2571840" cy="2143440"/>
          </a:xfrm>
          <a:prstGeom prst="line">
            <a:avLst/>
          </a:prstGeom>
          <a:ln w="139680">
            <a:solidFill>
              <a:srgbClr val="9bbb5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756800" y="2599920"/>
            <a:ext cx="8267400" cy="7314840"/>
            <a:chOff x="1756800" y="2599920"/>
            <a:chExt cx="8267400" cy="7314840"/>
          </a:xfrm>
        </p:grpSpPr>
        <p:sp>
          <p:nvSpPr>
            <p:cNvPr id="106" name=""/>
            <p:cNvSpPr/>
            <p:nvPr/>
          </p:nvSpPr>
          <p:spPr>
            <a:xfrm flipV="1">
              <a:off x="1777680" y="2599920"/>
              <a:ext cx="2880" cy="731484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756800" y="9743400"/>
              <a:ext cx="8267400" cy="16200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V="1">
            <a:off x="1855800" y="8286480"/>
            <a:ext cx="8145360" cy="1571400"/>
          </a:xfrm>
          <a:prstGeom prst="line">
            <a:avLst/>
          </a:prstGeom>
          <a:ln w="139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999120" y="9715680"/>
            <a:ext cx="1393920" cy="1857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27040" y="10858680"/>
            <a:ext cx="1393920" cy="1857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998880" y="7000920"/>
            <a:ext cx="3600360" cy="1857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31520" y="0"/>
            <a:ext cx="1539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Suma de Vectores… desplazamientos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"/>
          <p:cNvSpPr/>
          <p:nvPr/>
        </p:nvSpPr>
        <p:spPr>
          <a:xfrm>
            <a:off x="9572760" y="3141720"/>
            <a:ext cx="873756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Cambio de  origen de coordenadas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0C269-D9F7-4DCF-BDAD-C41147DE69F9}" type="slidenum">
              <a:t>3</a:t>
            </a:fld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998960" y="8000640"/>
            <a:ext cx="6716880" cy="2428920"/>
          </a:xfrm>
          <a:prstGeom prst="line">
            <a:avLst/>
          </a:prstGeom>
          <a:ln w="3816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998240" y="5999040"/>
            <a:ext cx="1428840" cy="4430880"/>
          </a:xfrm>
          <a:prstGeom prst="line">
            <a:avLst/>
          </a:prstGeom>
          <a:ln w="1015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054040" y="10256400"/>
            <a:ext cx="10429560" cy="1429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995000" y="2569680"/>
            <a:ext cx="3240" cy="78598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141160" y="3570120"/>
            <a:ext cx="8001000" cy="6716880"/>
          </a:xfrm>
          <a:prstGeom prst="line">
            <a:avLst/>
          </a:prstGeom>
          <a:ln w="101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"/>
          <p:cNvSpPr/>
          <p:nvPr/>
        </p:nvSpPr>
        <p:spPr>
          <a:xfrm>
            <a:off x="11860560" y="7572240"/>
            <a:ext cx="1404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Ax,A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"/>
          <p:cNvSpPr/>
          <p:nvPr/>
        </p:nvSpPr>
        <p:spPr>
          <a:xfrm>
            <a:off x="5572440" y="4998960"/>
            <a:ext cx="13708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Bx,B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"/>
          <p:cNvSpPr/>
          <p:nvPr/>
        </p:nvSpPr>
        <p:spPr>
          <a:xfrm>
            <a:off x="13142880" y="3141720"/>
            <a:ext cx="27608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Ax+Bx,Ay+B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98960" y="8000640"/>
            <a:ext cx="6716880" cy="2428920"/>
          </a:xfrm>
          <a:prstGeom prst="line">
            <a:avLst/>
          </a:prstGeom>
          <a:ln w="10152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48A56-CD8E-4241-9D6A-762BD793BBAD}" type="slidenum">
              <a:t>4</a:t>
            </a:fld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05240" y="9906120"/>
            <a:ext cx="11177640" cy="1498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427040" y="3141720"/>
            <a:ext cx="7429680" cy="3286080"/>
          </a:xfrm>
          <a:prstGeom prst="line">
            <a:avLst/>
          </a:prstGeom>
          <a:ln w="127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427040" y="3846600"/>
            <a:ext cx="5724720" cy="2581200"/>
          </a:xfrm>
          <a:prstGeom prst="line">
            <a:avLst/>
          </a:prstGeom>
          <a:ln w="127080">
            <a:solidFill>
              <a:srgbClr val="9bbb5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427040" y="4316040"/>
            <a:ext cx="4749840" cy="2111400"/>
          </a:xfrm>
          <a:prstGeom prst="line">
            <a:avLst/>
          </a:prstGeom>
          <a:ln w="127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2597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Cambio de escala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1449080" y="4287960"/>
            <a:ext cx="4983120" cy="3257280"/>
          </a:xfrm>
          <a:prstGeom prst="line">
            <a:avLst/>
          </a:prstGeom>
          <a:ln w="8892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429280" y="2286000"/>
            <a:ext cx="5832360" cy="5286240"/>
            <a:chOff x="11429280" y="2286000"/>
            <a:chExt cx="5832360" cy="5286240"/>
          </a:xfrm>
        </p:grpSpPr>
        <p:sp>
          <p:nvSpPr>
            <p:cNvPr id="134" name=""/>
            <p:cNvSpPr/>
            <p:nvPr/>
          </p:nvSpPr>
          <p:spPr>
            <a:xfrm flipH="1" flipV="1">
              <a:off x="11429640" y="2286000"/>
              <a:ext cx="17640" cy="528624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1429280" y="7421040"/>
              <a:ext cx="5832360" cy="1414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1449080" y="3765600"/>
            <a:ext cx="5393520" cy="3655440"/>
            <a:chOff x="11449080" y="3765600"/>
            <a:chExt cx="5393520" cy="3655440"/>
          </a:xfrm>
        </p:grpSpPr>
        <p:sp>
          <p:nvSpPr>
            <p:cNvPr id="137" name=""/>
            <p:cNvSpPr/>
            <p:nvPr/>
          </p:nvSpPr>
          <p:spPr>
            <a:xfrm flipH="1">
              <a:off x="16428600" y="4287600"/>
              <a:ext cx="3240" cy="313344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449080" y="4287600"/>
              <a:ext cx="4981680" cy="124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558200" y="5790960"/>
              <a:ext cx="2844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763520" y="3765600"/>
              <a:ext cx="275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6437240" y="3662280"/>
            <a:ext cx="874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x,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"/>
          <p:cNvSpPr/>
          <p:nvPr/>
        </p:nvSpPr>
        <p:spPr>
          <a:xfrm>
            <a:off x="16538760" y="3286080"/>
            <a:ext cx="374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1125080" y="609480"/>
            <a:ext cx="579132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F89C8-73A3-4EE4-A272-07D10591A1B6}" type="slidenum">
              <a:t>5</a:t>
            </a:fld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703600" y="7832880"/>
            <a:ext cx="5857920" cy="3714480"/>
          </a:xfrm>
          <a:prstGeom prst="line">
            <a:avLst/>
          </a:prstGeom>
          <a:ln w="1270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264320" y="5135040"/>
            <a:ext cx="12357720" cy="9074520"/>
            <a:chOff x="-1264320" y="5135040"/>
            <a:chExt cx="12357720" cy="9074520"/>
          </a:xfrm>
        </p:grpSpPr>
        <p:sp>
          <p:nvSpPr>
            <p:cNvPr id="148" name=""/>
            <p:cNvSpPr/>
            <p:nvPr/>
          </p:nvSpPr>
          <p:spPr>
            <a:xfrm flipH="1" flipV="1">
              <a:off x="-1264320" y="5135040"/>
              <a:ext cx="2598120" cy="907452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352160" y="11121480"/>
              <a:ext cx="9741240" cy="301032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131560" y="7832880"/>
            <a:ext cx="6984360" cy="2340000"/>
            <a:chOff x="2131560" y="7832880"/>
            <a:chExt cx="6984360" cy="2340000"/>
          </a:xfrm>
        </p:grpSpPr>
        <p:sp>
          <p:nvSpPr>
            <p:cNvPr id="151" name=""/>
            <p:cNvSpPr/>
            <p:nvPr/>
          </p:nvSpPr>
          <p:spPr>
            <a:xfrm>
              <a:off x="8564400" y="7834320"/>
              <a:ext cx="493560" cy="171324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2131560" y="7832880"/>
              <a:ext cx="6430680" cy="230976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717400" y="9547560"/>
              <a:ext cx="3985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y’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43680" y="8142480"/>
              <a:ext cx="3895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x’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607960" y="7601040"/>
            <a:ext cx="11026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x’,y’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"/>
          <p:cNvSpPr/>
          <p:nvPr/>
        </p:nvSpPr>
        <p:spPr>
          <a:xfrm>
            <a:off x="1986840" y="12119040"/>
            <a:ext cx="3697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"/>
          <p:cNvSpPr/>
          <p:nvPr/>
        </p:nvSpPr>
        <p:spPr>
          <a:xfrm>
            <a:off x="8689320" y="6689880"/>
            <a:ext cx="374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679120" y="4262400"/>
            <a:ext cx="8267400" cy="7314480"/>
            <a:chOff x="2679120" y="4262400"/>
            <a:chExt cx="8267400" cy="7314480"/>
          </a:xfrm>
        </p:grpSpPr>
        <p:grpSp>
          <p:nvGrpSpPr>
            <p:cNvPr id="159" name=""/>
            <p:cNvGrpSpPr/>
            <p:nvPr/>
          </p:nvGrpSpPr>
          <p:grpSpPr>
            <a:xfrm>
              <a:off x="2679120" y="4262400"/>
              <a:ext cx="8267400" cy="7314480"/>
              <a:chOff x="2679120" y="4262400"/>
              <a:chExt cx="8267400" cy="731448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2700000" y="4262400"/>
                <a:ext cx="2880" cy="7314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2679120" y="11405160"/>
                <a:ext cx="8267400" cy="162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701800" y="7236000"/>
              <a:ext cx="6291360" cy="4170960"/>
              <a:chOff x="2701800" y="7236000"/>
              <a:chExt cx="6291360" cy="4170960"/>
            </a:xfrm>
          </p:grpSpPr>
          <p:sp>
            <p:nvSpPr>
              <p:cNvPr id="163" name=""/>
              <p:cNvSpPr/>
              <p:nvPr/>
            </p:nvSpPr>
            <p:spPr>
              <a:xfrm flipH="1">
                <a:off x="8558280" y="7833240"/>
                <a:ext cx="3240" cy="3573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2701800" y="7831440"/>
                <a:ext cx="5858640" cy="142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708760" y="9546840"/>
                <a:ext cx="2844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38160" tIns="38160" bIns="38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y</a:t>
                </a:r>
                <a:endParaRPr b="0" lang="en-US" sz="3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421960" y="7236000"/>
                <a:ext cx="2750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38160" tIns="38160" bIns="38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7766280" y="7105680"/>
            <a:ext cx="874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x,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"/>
          <p:cNvSpPr/>
          <p:nvPr/>
        </p:nvSpPr>
        <p:spPr>
          <a:xfrm>
            <a:off x="559080" y="855720"/>
            <a:ext cx="936900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libri"/>
                <a:ea typeface="Calibri"/>
              </a:rPr>
              <a:t>Rotación de COORDENADA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001240" y="1855800"/>
            <a:ext cx="7858440" cy="994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3FA21-AED3-444D-93CF-B152868A6A9B}" type="slidenum">
              <a:t>6</a:t>
            </a:fld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"/>
          <p:cNvSpPr/>
          <p:nvPr/>
        </p:nvSpPr>
        <p:spPr>
          <a:xfrm>
            <a:off x="3960" y="1284120"/>
            <a:ext cx="109342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La rotación no cambia el “MÓDULO”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712880" y="7260840"/>
            <a:ext cx="5857920" cy="3714840"/>
          </a:xfrm>
          <a:prstGeom prst="line">
            <a:avLst/>
          </a:prstGeom>
          <a:ln w="16524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90560" y="3690720"/>
            <a:ext cx="8267760" cy="7314840"/>
            <a:chOff x="1690560" y="3690720"/>
            <a:chExt cx="8267760" cy="7314840"/>
          </a:xfrm>
        </p:grpSpPr>
        <p:sp>
          <p:nvSpPr>
            <p:cNvPr id="175" name=""/>
            <p:cNvSpPr/>
            <p:nvPr/>
          </p:nvSpPr>
          <p:spPr>
            <a:xfrm flipV="1">
              <a:off x="1710360" y="3690720"/>
              <a:ext cx="3240" cy="731484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690560" y="10834200"/>
              <a:ext cx="8267760" cy="16200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712520" y="6665760"/>
            <a:ext cx="6292080" cy="4168800"/>
            <a:chOff x="1712520" y="6665760"/>
            <a:chExt cx="6292080" cy="4168800"/>
          </a:xfrm>
        </p:grpSpPr>
        <p:sp>
          <p:nvSpPr>
            <p:cNvPr id="178" name=""/>
            <p:cNvSpPr/>
            <p:nvPr/>
          </p:nvSpPr>
          <p:spPr>
            <a:xfrm flipH="1">
              <a:off x="7569720" y="7262640"/>
              <a:ext cx="3240" cy="3571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712520" y="7261200"/>
              <a:ext cx="5859000" cy="142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20200" y="8975520"/>
              <a:ext cx="2844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33040" y="6665760"/>
              <a:ext cx="275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576560" y="6546960"/>
            <a:ext cx="874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x,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"/>
          <p:cNvSpPr/>
          <p:nvPr/>
        </p:nvSpPr>
        <p:spPr>
          <a:xfrm>
            <a:off x="997200" y="11547360"/>
            <a:ext cx="3697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"/>
          <p:cNvSpPr/>
          <p:nvPr/>
        </p:nvSpPr>
        <p:spPr>
          <a:xfrm>
            <a:off x="7699680" y="6118200"/>
            <a:ext cx="374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"/>
          <p:cNvSpPr/>
          <p:nvPr/>
        </p:nvSpPr>
        <p:spPr>
          <a:xfrm>
            <a:off x="11444040" y="2712960"/>
            <a:ext cx="54950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Teorema de Pitagora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"/>
          <p:cNvSpPr/>
          <p:nvPr/>
        </p:nvSpPr>
        <p:spPr>
          <a:xfrm>
            <a:off x="4005360" y="7858080"/>
            <a:ext cx="628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"/>
          <p:cNvSpPr/>
          <p:nvPr/>
        </p:nvSpPr>
        <p:spPr>
          <a:xfrm>
            <a:off x="3147480" y="10032840"/>
            <a:ext cx="607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ymbol"/>
                <a:ea typeface="Symbol"/>
              </a:rPr>
              <a:t>θ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582280" y="1371600"/>
            <a:ext cx="579132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1125080" y="7162920"/>
            <a:ext cx="6292800" cy="320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3B37-B19D-4259-ADEE-8B15AD9318A6}" type="slidenum">
              <a:t>7</a:t>
            </a:fld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03600" y="7832880"/>
            <a:ext cx="5857920" cy="3714480"/>
          </a:xfrm>
          <a:prstGeom prst="line">
            <a:avLst/>
          </a:prstGeom>
          <a:ln w="1522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-1264320" y="5135040"/>
            <a:ext cx="12357720" cy="9074520"/>
            <a:chOff x="-1264320" y="5135040"/>
            <a:chExt cx="12357720" cy="9074520"/>
          </a:xfrm>
        </p:grpSpPr>
        <p:sp>
          <p:nvSpPr>
            <p:cNvPr id="194" name=""/>
            <p:cNvSpPr/>
            <p:nvPr/>
          </p:nvSpPr>
          <p:spPr>
            <a:xfrm flipH="1" flipV="1">
              <a:off x="-1264320" y="5135040"/>
              <a:ext cx="2598120" cy="907452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352160" y="11121480"/>
              <a:ext cx="9741240" cy="301032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131560" y="7832880"/>
            <a:ext cx="6984360" cy="2340000"/>
            <a:chOff x="2131560" y="7832880"/>
            <a:chExt cx="6984360" cy="2340000"/>
          </a:xfrm>
        </p:grpSpPr>
        <p:sp>
          <p:nvSpPr>
            <p:cNvPr id="197" name=""/>
            <p:cNvSpPr/>
            <p:nvPr/>
          </p:nvSpPr>
          <p:spPr>
            <a:xfrm>
              <a:off x="8564400" y="7834320"/>
              <a:ext cx="493560" cy="171324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131560" y="7832880"/>
              <a:ext cx="6430680" cy="230976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717400" y="9547560"/>
              <a:ext cx="3985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y’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43680" y="8142480"/>
              <a:ext cx="3895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x’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8620560" y="7575480"/>
            <a:ext cx="11026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x’,y’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"/>
          <p:cNvSpPr/>
          <p:nvPr/>
        </p:nvSpPr>
        <p:spPr>
          <a:xfrm>
            <a:off x="1986840" y="12119040"/>
            <a:ext cx="3697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"/>
          <p:cNvSpPr/>
          <p:nvPr/>
        </p:nvSpPr>
        <p:spPr>
          <a:xfrm>
            <a:off x="8689320" y="6689880"/>
            <a:ext cx="374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Bold"/>
                <a:ea typeface="Calibri Bold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679120" y="4262400"/>
            <a:ext cx="8267400" cy="7314480"/>
            <a:chOff x="2679120" y="4262400"/>
            <a:chExt cx="8267400" cy="7314480"/>
          </a:xfrm>
        </p:grpSpPr>
        <p:grpSp>
          <p:nvGrpSpPr>
            <p:cNvPr id="205" name=""/>
            <p:cNvGrpSpPr/>
            <p:nvPr/>
          </p:nvGrpSpPr>
          <p:grpSpPr>
            <a:xfrm>
              <a:off x="2679120" y="4262400"/>
              <a:ext cx="8267400" cy="7314480"/>
              <a:chOff x="2679120" y="4262400"/>
              <a:chExt cx="8267400" cy="731448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2700000" y="4262400"/>
                <a:ext cx="2880" cy="7314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2679120" y="11405160"/>
                <a:ext cx="8267400" cy="162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2701800" y="7236000"/>
              <a:ext cx="6291360" cy="4170960"/>
              <a:chOff x="2701800" y="7236000"/>
              <a:chExt cx="6291360" cy="4170960"/>
            </a:xfrm>
          </p:grpSpPr>
          <p:sp>
            <p:nvSpPr>
              <p:cNvPr id="209" name=""/>
              <p:cNvSpPr/>
              <p:nvPr/>
            </p:nvSpPr>
            <p:spPr>
              <a:xfrm flipH="1">
                <a:off x="8558280" y="7833240"/>
                <a:ext cx="3240" cy="3573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2701800" y="7831440"/>
                <a:ext cx="5858640" cy="142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708760" y="9546840"/>
                <a:ext cx="2844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38160" tIns="38160" bIns="38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y</a:t>
                </a:r>
                <a:endParaRPr b="0" lang="en-US" sz="3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421960" y="7236000"/>
                <a:ext cx="2750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38160" tIns="38160" bIns="38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7753680" y="7118280"/>
            <a:ext cx="874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(x,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976280" y="8721720"/>
            <a:ext cx="1363320" cy="2152800"/>
            <a:chOff x="4976280" y="8721720"/>
            <a:chExt cx="1363320" cy="2152800"/>
          </a:xfrm>
        </p:grpSpPr>
        <p:sp>
          <p:nvSpPr>
            <p:cNvPr id="215" name=""/>
            <p:cNvSpPr/>
            <p:nvPr/>
          </p:nvSpPr>
          <p:spPr>
            <a:xfrm>
              <a:off x="4976280" y="8721720"/>
              <a:ext cx="62856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</a:t>
              </a:r>
              <a:endParaRPr b="0" lang="en-US" sz="8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49840" y="9578880"/>
              <a:ext cx="68976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φ</a:t>
              </a:r>
              <a:endParaRPr b="0" lang="en-US" sz="8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712240" y="10144080"/>
            <a:ext cx="9288360" cy="1428120"/>
            <a:chOff x="2712240" y="10144080"/>
            <a:chExt cx="9288360" cy="1428120"/>
          </a:xfrm>
        </p:grpSpPr>
        <p:sp>
          <p:nvSpPr>
            <p:cNvPr id="218" name=""/>
            <p:cNvSpPr/>
            <p:nvPr/>
          </p:nvSpPr>
          <p:spPr>
            <a:xfrm flipV="1">
              <a:off x="2712240" y="11429280"/>
              <a:ext cx="9288360" cy="142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33200" y="10144080"/>
              <a:ext cx="71856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α</a:t>
              </a:r>
              <a:endParaRPr b="0" lang="en-US" sz="8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9720" y="0"/>
            <a:ext cx="65131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marL="304920" indent="-304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La rotación cambia la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 “</a:t>
            </a:r>
            <a:r>
              <a:rPr b="0" lang="en-US" sz="5600" spc="-1" strike="noStrike">
                <a:solidFill>
                  <a:srgbClr val="ffffff"/>
                </a:solidFill>
                <a:latin typeface="Calibri"/>
                <a:ea typeface="Calibri"/>
              </a:rPr>
              <a:t>ORIENTACIÓN”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A9BFC-BEBA-4A8E-A609-C5F29938EBB6}" type="slidenum">
              <a:t>8</a:t>
            </a:fld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497d"/>
            </a:gs>
            <a:gs pos="100000">
              <a:srgbClr val="0e233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14400" y="12855600"/>
            <a:ext cx="4292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03/25/09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"/>
          <p:cNvSpPr/>
          <p:nvPr/>
        </p:nvSpPr>
        <p:spPr>
          <a:xfrm>
            <a:off x="6248520" y="12855600"/>
            <a:ext cx="5816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"/>
                <a:ea typeface="Calibri"/>
              </a:rPr>
              <a:t>Introducción a la Física Newtonia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"/>
          <p:cNvSpPr/>
          <p:nvPr/>
        </p:nvSpPr>
        <p:spPr>
          <a:xfrm>
            <a:off x="8285040" y="4284720"/>
            <a:ext cx="1859040" cy="2143080"/>
          </a:xfrm>
          <a:prstGeom prst="pie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942160" y="457200"/>
            <a:ext cx="6294240" cy="3200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267080" y="7162920"/>
            <a:ext cx="1005840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9CA16-4238-48A4-A5A4-86E9CC77098F}" type="slidenum">
              <a:t>9</a:t>
            </a:fld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varo S. Nunez</dc:creator>
  <dc:description/>
  <dc:language>en-US</dc:language>
  <cp:lastModifiedBy/>
  <cp:revision>0</cp:revision>
  <dc:subject/>
  <dc:title>Diapositiva 1</dc:title>
</cp:coreProperties>
</file>