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FB0-B049-493A-B5B1-9923D6CB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4122-5034-4B91-9483-1FA530E8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45A-FBDD-4880-B444-1300E88D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D07-86DB-42A4-A91A-CA8342AB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038-0E6B-44AD-999D-193E2775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F88-2573-476F-8713-6EB6C159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3FF-EEFD-46ED-BBBC-962BF455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DC9-7E9B-46B2-A870-1A035A4E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756-2441-4806-8B7D-C94A35E7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167-B104-44ED-889F-13C89557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79F-3547-4B2E-B84A-755C5AF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42B-D1E6-4788-ABB6-D3BC138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9A2D-1A4F-4FD3-A012-9EE4E52E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6386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0" y="184644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62280" cy="593424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1"/>
          </p:cNvCxnSpPr>
          <p:nvPr/>
        </p:nvCxnSpPr>
        <p:spPr>
          <a:xfrm flipH="1" flipV="1" rot="5400000">
            <a:off x="3113640" y="2726280"/>
            <a:ext cx="2248560" cy="20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8760" y="184644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619520" cy="625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141300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0efb5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076640"/>
            <a:ext cx="3672000" cy="176220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0240" y="43894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72000" cy="584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916280"/>
            <a:ext cx="3757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NOT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Muestre que E</a:t>
            </a:r>
            <a:r>
              <a:rPr b="1" lang="es-CL" sz="1800" spc="-1" strike="noStrike" baseline="-25000">
                <a:solidFill>
                  <a:srgbClr val="ff6600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 se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escribir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2637000"/>
          <a:ext cx="28083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637000"/>
                    <a:ext cx="2808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810040" y="4941720"/>
            <a:ext cx="1834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m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g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/ (2 k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8200" y="3521160"/>
            <a:ext cx="2864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0, se obtien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resultado indicad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últim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4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486320" cy="575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24000" y="5084640"/>
          <a:ext cx="79992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84640"/>
                    <a:ext cx="799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4720" y="184644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48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5529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1T00:54:41Z</dcterms:modified>
  <cp:revision>2</cp:revision>
  <dc:subject/>
  <dc:title>Dinámica de una masa sobre una cuña</dc:title>
</cp:coreProperties>
</file>