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9D8-0B58-4F88-8915-2208E9C4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B178-EB01-49EE-B4F2-93BCE4AE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B37-137C-4914-95E7-B6E3C450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449-C687-4726-8D46-75437EE0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F87-1834-401D-AFD8-4BBC4871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1B0-BB7B-4249-9B83-6A2A53A9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318-D239-4AFE-8237-1752DC1A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F91-0DA5-4CE2-B69D-76AEB51E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DA8-0D37-47E2-B531-F815E5EA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975-7B66-4A59-9C3B-E0C8812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B81-2B9B-43C7-BE6A-73B3221B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F12-3011-427B-A708-3985F856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0E04-CFD7-4B46-BBD8-6AA95120E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6386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0" y="184644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62280" cy="5934240"/>
          </a:xfrm>
          <a:prstGeom prst="rect">
            <a:avLst/>
          </a:prstGeom>
          <a:ln w="0">
            <a:noFill/>
          </a:ln>
        </p:spPr>
      </p:pic>
      <p:cxnSp>
        <p:nvCxnSpPr>
          <p:cNvPr id="51" name=""/>
          <p:cNvCxnSpPr>
            <a:endCxn id="49" idx="1"/>
          </p:cNvCxnSpPr>
          <p:nvPr/>
        </p:nvCxnSpPr>
        <p:spPr>
          <a:xfrm flipH="1" flipV="1" rot="5400000">
            <a:off x="3113640" y="2726280"/>
            <a:ext cx="2248560" cy="20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8760" y="184644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619520" cy="625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141300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0efb5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4076640"/>
            <a:ext cx="3672000" cy="176220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10240" y="43894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572000" cy="584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916280"/>
            <a:ext cx="3757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NOT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Muestre que E</a:t>
            </a:r>
            <a:r>
              <a:rPr b="1" lang="es-CL" sz="1800" spc="-1" strike="noStrike" baseline="-25000">
                <a:solidFill>
                  <a:srgbClr val="ff6600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 se pu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escribir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2637000"/>
          <a:ext cx="28083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637000"/>
                    <a:ext cx="2808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810040" y="4941720"/>
            <a:ext cx="1834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m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g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/ (2 k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8200" y="3521160"/>
            <a:ext cx="2864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0, se obtien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resultado indicad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últim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64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486320" cy="575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24000" y="5084640"/>
          <a:ext cx="79992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084640"/>
                    <a:ext cx="799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4720" y="184644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6483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5529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1T00:54:41Z</dcterms:modified>
  <cp:revision>2</cp:revision>
  <dc:subject/>
  <dc:title>Dinámica de una masa sobre una cuña</dc:title>
</cp:coreProperties>
</file>