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31560" y="11253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ROCE Y ENER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3995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31560" y="11253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ROCE Y ENER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100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31560" y="11253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ROCE Y ENER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098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31560" y="11253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ROCE Y ENER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3995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31560" y="11253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ROCE Y ENER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1004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1560" y="11253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ROCE Y ENER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6-18T16:06:55Z</dcterms:modified>
  <cp:revision>51</cp:revision>
  <dc:subject/>
  <dc:title>Sin título de diapositiva</dc:title>
</cp:coreProperties>
</file>