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3071160" y="4235760"/>
            <a:ext cx="435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CL Elemental Sans"/>
              </a:rPr>
              <a:t> - </a:t>
            </a:r>
            <a:r>
              <a:rPr b="1" lang="es-ES" sz="1000" spc="-1" strike="noStrike">
                <a:solidFill>
                  <a:srgbClr val="808080"/>
                </a:solidFill>
                <a:latin typeface="TCL Elemental Sans"/>
              </a:rPr>
              <a:t>Nelson Zamorano H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029200" y="609480"/>
            <a:ext cx="0" cy="59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059280" y="6237360"/>
            <a:ext cx="1942920" cy="387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300720" y="409680"/>
            <a:ext cx="261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596360" y="76320"/>
            <a:ext cx="112068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wm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80160" y="112536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CHOQUES BINA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40986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80160" y="112536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CHOQUES BINA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80160" y="112536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CHOQUES BINA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40989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12536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CHOQUES BINA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4149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80160" y="112536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CHOQUES BINA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425772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80160" y="112536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CHOQUES BINA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4097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80160" y="112536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CHOQUES BINA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406872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80160" y="112536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CHOQUES BINA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4400" y="768240"/>
            <a:ext cx="335808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ff6600"/>
                </a:solidFill>
                <a:uFillTx/>
                <a:latin typeface="Verdana"/>
                <a:ea typeface="Times New Roman"/>
              </a:rPr>
              <a:t>CHOQUES BIN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66cc"/>
                </a:solidFill>
                <a:latin typeface="Verdana"/>
                <a:ea typeface="Times New Roman"/>
              </a:rPr>
              <a:t>Leyes de conservación particip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66cc"/>
                </a:solidFill>
                <a:latin typeface="Verdana"/>
                <a:ea typeface="Times New Roman"/>
              </a:rPr>
              <a:t>Conservación del Momen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66cc"/>
                </a:solidFill>
                <a:latin typeface="Verdana"/>
                <a:ea typeface="Times New Roman"/>
              </a:rPr>
              <a:t>Conservación de la En. Ciné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66cc"/>
                </a:solidFill>
                <a:latin typeface="Verdana"/>
                <a:ea typeface="Times New Roman"/>
              </a:rPr>
              <a:t>1 – D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11280" y="2205000"/>
          <a:ext cx="250488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205000"/>
                    <a:ext cx="25048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4360" y="2637000"/>
          <a:ext cx="330516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2637000"/>
                    <a:ext cx="33051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86360" y="3141720"/>
            <a:ext cx="123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Verdana"/>
                <a:ea typeface="Times New Roman"/>
              </a:rPr>
              <a:t>orden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71640" y="3716280"/>
          <a:ext cx="3305160" cy="1724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3716280"/>
                    <a:ext cx="330516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0" y="546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971640" y="5516640"/>
          <a:ext cx="792000" cy="2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71640" y="5516640"/>
                    <a:ext cx="7920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552640" y="1774440"/>
            <a:ext cx="279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66cc"/>
                </a:solidFill>
                <a:latin typeface="Verdana"/>
                <a:ea typeface="Times New Roman"/>
              </a:rPr>
              <a:t>La velocidad relativa, 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66cc"/>
                </a:solidFill>
                <a:latin typeface="Verdana"/>
                <a:ea typeface="Times New Roman"/>
              </a:rPr>
              <a:t>y después del cho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Verdana"/>
                <a:ea typeface="Times New Roman"/>
              </a:rPr>
              <a:t>son iguales en magnitu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Verdana"/>
                <a:ea typeface="Times New Roman"/>
              </a:rPr>
              <a:t>y cambian de sig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79640" y="5445000"/>
            <a:ext cx="28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cc"/>
                </a:solidFill>
                <a:latin typeface="Verdana"/>
              </a:rPr>
              <a:t>Velocidad Relativa del cuerpo 1 con</a:t>
            </a:r>
            <a:r>
              <a:rPr b="1" lang="es-ES_tradnl" sz="1600" spc="-1" strike="noStrike">
                <a:solidFill>
                  <a:srgbClr val="0066cc"/>
                </a:solidFill>
                <a:latin typeface="Times New Roman"/>
              </a:rPr>
              <a:t> respecto 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80160" y="112536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CHOQUES BINA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7400" y="1090080"/>
            <a:ext cx="400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Verdana"/>
                <a:ea typeface="Times New Roman"/>
              </a:rPr>
              <a:t>Si la energía no se conserva, 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6920" y="1557360"/>
          <a:ext cx="2171880" cy="31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557360"/>
                    <a:ext cx="217188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573200" y="206424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con  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71640" y="2133720"/>
          <a:ext cx="237960" cy="180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2133720"/>
                    <a:ext cx="23796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411280" y="2133720"/>
          <a:ext cx="219240" cy="16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2133720"/>
                    <a:ext cx="219240" cy="16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28160" y="2633040"/>
            <a:ext cx="4114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Si   e = 1  choque elástico, se conser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                </a:t>
            </a: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la energí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Si   e = 0  choque totalmente inelástico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                </a:t>
            </a: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la energía no se conser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y ambos cuerpos permanecen unidos despué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del choq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El valor de   e   es un dato adicional, provie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de los experimen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Continuando con el caso  e = 1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(conservación de la energí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Después del choque, los cuerpos se separ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con la misma rapidez c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que se acercaban antes del choq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Resolviendo las ecuaciones iniciales pa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580000" y="1844640"/>
          <a:ext cx="190440" cy="219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80000" y="1844640"/>
                    <a:ext cx="19044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028200" y="1772280"/>
            <a:ext cx="3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588000" y="1844640"/>
          <a:ext cx="200160" cy="21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88000" y="1844640"/>
                    <a:ext cx="20016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963040" y="234864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en-US" sz="1200" spc="-1" strike="noStrike">
                <a:solidFill>
                  <a:srgbClr val="0099cc"/>
                </a:solidFill>
                <a:latin typeface="Verdana"/>
                <a:ea typeface="Times New Roman"/>
              </a:rPr>
              <a:t>obtenem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64000" y="2997360"/>
          <a:ext cx="3657600" cy="2647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64000" y="2997360"/>
                    <a:ext cx="365760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0" y="703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80160" y="112536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CHOQUES BINA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720" y="825840"/>
            <a:ext cx="331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Esta expresión se puede escribir má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simple aún si hacemos lo siguie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9640" y="1628640"/>
          <a:ext cx="3886200" cy="54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628640"/>
                    <a:ext cx="3886200" cy="5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446480" y="2514960"/>
            <a:ext cx="22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reordenando, tene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9640" y="2997360"/>
          <a:ext cx="3886200" cy="89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2997360"/>
                    <a:ext cx="38862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552600" y="4220280"/>
            <a:ext cx="58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cc"/>
                </a:solidFill>
                <a:latin typeface="Verdana"/>
                <a:ea typeface="Times New Roman"/>
              </a:rPr>
              <a:t>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87280" y="4149720"/>
          <a:ext cx="1552680" cy="542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7280" y="4149720"/>
                    <a:ext cx="15526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287720" y="510732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Verdana"/>
                <a:ea typeface="Times New Roman"/>
              </a:rPr>
              <a:t>Análog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42920" y="5445000"/>
          <a:ext cx="1600200" cy="542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5445000"/>
                    <a:ext cx="16002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565960" y="1500840"/>
            <a:ext cx="2969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Verdana"/>
              </a:rPr>
              <a:t>La velocidad del cen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Verdana"/>
              </a:rPr>
              <a:t>de masa (es el promed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Verdana"/>
              </a:rPr>
              <a:t>de la velocidad inicial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Verdana"/>
              </a:rPr>
              <a:t>final). Esto ocurre en u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Verdana"/>
              </a:rPr>
              <a:t>choque elástico, c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Verdana"/>
              </a:rPr>
              <a:t>conservación d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Verdana"/>
              </a:rPr>
              <a:t>energía, y donde las mas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Verdana"/>
              </a:rPr>
              <a:t>conservan su identidad (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Verdana"/>
              </a:rPr>
              <a:t>se dividen, por ejempl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elson Zamorano</cp:lastModifiedBy>
  <dcterms:modified xsi:type="dcterms:W3CDTF">2009-06-18T15:34:03Z</dcterms:modified>
  <cp:revision>50</cp:revision>
  <dc:subject/>
  <dc:title>Sin título de diapositiva</dc:title>
</cp:coreProperties>
</file>