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3789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0464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3272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41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11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43592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41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2530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098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565200"/>
            <a:ext cx="453528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23720" y="112536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EJEMPLOS DE TRA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30668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6-18T01:18:41Z</dcterms:modified>
  <cp:revision>49</cp:revision>
  <dc:subject/>
  <dc:title>Sin título de diapositiva</dc:title>
</cp:coreProperties>
</file>