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wmf" ContentType="image/x-wmf"/>
  <Override PartName="/ppt/media/image3.jpeg" ContentType="image/jpe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6200000">
            <a:off x="3071160" y="4235760"/>
            <a:ext cx="435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TCL Elemental Sans"/>
              </a:rPr>
              <a:t> - </a:t>
            </a:r>
            <a:r>
              <a:rPr b="1" lang="es-ES" sz="1000" spc="-1" strike="noStrike">
                <a:solidFill>
                  <a:srgbClr val="808080"/>
                </a:solidFill>
                <a:latin typeface="TCL Elemental Sans"/>
              </a:rPr>
              <a:t>Nelson Zamorano Ho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5029200" y="609480"/>
            <a:ext cx="0" cy="59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3059280" y="6237360"/>
            <a:ext cx="1942920" cy="3873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6300720" y="409680"/>
            <a:ext cx="2610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CL Elemental Sans"/>
              </a:rPr>
              <a:t>Introducción a la  Física Newtonia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596360" y="76320"/>
            <a:ext cx="1120680" cy="423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808600" y="1125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49120" y="549360"/>
            <a:ext cx="40975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520960" y="1125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46220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08600" y="1125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79280" y="549360"/>
            <a:ext cx="4048200" cy="56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92600" y="11970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20372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736960" y="11970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100400" cy="56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2960" y="1125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1004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881320" y="1125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042920" y="1844640"/>
          <a:ext cx="2952720" cy="22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844640"/>
                    <a:ext cx="2952720" cy="22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92600" y="1125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425628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808600" y="10526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250920" y="692280"/>
            <a:ext cx="4255920" cy="57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788000" y="333360"/>
            <a:ext cx="2771640" cy="53496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952960" y="83664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95280" y="549360"/>
            <a:ext cx="41511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881320" y="11970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250920" y="549360"/>
            <a:ext cx="4097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08600" y="11253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50920" y="476280"/>
            <a:ext cx="417348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508720" y="476280"/>
            <a:ext cx="3456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435640" y="476280"/>
            <a:ext cx="3708360" cy="7160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0" y="0"/>
            <a:ext cx="55450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cc3300"/>
                </a:solidFill>
                <a:latin typeface="Verdana"/>
              </a:rPr>
              <a:t>FI-100-06 </a:t>
            </a:r>
            <a:r>
              <a:rPr b="1" lang="es-ES" sz="1600" spc="-1" strike="noStrike">
                <a:solidFill>
                  <a:srgbClr val="ff6600"/>
                </a:solidFill>
                <a:latin typeface="Verdana"/>
              </a:rPr>
              <a:t>Introducción a la Física Newtoniana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66cc"/>
                </a:solidFill>
                <a:latin typeface="Verdana"/>
              </a:rPr>
              <a:t>Nelson Zamorano 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81320" y="119700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3333cc"/>
                </a:solidFill>
                <a:uFillTx/>
                <a:latin typeface="Comic Sans MS"/>
              </a:rPr>
              <a:t>TRABAJO Y ENERGÍ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4000" y="476280"/>
            <a:ext cx="441144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6-10T19:02:22Z</dcterms:modified>
  <cp:revision>48</cp:revision>
  <dc:subject/>
  <dc:title>Sin título de diapositiva</dc:title>
</cp:coreProperties>
</file>