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9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5" name="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7" name="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8" name="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475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120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44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093680"/>
            <a:ext cx="424188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24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5680" y="985680"/>
            <a:ext cx="421632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4600" y="1066680"/>
            <a:ext cx="436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920" y="1143000"/>
            <a:ext cx="421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410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1280" y="99072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1600200"/>
            <a:ext cx="6480000" cy="290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45720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74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9769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4-13T19:20:40Z</dcterms:modified>
  <cp:revision>48</cp:revision>
  <dc:subject/>
  <dc:title>Sin título de diapositiva</dc:title>
</cp:coreProperties>
</file>