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7480" y="1066680"/>
            <a:ext cx="38545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9760" y="1066680"/>
            <a:ext cx="433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46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240" y="1143000"/>
            <a:ext cx="4433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2160" y="1295280"/>
            <a:ext cx="4479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7440" y="990720"/>
            <a:ext cx="43545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876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4-03T14:13:17Z</dcterms:modified>
  <cp:revision>41</cp:revision>
  <dc:subject/>
  <dc:title>Sin título de diapositiva</dc:title>
</cp:coreProperties>
</file>