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1523880" y="3581280"/>
            <a:ext cx="2666880" cy="1297440"/>
            <a:chOff x="1523880" y="3581280"/>
            <a:chExt cx="2666880" cy="1297440"/>
          </a:xfrm>
        </p:grpSpPr>
        <p:sp>
          <p:nvSpPr>
            <p:cNvPr id="47" name=""/>
            <p:cNvSpPr/>
            <p:nvPr/>
          </p:nvSpPr>
          <p:spPr>
            <a:xfrm>
              <a:off x="1523880" y="4571640"/>
              <a:ext cx="266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ESCUELA DE VERANO 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1599840" y="3581280"/>
              <a:ext cx="479520" cy="99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4768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15000" y="304920"/>
            <a:ext cx="3124080" cy="3504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43200" y="1066680"/>
            <a:ext cx="5866560" cy="1365120"/>
            <a:chOff x="2743200" y="1066680"/>
            <a:chExt cx="5866560" cy="1365120"/>
          </a:xfrm>
        </p:grpSpPr>
        <p:pic>
          <p:nvPicPr>
            <p:cNvPr id="53" name="" descr=""/>
            <p:cNvPicPr/>
            <p:nvPr/>
          </p:nvPicPr>
          <p:blipFill>
            <a:blip r:embed="rId3">
              <a:lum contrast="30000"/>
            </a:blip>
            <a:srcRect l="8972" t="8025" r="72070" b="11720"/>
            <a:stretch/>
          </p:blipFill>
          <p:spPr>
            <a:xfrm>
              <a:off x="274320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4" name="" descr=""/>
            <p:cNvPicPr/>
            <p:nvPr/>
          </p:nvPicPr>
          <p:blipFill>
            <a:blip r:embed="rId4">
              <a:lum contrast="30000"/>
            </a:blip>
            <a:srcRect l="79148" t="8025" r="1895" b="11720"/>
            <a:stretch/>
          </p:blipFill>
          <p:spPr>
            <a:xfrm>
              <a:off x="724536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5" name="" descr=""/>
            <p:cNvPicPr/>
            <p:nvPr/>
          </p:nvPicPr>
          <p:blipFill>
            <a:blip r:embed="rId5">
              <a:lum contrast="30000"/>
            </a:blip>
            <a:srcRect l="31729" t="8025" r="49313" b="11720"/>
            <a:stretch/>
          </p:blipFill>
          <p:spPr>
            <a:xfrm>
              <a:off x="4243680" y="1066680"/>
              <a:ext cx="136440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  <p:pic>
          <p:nvPicPr>
            <p:cNvPr id="56" name="" descr=""/>
            <p:cNvPicPr/>
            <p:nvPr/>
          </p:nvPicPr>
          <p:blipFill>
            <a:blip r:embed="rId6">
              <a:lum contrast="30000"/>
            </a:blip>
            <a:srcRect l="54486" t="8025" r="26556" b="11720"/>
            <a:stretch/>
          </p:blipFill>
          <p:spPr>
            <a:xfrm>
              <a:off x="5744880" y="1066680"/>
              <a:ext cx="1363680" cy="1365120"/>
            </a:xfrm>
            <a:prstGeom prst="rect">
              <a:avLst/>
            </a:prstGeom>
            <a:ln w="19080">
              <a:solidFill>
                <a:srgbClr val="0099c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446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43419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30120" y="985680"/>
            <a:ext cx="424188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3441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47840" y="1220760"/>
            <a:ext cx="4124160" cy="44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6160" y="1143000"/>
            <a:ext cx="4425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0280" y="1147680"/>
            <a:ext cx="4311720" cy="57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95360" y="1143000"/>
            <a:ext cx="4076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44600" y="1066680"/>
            <a:ext cx="412740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9920" y="954000"/>
            <a:ext cx="4554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400" y="1042920"/>
            <a:ext cx="44496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200" y="1109520"/>
            <a:ext cx="448308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4081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3-30T14:09:01Z</dcterms:modified>
  <cp:revision>37</cp:revision>
  <dc:subject/>
  <dc:title>Sin título de diapositiva</dc:title>
</cp:coreProperties>
</file>