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E77-3BA6-42F0-987F-C401A87D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FA2-2055-425B-9D56-915B20C1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943-A46A-4204-B0AD-B9BBB170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5582-F688-410B-A142-49C872C7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E4E-CEA2-4327-97AC-62677BC2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146-CE6D-4192-824C-FFFBBD0A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A78-5D6D-4FC8-BD7B-C2C8B684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598-E8EC-4838-BC1A-55319E97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22D-58CE-4D4A-B690-CA61F17E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B06-3E12-4313-85BE-0EEA090D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F65-2EAC-4EA5-BDF9-F4708321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652-062C-4144-BD73-D857E774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9528-D635-48DC-8520-506D98332E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SUCESIONES Y SERI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DE NUMEROS REAL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ie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Un ejemplo s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9640" y="1916280"/>
            <a:ext cx="7993080" cy="3889080"/>
            <a:chOff x="539640" y="1916280"/>
            <a:chExt cx="7993080" cy="3889080"/>
          </a:xfrm>
        </p:grpSpPr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2771640" y="1916280"/>
                  <a:ext cx="3456000" cy="12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λ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λ</m:t>
                      </m:r>
                      <m:r>
                        <m:t xml:space="preserve">⋅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39640" y="4492800"/>
                  <a:ext cx="7993080" cy="13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  <m:e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5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7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9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77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Qué es una serie?  …. Consiste en encontrar funciones polinómicas que se aproximen (que se parezcan) a una cierta función f(x)….   </a:t>
            </a:r>
            <a:r>
              <a:rPr b="1" lang="es-MX" sz="2500" spc="-1" strike="noStrike">
                <a:solidFill>
                  <a:srgbClr val="ff3300"/>
                </a:solidFill>
                <a:latin typeface="Arial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, esta serie se conoce como binomio de Newt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000" y="4248000"/>
            <a:ext cx="7848360" cy="2420640"/>
            <a:chOff x="324000" y="4248000"/>
            <a:chExt cx="7848360" cy="242064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24000" y="4248000"/>
                  <a:ext cx="78483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</m:e>
                      </m:d>
                      <m:sSup>
                        <m:e>
                          <m:r>
                            <m:t xml:space="preserve"> 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467080" y="5591160"/>
                  <a:ext cx="32097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k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AC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ero que significa el símbolo ! 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lla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FACTOR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7280" y="2421000"/>
            <a:ext cx="6553440" cy="3095640"/>
            <a:chOff x="1187280" y="2421000"/>
            <a:chExt cx="6553440" cy="3095640"/>
          </a:xfrm>
        </p:grpSpPr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187280" y="2421000"/>
                  <a:ext cx="1960560" cy="30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32" name=""/>
            <p:cNvSpPr/>
            <p:nvPr/>
          </p:nvSpPr>
          <p:spPr>
            <a:xfrm>
              <a:off x="3924360" y="2781360"/>
              <a:ext cx="3816360" cy="2305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82680" y="2630520"/>
            <a:ext cx="6365880" cy="3729240"/>
            <a:chOff x="1282680" y="2630520"/>
            <a:chExt cx="6365880" cy="3729240"/>
          </a:xfrm>
        </p:grpSpPr>
        <p:grpSp>
          <p:nvGrpSpPr>
            <p:cNvPr id="138" name=""/>
            <p:cNvGrpSpPr/>
            <p:nvPr/>
          </p:nvGrpSpPr>
          <p:grpSpPr>
            <a:xfrm>
              <a:off x="1282680" y="3357720"/>
              <a:ext cx="5626080" cy="3002040"/>
              <a:chOff x="1282680" y="3357720"/>
              <a:chExt cx="5626080" cy="3002040"/>
            </a:xfrm>
          </p:grpSpPr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1282680" y="3357720"/>
                    <a:ext cx="5586480" cy="184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</m:e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0" name=""/>
              <p:cNvSpPr/>
              <p:nvPr/>
            </p:nvSpPr>
            <p:spPr>
              <a:xfrm flipV="1">
                <a:off x="2195640" y="5342040"/>
                <a:ext cx="93636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5292720" y="5415120"/>
                <a:ext cx="1008000" cy="71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549440" y="599148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53280" y="586584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H="1">
              <a:off x="2916000" y="3068640"/>
              <a:ext cx="1655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2600" y="26305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¿Cuántos términos hay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3960" y="3352680"/>
            <a:ext cx="8510760" cy="3462120"/>
            <a:chOff x="453960" y="3352680"/>
            <a:chExt cx="8510760" cy="346212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453960" y="3352680"/>
                  <a:ext cx="8510760" cy="19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 flipV="1">
              <a:off x="1763640" y="5515920"/>
              <a:ext cx="72072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996000" y="5589000"/>
              <a:ext cx="215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6516360" y="5445000"/>
              <a:ext cx="647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60360" y="63734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7440" y="64465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29640" y="604008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9280" y="3284640"/>
            <a:ext cx="8510760" cy="3252960"/>
            <a:chOff x="179280" y="3284640"/>
            <a:chExt cx="8510760" cy="3252960"/>
          </a:xfrm>
        </p:grpSpPr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79280" y="3284640"/>
                  <a:ext cx="8510760" cy="19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2917800" y="6169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114560" y="5477040"/>
              <a:ext cx="5443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801880" y="5549760"/>
              <a:ext cx="163440" cy="9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4493880" y="540360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0000" y="5953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06720" y="6007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773320" y="542124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86520" y="602496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binomio es para cualquier n real (positivo o negativ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 =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5280" y="3171960"/>
                <a:ext cx="7610400" cy="21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Otro ejemplo de seri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6560" y="2368440"/>
            <a:ext cx="8282160" cy="3148200"/>
            <a:chOff x="466560" y="2368440"/>
            <a:chExt cx="8282160" cy="3148200"/>
          </a:xfrm>
        </p:grpSpPr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466560" y="2368440"/>
                  <a:ext cx="8282160" cy="114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1403280" y="4743360"/>
                  <a:ext cx="56898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lgunas series tienen infinitos (  ) términos, pero convergen a un número finito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vemos est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796000" y="1700280"/>
                <a:ext cx="360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468360" y="3573360"/>
            <a:ext cx="7306920" cy="2303280"/>
            <a:chOff x="468360" y="3573360"/>
            <a:chExt cx="7306920" cy="2303280"/>
          </a:xfrm>
        </p:grpSpPr>
        <p:grpSp>
          <p:nvGrpSpPr>
            <p:cNvPr id="191" name=""/>
            <p:cNvGrpSpPr/>
            <p:nvPr/>
          </p:nvGrpSpPr>
          <p:grpSpPr>
            <a:xfrm>
              <a:off x="468360" y="3573360"/>
              <a:ext cx="6984720" cy="2303280"/>
              <a:chOff x="468360" y="3573360"/>
              <a:chExt cx="6984720" cy="2303280"/>
            </a:xfrm>
          </p:grpSpPr>
          <mc:AlternateContent>
            <mc:Choice xmlns:a14="http://schemas.microsoft.com/office/drawing/2010/main" Requires="a14">
              <p:sp>
                <p:nvSpPr>
                  <p:cNvPr id="192" name=""/>
                  <p:cNvSpPr txBox="1"/>
                  <p:nvPr/>
                </p:nvSpPr>
                <p:spPr>
                  <a:xfrm>
                    <a:off x="468360" y="4730400"/>
                    <a:ext cx="6984720" cy="11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3" name=""/>
              <p:cNvSpPr/>
              <p:nvPr/>
            </p:nvSpPr>
            <p:spPr>
              <a:xfrm flipH="1">
                <a:off x="949320" y="3908880"/>
                <a:ext cx="1605600" cy="73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12160" y="3573360"/>
                <a:ext cx="210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Infinitos términ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6661440" y="4149720"/>
              <a:ext cx="215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17120" y="3639960"/>
              <a:ext cx="25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Se puede demostra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xisten muchas series conocidas que se usan en Fís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quí hay más ejempl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77720" y="2598840"/>
            <a:ext cx="7765920" cy="3709800"/>
            <a:chOff x="477720" y="2598840"/>
            <a:chExt cx="7765920" cy="3709800"/>
          </a:xfrm>
        </p:grpSpPr>
        <p:grpSp>
          <p:nvGrpSpPr>
            <p:cNvPr id="203" name=""/>
            <p:cNvGrpSpPr/>
            <p:nvPr/>
          </p:nvGrpSpPr>
          <p:grpSpPr>
            <a:xfrm>
              <a:off x="477720" y="2598840"/>
              <a:ext cx="7765920" cy="3709800"/>
              <a:chOff x="477720" y="2598840"/>
              <a:chExt cx="7765920" cy="370980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77720" y="2598840"/>
                <a:ext cx="4824360" cy="2496960"/>
                <a:chOff x="477720" y="2598840"/>
                <a:chExt cx="4824360" cy="24969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05" name=""/>
                    <p:cNvSpPr txBox="1"/>
                    <p:nvPr/>
                  </p:nvSpPr>
                  <p:spPr>
                    <a:xfrm>
                      <a:off x="477720" y="2598840"/>
                      <a:ext cx="4824360" cy="1052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5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7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7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06" name=""/>
                    <p:cNvSpPr txBox="1"/>
                    <p:nvPr/>
                  </p:nvSpPr>
                  <p:spPr>
                    <a:xfrm>
                      <a:off x="539640" y="4011480"/>
                      <a:ext cx="4699080" cy="1084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07" name=""/>
                  <p:cNvSpPr txBox="1"/>
                  <p:nvPr/>
                </p:nvSpPr>
                <p:spPr>
                  <a:xfrm>
                    <a:off x="506160" y="5191200"/>
                    <a:ext cx="7737480" cy="111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⋯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8" name=""/>
              <p:cNvSpPr/>
              <p:nvPr/>
            </p:nvSpPr>
            <p:spPr>
              <a:xfrm>
                <a:off x="5787000" y="3567240"/>
                <a:ext cx="245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está en RADIAN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9" name=""/>
                  <p:cNvSpPr txBox="1"/>
                  <p:nvPr/>
                </p:nvSpPr>
                <p:spPr>
                  <a:xfrm>
                    <a:off x="5517720" y="3645000"/>
                    <a:ext cx="28764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10" name=""/>
            <p:cNvSpPr/>
            <p:nvPr/>
          </p:nvSpPr>
          <p:spPr>
            <a:xfrm>
              <a:off x="5794560" y="4653000"/>
              <a:ext cx="23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 e de Eu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0720" y="508464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Una sucesión se puede ver como conjunto</a:t>
            </a:r>
            <a:r>
              <a:rPr b="0" i="1" lang="es-ES" sz="2500" spc="-1" strike="noStrike">
                <a:solidFill>
                  <a:srgbClr val="6666ff"/>
                </a:solidFill>
                <a:latin typeface="Arial"/>
              </a:rPr>
              <a:t> ordenado de términos, que cumplen una ley determinada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Formalmente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es una aplicació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que representaremos p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756600" y="2924280"/>
            <a:ext cx="5324400" cy="3038760"/>
            <a:chOff x="3756600" y="2924280"/>
            <a:chExt cx="5324400" cy="3038760"/>
          </a:xfrm>
        </p:grpSpPr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5940360" y="2924280"/>
                  <a:ext cx="1295640" cy="106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ℜ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4572000" y="3384720"/>
                  <a:ext cx="57636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 flipV="1">
              <a:off x="4859280" y="3499920"/>
              <a:ext cx="108108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56600" y="5222880"/>
              <a:ext cx="240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natur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7308360" y="3284280"/>
              <a:ext cx="129564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30440" y="5564160"/>
              <a:ext cx="205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re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Una serie muy usada en física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a serie está definida si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42920" y="2205000"/>
            <a:ext cx="7661160" cy="3434400"/>
            <a:chOff x="1042920" y="2205000"/>
            <a:chExt cx="7661160" cy="343440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042920" y="2205000"/>
                  <a:ext cx="561672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4227480" y="3429000"/>
                  <a:ext cx="8492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 flipH="1" flipV="1">
              <a:off x="4427640" y="3933360"/>
              <a:ext cx="1295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1840" y="4935600"/>
              <a:ext cx="2712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símbolo signific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D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jemplos de módulo sería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042920" y="2276640"/>
                <a:ext cx="1405080" cy="38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en 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Verifíquenlo en el computador!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64000" y="1638360"/>
                <a:ext cx="1008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286000" y="2421000"/>
                <a:ext cx="21985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jempl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73000" y="2349360"/>
            <a:ext cx="6794640" cy="3527640"/>
            <a:chOff x="873000" y="2349360"/>
            <a:chExt cx="6794640" cy="3527640"/>
          </a:xfrm>
        </p:grpSpPr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965160" y="2349360"/>
                  <a:ext cx="6343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≡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⋯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873000" y="3979800"/>
                  <a:ext cx="6794640" cy="189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≡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5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conjunto de las sucesiones de números reales se definen las oper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d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ltipl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ltiplicación por escal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003640" y="2637000"/>
            <a:ext cx="3313080" cy="2518920"/>
            <a:chOff x="5003640" y="2637000"/>
            <a:chExt cx="3313080" cy="251892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005440" y="2637000"/>
                  <a:ext cx="3311280" cy="56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003640" y="3655800"/>
                  <a:ext cx="303300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5081760" y="4617720"/>
                  <a:ext cx="23875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⋅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λ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MA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MX" sz="2500" spc="-1" strike="noStrike" u="sng">
                <a:solidFill>
                  <a:srgbClr val="6666ff"/>
                </a:solidFill>
                <a:uFillTx/>
                <a:latin typeface="Arial"/>
              </a:rPr>
              <a:t>Símbolo de la SUMATORI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Supóngase dada una cantidad finita de númer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 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y consideramos la su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En ocasiones es conveniente más hacer breve esta expresión. Esto se logra mediante el símbolo de suma     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llamado sumato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4360" y="2492280"/>
                <a:ext cx="2160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35280" y="3141720"/>
                <a:ext cx="360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80000" y="4797360"/>
                <a:ext cx="1008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MA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usa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elemento          se llama </a:t>
            </a:r>
            <a:r>
              <a:rPr b="0" i="1" lang="es-MX" sz="2500" spc="-1" strike="noStrike" u="sng">
                <a:solidFill>
                  <a:srgbClr val="ff3300"/>
                </a:solidFill>
                <a:uFillTx/>
                <a:latin typeface="Arial"/>
              </a:rPr>
              <a:t>término general de la su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03360" y="5157720"/>
                <a:ext cx="51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971640" y="2133720"/>
            <a:ext cx="6484680" cy="2952720"/>
            <a:chOff x="971640" y="2133720"/>
            <a:chExt cx="6484680" cy="2952720"/>
          </a:xfrm>
        </p:grpSpPr>
        <p:grpSp>
          <p:nvGrpSpPr>
            <p:cNvPr id="81" name=""/>
            <p:cNvGrpSpPr/>
            <p:nvPr/>
          </p:nvGrpSpPr>
          <p:grpSpPr>
            <a:xfrm>
              <a:off x="971640" y="2133720"/>
              <a:ext cx="6484680" cy="2816640"/>
              <a:chOff x="971640" y="2133720"/>
              <a:chExt cx="6484680" cy="281664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971640" y="2613240"/>
                <a:ext cx="6484680" cy="2337120"/>
                <a:chOff x="971640" y="2613240"/>
                <a:chExt cx="6484680" cy="23371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3" name=""/>
                    <p:cNvSpPr txBox="1"/>
                    <p:nvPr/>
                  </p:nvSpPr>
                  <p:spPr>
                    <a:xfrm>
                      <a:off x="971640" y="2613240"/>
                      <a:ext cx="6484680" cy="1317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…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4" name=""/>
                <p:cNvSpPr/>
                <p:nvPr/>
              </p:nvSpPr>
              <p:spPr>
                <a:xfrm flipH="1" flipV="1">
                  <a:off x="1585800" y="3981240"/>
                  <a:ext cx="1152000" cy="86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745720" y="4551480"/>
                  <a:ext cx="1721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Límite inferi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 flipH="1">
                <a:off x="1585800" y="2356200"/>
                <a:ext cx="18727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436920" y="2133720"/>
                <a:ext cx="18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Límite superi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H="1" flipV="1">
              <a:off x="1874520" y="3573720"/>
              <a:ext cx="71280" cy="1512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Se quiere expresar la suma de los cuadrados de los primeros 10 natura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s dec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n este caso, es fácil ver que el término general 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con lo que la suma (expresada con nuestro “nuevo” símbolo)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95280" y="2565360"/>
            <a:ext cx="8317080" cy="4079880"/>
            <a:chOff x="395280" y="2565360"/>
            <a:chExt cx="8317080" cy="407988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059280" y="2565360"/>
                  <a:ext cx="40449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1763640" y="3547800"/>
                  <a:ext cx="633744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755640" y="4700520"/>
                  <a:ext cx="11523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395280" y="5689440"/>
                  <a:ext cx="831708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p>
                        <m:e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</m:e>
                      </m:nary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8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i se desea considerar solame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ntonces se puede escrib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82760" y="2276640"/>
            <a:ext cx="6161040" cy="3418200"/>
            <a:chOff x="1382760" y="2276640"/>
            <a:chExt cx="6161040" cy="3418200"/>
          </a:xfrm>
        </p:grpSpPr>
        <p:grpSp>
          <p:nvGrpSpPr>
            <p:cNvPr id="105" name=""/>
            <p:cNvGrpSpPr/>
            <p:nvPr/>
          </p:nvGrpSpPr>
          <p:grpSpPr>
            <a:xfrm>
              <a:off x="1382760" y="2276640"/>
              <a:ext cx="6161040" cy="2276280"/>
              <a:chOff x="1382760" y="2276640"/>
              <a:chExt cx="6161040" cy="2276280"/>
            </a:xfrm>
          </p:grpSpPr>
          <mc:AlternateContent>
            <mc:Choice xmlns:a14="http://schemas.microsoft.com/office/drawing/2010/main" Requires="a14">
              <p:sp>
                <p:nvSpPr>
                  <p:cNvPr id="106" name=""/>
                  <p:cNvSpPr txBox="1"/>
                  <p:nvPr/>
                </p:nvSpPr>
                <p:spPr>
                  <a:xfrm>
                    <a:off x="2158920" y="2276640"/>
                    <a:ext cx="4176720" cy="36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7" name=""/>
                  <p:cNvSpPr txBox="1"/>
                  <p:nvPr/>
                </p:nvSpPr>
                <p:spPr>
                  <a:xfrm>
                    <a:off x="1382760" y="3716280"/>
                    <a:ext cx="6161040" cy="83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nary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8" name=""/>
            <p:cNvSpPr/>
            <p:nvPr/>
          </p:nvSpPr>
          <p:spPr>
            <a:xfrm flipH="1" flipV="1">
              <a:off x="1835280" y="4508280"/>
              <a:ext cx="72072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76600" y="5295960"/>
              <a:ext cx="360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es el término que camb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78080" y="1989000"/>
            <a:ext cx="5064840" cy="2447640"/>
            <a:chOff x="1378080" y="1989000"/>
            <a:chExt cx="5064840" cy="244764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403280" y="1989000"/>
                  <a:ext cx="5039640" cy="104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4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361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378080" y="3355560"/>
                  <a:ext cx="494604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37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nzamora</cp:lastModifiedBy>
  <dcterms:modified xsi:type="dcterms:W3CDTF">2005-01-03T16:08:51Z</dcterms:modified>
  <cp:revision>160</cp:revision>
  <dc:subject/>
  <dc:title>FISICA I</dc:title>
</cp:coreProperties>
</file>