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86E-9673-46C5-B6DB-3BDCE149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901-C703-429F-A79F-D1CF679E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7F6-E2F3-43B1-BD43-9EC71E85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594-A3C5-44DA-8AD7-9F57BC38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A6F-9CFC-400C-A396-57F76D08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19A-D679-41F8-8B6B-7DA9689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5F3-618C-4CDA-A3B2-484136C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08C-4523-483C-ABF9-DC0BAF6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9C1-EBA7-4F60-B139-7CD471F1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065-2ACE-4523-998D-9391B6F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C18-05CB-40CA-AA51-14D0ACE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80C-7A9E-4DB3-88A9-6518E84D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60E-AF77-45B4-B7CD-5ECE49B59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 u="sng">
                <a:solidFill>
                  <a:srgbClr val="000000"/>
                </a:solidFill>
                <a:uFillTx/>
                <a:latin typeface="Arial"/>
              </a:rPr>
              <a:t>FISICA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¿Cuántos radianes hay en una circunferenc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Un ángulo de 360º barre un arco de longitud igual a la longitud de la circunferencia, esto es,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es decir, el perímetro de una circunferencia es aproximadamente 6 veces el radio de la circunferencia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 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66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55880" y="3886200"/>
                <a:ext cx="3228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O más exacto… en un giro completo hay 6,28 </a:t>
            </a:r>
            <a:r>
              <a:rPr b="1" i="1" lang="es-ES" sz="2500" spc="-1" strike="noStrike">
                <a:solidFill>
                  <a:srgbClr val="cc3300"/>
                </a:solidFill>
                <a:latin typeface="Arial"/>
              </a:rPr>
              <a:t>radianes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….</a:t>
            </a:r>
            <a:r>
              <a:rPr b="0" lang="es-ES" sz="2500" spc="-1" strike="noStrike">
                <a:solidFill>
                  <a:srgbClr val="cc3300"/>
                </a:solidFill>
                <a:latin typeface="Arial"/>
              </a:rPr>
              <a:t> Por lo c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360º =           Radi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24360" y="2638440"/>
            <a:ext cx="5040360" cy="3311640"/>
            <a:chOff x="3924360" y="2638440"/>
            <a:chExt cx="5040360" cy="33116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93080" y="263844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4789800" y="4122720"/>
                  <a:ext cx="64764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" name=""/>
            <p:cNvGrpSpPr/>
            <p:nvPr/>
          </p:nvGrpSpPr>
          <p:grpSpPr>
            <a:xfrm>
              <a:off x="3924360" y="2781360"/>
              <a:ext cx="5040360" cy="3168720"/>
              <a:chOff x="3924360" y="2781360"/>
              <a:chExt cx="5040360" cy="316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24360" y="2781360"/>
                <a:ext cx="3600360" cy="3168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724720" y="3285720"/>
                <a:ext cx="3240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40720" y="2997360"/>
                <a:ext cx="289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8245440" y="3645000"/>
                <a:ext cx="216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724720" y="3141720"/>
                <a:ext cx="302400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645080" y="4149720"/>
                  <a:ext cx="79236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"/>
          <p:cNvGrpSpPr/>
          <p:nvPr/>
        </p:nvGrpSpPr>
        <p:grpSpPr>
          <a:xfrm>
            <a:off x="179280" y="3029040"/>
            <a:ext cx="3433320" cy="2922480"/>
            <a:chOff x="179280" y="3029040"/>
            <a:chExt cx="3433320" cy="292248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70520" y="4472640"/>
                  <a:ext cx="15264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179280" y="5149080"/>
                  <a:ext cx="720360" cy="80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57640" y="3029040"/>
              <a:ext cx="305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6666ff"/>
                  </a:solidFill>
                  <a:latin typeface="Arial"/>
                </a:rPr>
                <a:t>180º  =       Rad.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8680" y="4748040"/>
                  <a:ext cx="115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RECUERD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Los ángulos los puedes medir en grados, minutos y segun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amos como se “pasa” de una a ot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º  30'  36'' = 8º  30'  36/60' = 8º  30'  0,6' = 8º 30,6' =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= 8º  30,6/60º = 8º  0,51º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,51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'51º = 8º 0,51·60' = 8º 30,6' = 8º  30'  0,6·60''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º  30'  36''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ángulos rect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2133720"/>
            <a:ext cx="6334920" cy="4017600"/>
            <a:chOff x="1332000" y="2133720"/>
            <a:chExt cx="6334920" cy="4017600"/>
          </a:xfrm>
        </p:grpSpPr>
        <p:sp>
          <p:nvSpPr>
            <p:cNvPr id="109" name=""/>
            <p:cNvSpPr/>
            <p:nvPr/>
          </p:nvSpPr>
          <p:spPr>
            <a:xfrm>
              <a:off x="5327640" y="5098320"/>
              <a:ext cx="23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2000" y="2133720"/>
              <a:ext cx="22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opuesto a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60120" y="3015720"/>
              <a:ext cx="2561760" cy="1938960"/>
              <a:chOff x="3660120" y="3015720"/>
              <a:chExt cx="2561760" cy="19389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4075200" y="3015720"/>
                <a:ext cx="2146680" cy="1571760"/>
                <a:chOff x="4075200" y="3015720"/>
                <a:chExt cx="2146680" cy="1571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075200" y="3015720"/>
                  <a:ext cx="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75200" y="4587480"/>
                  <a:ext cx="21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075200" y="3015720"/>
                  <a:ext cx="214668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3660120" y="364500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4905720" y="4692600"/>
                    <a:ext cx="2365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5252400" y="348804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" name=""/>
              <p:cNvSpPr/>
              <p:nvPr/>
            </p:nvSpPr>
            <p:spPr>
              <a:xfrm>
                <a:off x="4075200" y="44301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2920" y="443016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07520" y="3614760"/>
                  <a:ext cx="11775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5702040" y="3368160"/>
                  <a:ext cx="1730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ipotenus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542200" y="4324680"/>
                  <a:ext cx="26424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 flipH="1">
              <a:off x="5322600" y="421956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322600" y="4743720"/>
              <a:ext cx="7538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195360" y="2507400"/>
                  <a:ext cx="621360" cy="41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>
              <a:off x="3591360" y="2857680"/>
              <a:ext cx="41544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839920" y="5820840"/>
                  <a:ext cx="5004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ordem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3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0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1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42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4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5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Pitág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n un triángulo rectángulo la suma de los cuadrados de los catetos (los lados que forman el ángulo recto) es igual al cuadrado de la hipotenusa (el otro lado).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20720" y="3787920"/>
            <a:ext cx="6480000" cy="2665440"/>
            <a:chOff x="1620720" y="3787920"/>
            <a:chExt cx="6480000" cy="266544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620720" y="4653000"/>
                  <a:ext cx="223200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53" name=""/>
            <p:cNvGrpSpPr/>
            <p:nvPr/>
          </p:nvGrpSpPr>
          <p:grpSpPr>
            <a:xfrm>
              <a:off x="5437080" y="3787920"/>
              <a:ext cx="2663640" cy="2665440"/>
              <a:chOff x="5437080" y="3787920"/>
              <a:chExt cx="2663640" cy="2665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868720" y="3787920"/>
                <a:ext cx="2232000" cy="2160360"/>
                <a:chOff x="5868720" y="3787920"/>
                <a:chExt cx="2232000" cy="2160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68720" y="3787920"/>
                  <a:ext cx="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68720" y="5948280"/>
                  <a:ext cx="223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868720" y="3787920"/>
                  <a:ext cx="223200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437080" y="4653000"/>
                    <a:ext cx="249120" cy="28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732360" y="6093000"/>
                    <a:ext cx="2462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7092720" y="4437360"/>
                    <a:ext cx="28728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1" name=""/>
              <p:cNvSpPr/>
              <p:nvPr/>
            </p:nvSpPr>
            <p:spPr>
              <a:xfrm>
                <a:off x="5868720" y="5732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84720" y="5732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Los lados de un triángulo son proporcionales a los senos de los ángulos opuestos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335772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32360" y="3390840"/>
            <a:ext cx="3600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Co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l cuadrado de un lado es igual a la suma de los cuadrados de los otros lados menos el doble del producto de estos lados por el coseno del ángulo comprendi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26920" y="4232160"/>
            <a:ext cx="3673800" cy="1514520"/>
            <a:chOff x="826920" y="42321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26920" y="42321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26920" y="47973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826920" y="53006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19640" y="3411360"/>
            <a:ext cx="3456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uclides...5</a:t>
            </a:r>
            <a:r>
              <a:rPr b="0" lang="es-MX" sz="4400" spc="-1" strike="noStrike" baseline="30000">
                <a:solidFill>
                  <a:srgbClr val="000000"/>
                </a:solidFill>
                <a:latin typeface="Arial"/>
              </a:rPr>
              <a:t>to 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ost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681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Sea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y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dos rectas cortadas por una secante en los puntos B y C respectivamente. Si D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A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yacen en lados opuestos con respecto a BC, y los ángulos ABC y BCD son iguales, </a:t>
            </a:r>
            <a:r>
              <a:rPr b="0" i="1" lang="en-U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las rectas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son paralel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ángulos ABC y BCD se dice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lternos intern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59280" y="2421000"/>
            <a:ext cx="3664080" cy="3612600"/>
            <a:chOff x="4859280" y="2421000"/>
            <a:chExt cx="3664080" cy="3612600"/>
          </a:xfrm>
        </p:grpSpPr>
        <p:sp>
          <p:nvSpPr>
            <p:cNvPr id="189" name=""/>
            <p:cNvSpPr/>
            <p:nvPr/>
          </p:nvSpPr>
          <p:spPr>
            <a:xfrm flipH="1">
              <a:off x="4944960" y="323676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59280" y="442728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170400" y="2827080"/>
              <a:ext cx="688680" cy="31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656400" y="2421000"/>
                  <a:ext cx="276120" cy="32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8242200" y="3993840"/>
                  <a:ext cx="281160" cy="40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8242200" y="2696760"/>
                  <a:ext cx="2444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356520" y="3562200"/>
                  <a:ext cx="288720" cy="27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572160" y="4354200"/>
                  <a:ext cx="28728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6069240" y="4282920"/>
              <a:ext cx="10058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283440" y="3201480"/>
              <a:ext cx="72000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7089840" y="5578200"/>
                  <a:ext cx="7920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//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002200" y="3344400"/>
                  <a:ext cx="27144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6802560" y="3489120"/>
                  <a:ext cx="27144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127920" y="4425480"/>
                  <a:ext cx="2426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954920" y="4497120"/>
                  <a:ext cx="28728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“</a:t>
            </a: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El espacio es la más gran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de todas las cosas, porque contie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todo lo que ha sido crea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Filósofo, astrónomo 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matemático griego naci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 Mileto en 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año 624 A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21654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omet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ne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43280" y="2200320"/>
            <a:ext cx="865080" cy="2597040"/>
            <a:chOff x="2843280" y="2200320"/>
            <a:chExt cx="865080" cy="259704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2916360" y="3208320"/>
                  <a:ext cx="7365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987640" y="2200320"/>
                  <a:ext cx="7207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843280" y="4216320"/>
                  <a:ext cx="79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80000" y="2349360"/>
            <a:ext cx="2952360" cy="3240000"/>
            <a:chOff x="5580000" y="2349360"/>
            <a:chExt cx="2952360" cy="3240000"/>
          </a:xfrm>
        </p:grpSpPr>
        <p:grpSp>
          <p:nvGrpSpPr>
            <p:cNvPr id="221" name=""/>
            <p:cNvGrpSpPr/>
            <p:nvPr/>
          </p:nvGrpSpPr>
          <p:grpSpPr>
            <a:xfrm>
              <a:off x="5580000" y="2349360"/>
              <a:ext cx="2952360" cy="3240000"/>
              <a:chOff x="5580000" y="2349360"/>
              <a:chExt cx="2952360" cy="324000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5724360" y="3141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652720" y="364644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580000" y="4149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6202080" y="2349360"/>
                <a:ext cx="1610640" cy="3240000"/>
                <a:chOff x="6202080" y="2349360"/>
                <a:chExt cx="1610640" cy="3240000"/>
              </a:xfrm>
            </p:grpSpPr>
            <p:sp>
              <p:nvSpPr>
                <p:cNvPr id="226" name=""/>
                <p:cNvSpPr/>
                <p:nvPr/>
              </p:nvSpPr>
              <p:spPr>
                <a:xfrm flipH="1">
                  <a:off x="6226920" y="2781000"/>
                  <a:ext cx="575640" cy="28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08360" y="2709720"/>
                  <a:ext cx="286920" cy="28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8" name=""/>
                    <p:cNvSpPr txBox="1"/>
                    <p:nvPr/>
                  </p:nvSpPr>
                  <p:spPr>
                    <a:xfrm>
                      <a:off x="6390720" y="2997000"/>
                      <a:ext cx="26928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9" name=""/>
                    <p:cNvSpPr txBox="1"/>
                    <p:nvPr/>
                  </p:nvSpPr>
                  <p:spPr>
                    <a:xfrm>
                      <a:off x="7452720" y="2896920"/>
                      <a:ext cx="286920" cy="244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0" name=""/>
                    <p:cNvSpPr txBox="1"/>
                    <p:nvPr/>
                  </p:nvSpPr>
                  <p:spPr>
                    <a:xfrm>
                      <a:off x="6227280" y="3573000"/>
                      <a:ext cx="2692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1" name=""/>
                    <p:cNvSpPr txBox="1"/>
                    <p:nvPr/>
                  </p:nvSpPr>
                  <p:spPr>
                    <a:xfrm>
                      <a:off x="7452720" y="3357360"/>
                      <a:ext cx="36000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2" name=""/>
                    <p:cNvSpPr txBox="1"/>
                    <p:nvPr/>
                  </p:nvSpPr>
                  <p:spPr>
                    <a:xfrm>
                      <a:off x="6202080" y="4078080"/>
                      <a:ext cx="24084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3" name=""/>
                    <p:cNvSpPr txBox="1"/>
                    <p:nvPr/>
                  </p:nvSpPr>
                  <p:spPr>
                    <a:xfrm>
                      <a:off x="7522560" y="3933360"/>
                      <a:ext cx="288720" cy="274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4" name=""/>
                    <p:cNvSpPr txBox="1"/>
                    <p:nvPr/>
                  </p:nvSpPr>
                  <p:spPr>
                    <a:xfrm>
                      <a:off x="6587640" y="2422080"/>
                      <a:ext cx="2296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5" name=""/>
                    <p:cNvSpPr txBox="1"/>
                    <p:nvPr/>
                  </p:nvSpPr>
                  <p:spPr>
                    <a:xfrm>
                      <a:off x="7235280" y="2349360"/>
                      <a:ext cx="20268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651280" y="4581360"/>
                  <a:ext cx="225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651280" y="4005360"/>
                  <a:ext cx="234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724360" y="3500280"/>
                  <a:ext cx="204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4724280"/>
                <a:ext cx="1656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ema de Tales en el tria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i="1" lang="es-CL" sz="2500" spc="-1" strike="noStrike">
                <a:solidFill>
                  <a:srgbClr val="0000ff"/>
                </a:solidFill>
                <a:latin typeface="Arial"/>
              </a:rPr>
              <a:t>en un triángulo ABC se traza una recta paralela al lado AB, de tal manera que intersecte al lado AC  en el punto P y al lado BC en el punto Q, se obtienen las siguientes proporcion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535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es de Mileto resolvió problemas como el siguie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 altura de un árbol, sabiendo que a la misma hora del día proyecta una sombra de 12 m, mientras que una estaca de 1.50 m proyecta una sombra de 2.25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7704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amos como lo hiz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demos suponer que el árbol y la estaca están colocados verticalm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CB y A´C´B´ son ig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BAC y B´A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BC y A´B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Los triángulos ABC y A´B´C´ son semejantes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us lados son proporcionales y se puede escribi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132000" y="5661000"/>
                <a:ext cx="2448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esa usar una proporción en la que se encuentre el lado que se pretende calcular y los datos del proble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stituyendo la incógnita y las cantidades conocidas, se obtie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 resuelve la proporción para calcular el valor d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914560" y="2690640"/>
                <a:ext cx="1657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19320" y="4365720"/>
                <a:ext cx="1665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r lo cual la altura del árbol es de 8 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95640" y="2349360"/>
                <a:ext cx="47527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sando Tales en un triangulo rectá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00000" y="1989000"/>
                <a:ext cx="2664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26920" y="3213000"/>
                <a:ext cx="28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90960" y="2565360"/>
            <a:ext cx="3857400" cy="3095640"/>
            <a:chOff x="4890960" y="2565360"/>
            <a:chExt cx="3857400" cy="3095640"/>
          </a:xfrm>
        </p:grpSpPr>
        <p:grpSp>
          <p:nvGrpSpPr>
            <p:cNvPr id="268" name=""/>
            <p:cNvGrpSpPr/>
            <p:nvPr/>
          </p:nvGrpSpPr>
          <p:grpSpPr>
            <a:xfrm>
              <a:off x="5410080" y="3008160"/>
              <a:ext cx="2896920" cy="2450880"/>
              <a:chOff x="5410080" y="3008160"/>
              <a:chExt cx="2896920" cy="2450880"/>
            </a:xfrm>
          </p:grpSpPr>
          <p:sp>
            <p:nvSpPr>
              <p:cNvPr id="269" name=""/>
              <p:cNvSpPr/>
              <p:nvPr/>
            </p:nvSpPr>
            <p:spPr>
              <a:xfrm>
                <a:off x="5410080" y="3008160"/>
                <a:ext cx="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5459040"/>
                <a:ext cx="28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080" y="3008160"/>
                <a:ext cx="289692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148000" y="2565360"/>
                  <a:ext cx="38916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4890960" y="3959280"/>
                  <a:ext cx="384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876720" y="3814920"/>
                  <a:ext cx="4622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410080" y="521496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0880" y="5214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5920" y="41608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425920" y="3224160"/>
                  <a:ext cx="2761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 flipV="1">
              <a:off x="4994640" y="3150720"/>
              <a:ext cx="86256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4895640" y="5264280"/>
                  <a:ext cx="3967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321400" y="5097600"/>
                  <a:ext cx="4269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00000" y="4581360"/>
                <a:ext cx="2664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sideremos una circunferencia de radio unitario (r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84360" y="2565000"/>
            <a:ext cx="8064360" cy="3742560"/>
            <a:chOff x="684360" y="2565000"/>
            <a:chExt cx="8064360" cy="3742560"/>
          </a:xfrm>
        </p:grpSpPr>
        <p:grpSp>
          <p:nvGrpSpPr>
            <p:cNvPr id="292" name=""/>
            <p:cNvGrpSpPr/>
            <p:nvPr/>
          </p:nvGrpSpPr>
          <p:grpSpPr>
            <a:xfrm>
              <a:off x="684360" y="2565000"/>
              <a:ext cx="8064360" cy="3742560"/>
              <a:chOff x="684360" y="2565000"/>
              <a:chExt cx="8064360" cy="37425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755880" y="2565000"/>
                <a:ext cx="4992840" cy="3742560"/>
                <a:chOff x="3755880" y="2565000"/>
                <a:chExt cx="4992840" cy="3742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5880" y="2947320"/>
                  <a:ext cx="3600720" cy="3360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5183280" y="2565000"/>
                  <a:ext cx="3565440" cy="2444040"/>
                  <a:chOff x="5183280" y="2565000"/>
                  <a:chExt cx="3565440" cy="24440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5556240" y="4550040"/>
                    <a:ext cx="295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5556240" y="2565000"/>
                    <a:ext cx="0" cy="19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556240" y="2946960"/>
                    <a:ext cx="2736720" cy="160236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99" name=""/>
                      <p:cNvSpPr txBox="1"/>
                      <p:nvPr/>
                    </p:nvSpPr>
                    <p:spPr>
                      <a:xfrm>
                        <a:off x="5987880" y="4191120"/>
                        <a:ext cx="360360" cy="358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0" name=""/>
                  <p:cNvSpPr/>
                  <p:nvPr/>
                </p:nvSpPr>
                <p:spPr>
                  <a:xfrm>
                    <a:off x="6061320" y="4169160"/>
                    <a:ext cx="43128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1" name=""/>
                      <p:cNvSpPr txBox="1"/>
                      <p:nvPr/>
                    </p:nvSpPr>
                    <p:spPr>
                      <a:xfrm>
                        <a:off x="5183280" y="4398480"/>
                        <a:ext cx="301680" cy="380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2" name=""/>
                      <p:cNvSpPr txBox="1"/>
                      <p:nvPr/>
                    </p:nvSpPr>
                    <p:spPr>
                      <a:xfrm>
                        <a:off x="7015320" y="3175920"/>
                        <a:ext cx="269640" cy="304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"/>
                      <p:cNvSpPr txBox="1"/>
                      <p:nvPr/>
                    </p:nvSpPr>
                    <p:spPr>
                      <a:xfrm>
                        <a:off x="5700600" y="2565360"/>
                        <a:ext cx="31752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4" name=""/>
                      <p:cNvSpPr txBox="1"/>
                      <p:nvPr/>
                    </p:nvSpPr>
                    <p:spPr>
                      <a:xfrm>
                        <a:off x="8435880" y="4627080"/>
                        <a:ext cx="31284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5" name=""/>
                  <p:cNvSpPr/>
                  <p:nvPr/>
                </p:nvSpPr>
                <p:spPr>
                  <a:xfrm flipH="1">
                    <a:off x="5556240" y="3709800"/>
                    <a:ext cx="151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68960" y="3709800"/>
                    <a:ext cx="0" cy="84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7" name=""/>
                      <p:cNvSpPr txBox="1"/>
                      <p:nvPr/>
                    </p:nvSpPr>
                    <p:spPr>
                      <a:xfrm>
                        <a:off x="6851520" y="4550040"/>
                        <a:ext cx="343080" cy="459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8" name=""/>
                      <p:cNvSpPr txBox="1"/>
                      <p:nvPr/>
                    </p:nvSpPr>
                    <p:spPr>
                      <a:xfrm>
                        <a:off x="5195880" y="3404880"/>
                        <a:ext cx="27468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9" name=""/>
                      <p:cNvSpPr txBox="1"/>
                      <p:nvPr/>
                    </p:nvSpPr>
                    <p:spPr>
                      <a:xfrm>
                        <a:off x="5756400" y="3787200"/>
                        <a:ext cx="591840" cy="319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310" name=""/>
              <p:cNvSpPr/>
              <p:nvPr/>
            </p:nvSpPr>
            <p:spPr>
              <a:xfrm flipV="1">
                <a:off x="2843280" y="5009760"/>
                <a:ext cx="1728720" cy="9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4360" y="3863160"/>
                <a:ext cx="3187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La hipotenusa de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triángulo rectángulo es r =1……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VEAMOS que pasa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H="1">
              <a:off x="6877080" y="4323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77080" y="432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8360" y="2060280"/>
            <a:ext cx="8279640" cy="3817080"/>
            <a:chOff x="468360" y="2060280"/>
            <a:chExt cx="8279640" cy="3817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468360" y="2323440"/>
                  <a:ext cx="3135240" cy="282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17" name=""/>
            <p:cNvGrpSpPr/>
            <p:nvPr/>
          </p:nvGrpSpPr>
          <p:grpSpPr>
            <a:xfrm>
              <a:off x="3756240" y="2060280"/>
              <a:ext cx="4991760" cy="3817080"/>
              <a:chOff x="3756240" y="2060280"/>
              <a:chExt cx="4991760" cy="38170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756240" y="2060280"/>
                <a:ext cx="4991760" cy="3817080"/>
                <a:chOff x="3756240" y="2060280"/>
                <a:chExt cx="4991760" cy="3817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756240" y="2450160"/>
                  <a:ext cx="3600360" cy="3427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5183280" y="2060280"/>
                  <a:ext cx="3564720" cy="2493000"/>
                  <a:chOff x="5183280" y="2060280"/>
                  <a:chExt cx="3564720" cy="2493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555880" y="4084920"/>
                    <a:ext cx="29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V="1">
                    <a:off x="5555880" y="2060280"/>
                    <a:ext cx="0" cy="202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555880" y="2450160"/>
                    <a:ext cx="2736360" cy="16344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4" name=""/>
                      <p:cNvSpPr txBox="1"/>
                      <p:nvPr/>
                    </p:nvSpPr>
                    <p:spPr>
                      <a:xfrm>
                        <a:off x="5987520" y="3718800"/>
                        <a:ext cx="360000" cy="3657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25" name=""/>
                  <p:cNvSpPr/>
                  <p:nvPr/>
                </p:nvSpPr>
                <p:spPr>
                  <a:xfrm>
                    <a:off x="6061320" y="3696840"/>
                    <a:ext cx="430560" cy="77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6" name=""/>
                      <p:cNvSpPr txBox="1"/>
                      <p:nvPr/>
                    </p:nvSpPr>
                    <p:spPr>
                      <a:xfrm>
                        <a:off x="5183280" y="3930480"/>
                        <a:ext cx="301320" cy="387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7" name=""/>
                      <p:cNvSpPr txBox="1"/>
                      <p:nvPr/>
                    </p:nvSpPr>
                    <p:spPr>
                      <a:xfrm>
                        <a:off x="7014960" y="2683440"/>
                        <a:ext cx="269280" cy="310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8" name=""/>
                      <p:cNvSpPr txBox="1"/>
                      <p:nvPr/>
                    </p:nvSpPr>
                    <p:spPr>
                      <a:xfrm>
                        <a:off x="5700240" y="2060640"/>
                        <a:ext cx="31716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9" name=""/>
                      <p:cNvSpPr txBox="1"/>
                      <p:nvPr/>
                    </p:nvSpPr>
                    <p:spPr>
                      <a:xfrm>
                        <a:off x="8435520" y="4163760"/>
                        <a:ext cx="31248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30" name=""/>
                  <p:cNvSpPr/>
                  <p:nvPr/>
                </p:nvSpPr>
                <p:spPr>
                  <a:xfrm flipH="1">
                    <a:off x="5555520" y="3227760"/>
                    <a:ext cx="151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068600" y="3227760"/>
                    <a:ext cx="0" cy="85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32" name=""/>
                      <p:cNvSpPr txBox="1"/>
                      <p:nvPr/>
                    </p:nvSpPr>
                    <p:spPr>
                      <a:xfrm>
                        <a:off x="6851160" y="4084920"/>
                        <a:ext cx="342720" cy="468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3" name=""/>
                      <p:cNvSpPr txBox="1"/>
                      <p:nvPr/>
                    </p:nvSpPr>
                    <p:spPr>
                      <a:xfrm>
                        <a:off x="5195520" y="2917080"/>
                        <a:ext cx="27432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4" name=""/>
                      <p:cNvSpPr txBox="1"/>
                      <p:nvPr/>
                    </p:nvSpPr>
                    <p:spPr>
                      <a:xfrm>
                        <a:off x="5756040" y="3306960"/>
                        <a:ext cx="591480" cy="326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6853320" y="3851280"/>
                <a:ext cx="215280" cy="233280"/>
                <a:chOff x="6853320" y="3851280"/>
                <a:chExt cx="215280" cy="23328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853320" y="3851280"/>
                  <a:ext cx="21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3320" y="3851280"/>
                  <a:ext cx="0" cy="23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 en los ángulos de los dibuj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560" y="2133720"/>
            <a:ext cx="8803080" cy="4367160"/>
            <a:chOff x="34560" y="2133720"/>
            <a:chExt cx="8803080" cy="4367160"/>
          </a:xfrm>
        </p:grpSpPr>
        <p:grpSp>
          <p:nvGrpSpPr>
            <p:cNvPr id="342" name=""/>
            <p:cNvGrpSpPr/>
            <p:nvPr/>
          </p:nvGrpSpPr>
          <p:grpSpPr>
            <a:xfrm>
              <a:off x="34560" y="3213360"/>
              <a:ext cx="8803080" cy="3168720"/>
              <a:chOff x="34560" y="3213360"/>
              <a:chExt cx="8803080" cy="3168720"/>
            </a:xfrm>
          </p:grpSpPr>
          <mc:AlternateContent>
            <mc:Choice xmlns:a14="http://schemas.microsoft.com/office/drawing/2010/main" Requires="a14">
              <p:sp>
                <p:nvSpPr>
                  <p:cNvPr id="343" name=""/>
                  <p:cNvSpPr txBox="1"/>
                  <p:nvPr/>
                </p:nvSpPr>
                <p:spPr>
                  <a:xfrm>
                    <a:off x="8548560" y="4959720"/>
                    <a:ext cx="2588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44" name=""/>
              <p:cNvGrpSpPr/>
              <p:nvPr/>
            </p:nvGrpSpPr>
            <p:grpSpPr>
              <a:xfrm>
                <a:off x="34560" y="3213360"/>
                <a:ext cx="8803080" cy="3168720"/>
                <a:chOff x="34560" y="3213360"/>
                <a:chExt cx="8803080" cy="31687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5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389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6389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389640" y="3794400"/>
                  <a:ext cx="1811160" cy="1100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9" name=""/>
                    <p:cNvSpPr txBox="1"/>
                    <p:nvPr/>
                  </p:nvSpPr>
                  <p:spPr>
                    <a:xfrm>
                      <a:off x="6746760" y="4656240"/>
                      <a:ext cx="298440" cy="303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0" name=""/>
                <p:cNvSpPr/>
                <p:nvPr/>
              </p:nvSpPr>
              <p:spPr>
                <a:xfrm>
                  <a:off x="6807600" y="4572360"/>
                  <a:ext cx="357840" cy="64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1" name=""/>
                    <p:cNvSpPr txBox="1"/>
                    <p:nvPr/>
                  </p:nvSpPr>
                  <p:spPr>
                    <a:xfrm>
                      <a:off x="6337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2" name=""/>
                    <p:cNvSpPr txBox="1"/>
                    <p:nvPr/>
                  </p:nvSpPr>
                  <p:spPr>
                    <a:xfrm>
                      <a:off x="7599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3" name=""/>
                    <p:cNvSpPr txBox="1"/>
                    <p:nvPr/>
                  </p:nvSpPr>
                  <p:spPr>
                    <a:xfrm>
                      <a:off x="6508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4" name=""/>
                <p:cNvSpPr/>
                <p:nvPr/>
              </p:nvSpPr>
              <p:spPr>
                <a:xfrm flipH="1">
                  <a:off x="6389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43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6" name=""/>
                    <p:cNvSpPr txBox="1"/>
                    <p:nvPr/>
                  </p:nvSpPr>
                  <p:spPr>
                    <a:xfrm>
                      <a:off x="7462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7" name=""/>
                    <p:cNvSpPr txBox="1"/>
                    <p:nvPr/>
                  </p:nvSpPr>
                  <p:spPr>
                    <a:xfrm>
                      <a:off x="6038640" y="3789720"/>
                      <a:ext cx="27972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8" name=""/>
                <p:cNvSpPr/>
                <p:nvPr/>
              </p:nvSpPr>
              <p:spPr>
                <a:xfrm flipH="1">
                  <a:off x="7463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64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5095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4618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4498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1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25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925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6" name=""/>
                    <p:cNvSpPr txBox="1"/>
                    <p:nvPr/>
                  </p:nvSpPr>
                  <p:spPr>
                    <a:xfrm>
                      <a:off x="1873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7" name=""/>
                    <p:cNvSpPr txBox="1"/>
                    <p:nvPr/>
                  </p:nvSpPr>
                  <p:spPr>
                    <a:xfrm>
                      <a:off x="3135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8" name=""/>
                    <p:cNvSpPr txBox="1"/>
                    <p:nvPr/>
                  </p:nvSpPr>
                  <p:spPr>
                    <a:xfrm>
                      <a:off x="2044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9" name=""/>
                    <p:cNvSpPr txBox="1"/>
                    <p:nvPr/>
                  </p:nvSpPr>
                  <p:spPr>
                    <a:xfrm>
                      <a:off x="4313160" y="4959720"/>
                      <a:ext cx="258840" cy="323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0" name=""/>
                <p:cNvSpPr/>
                <p:nvPr/>
              </p:nvSpPr>
              <p:spPr>
                <a:xfrm flipH="1">
                  <a:off x="1925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9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2" name=""/>
                    <p:cNvSpPr txBox="1"/>
                    <p:nvPr/>
                  </p:nvSpPr>
                  <p:spPr>
                    <a:xfrm>
                      <a:off x="2998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73" name=""/>
                    <p:cNvSpPr txBox="1"/>
                    <p:nvPr/>
                  </p:nvSpPr>
                  <p:spPr>
                    <a:xfrm>
                      <a:off x="1574640" y="3789720"/>
                      <a:ext cx="27936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4" name=""/>
                <p:cNvSpPr/>
                <p:nvPr/>
              </p:nvSpPr>
              <p:spPr>
                <a:xfrm flipH="1">
                  <a:off x="2999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00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631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154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34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9" name=""/>
                    <p:cNvSpPr txBox="1"/>
                    <p:nvPr/>
                  </p:nvSpPr>
                  <p:spPr>
                    <a:xfrm>
                      <a:off x="1977840" y="4510440"/>
                      <a:ext cx="328680" cy="431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β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0" name=""/>
                <p:cNvSpPr/>
                <p:nvPr/>
              </p:nvSpPr>
              <p:spPr>
                <a:xfrm flipV="1">
                  <a:off x="1906560" y="3646800"/>
                  <a:ext cx="431640" cy="1224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62560" y="4294440"/>
                  <a:ext cx="720000" cy="115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19280" y="4294440"/>
                  <a:ext cx="1005840" cy="86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86000" y="2133720"/>
                  <a:ext cx="360036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3149640" y="6021720"/>
                  <a:ext cx="201600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TRIGONOMETRI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433600" y="184464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1979640" y="3212640"/>
            <a:ext cx="5111640" cy="3456360"/>
            <a:chOff x="1979640" y="3212640"/>
            <a:chExt cx="5111640" cy="3456360"/>
          </a:xfrm>
        </p:grpSpPr>
        <p:sp>
          <p:nvSpPr>
            <p:cNvPr id="390" name=""/>
            <p:cNvSpPr/>
            <p:nvPr/>
          </p:nvSpPr>
          <p:spPr>
            <a:xfrm>
              <a:off x="2638440" y="356544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6764400" y="511812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"/>
            <p:cNvSpPr/>
            <p:nvPr/>
          </p:nvSpPr>
          <p:spPr>
            <a:xfrm>
              <a:off x="4325760" y="504648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325760" y="321264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325760" y="384624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729320" y="4676760"/>
              <a:ext cx="472320" cy="701640"/>
              <a:chOff x="4729320" y="467676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396" name=""/>
                  <p:cNvSpPr txBox="1"/>
                  <p:nvPr/>
                </p:nvSpPr>
                <p:spPr>
                  <a:xfrm>
                    <a:off x="4729320" y="476856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7" name=""/>
              <p:cNvSpPr/>
              <p:nvPr/>
            </p:nvSpPr>
            <p:spPr>
              <a:xfrm>
                <a:off x="4797000" y="467676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49840" y="470520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5692680" y="377820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460760" y="321300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 flipH="1">
              <a:off x="4325760" y="427032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42000" y="427032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538960" y="504648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929040" y="384156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 flipH="1">
              <a:off x="5540400" y="483372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0400" y="4833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88800" y="504648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1979640" y="511812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"/>
            <p:cNvSpPr/>
            <p:nvPr/>
          </p:nvSpPr>
          <p:spPr>
            <a:xfrm>
              <a:off x="4338720" y="501804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4716360" y="508608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5221800" y="508464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elaciones trigonométrica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50920" y="1773360"/>
            <a:ext cx="8881200" cy="4605480"/>
            <a:chOff x="250920" y="1773360"/>
            <a:chExt cx="8881200" cy="4605480"/>
          </a:xfrm>
        </p:grpSpPr>
        <p:grpSp>
          <p:nvGrpSpPr>
            <p:cNvPr id="416" name=""/>
            <p:cNvGrpSpPr/>
            <p:nvPr/>
          </p:nvGrpSpPr>
          <p:grpSpPr>
            <a:xfrm>
              <a:off x="250920" y="1773360"/>
              <a:ext cx="4321080" cy="1952640"/>
              <a:chOff x="25092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17" name=""/>
                  <p:cNvSpPr txBox="1"/>
                  <p:nvPr/>
                </p:nvSpPr>
                <p:spPr>
                  <a:xfrm>
                    <a:off x="25092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8" name=""/>
                  <p:cNvSpPr txBox="1"/>
                  <p:nvPr/>
                </p:nvSpPr>
                <p:spPr>
                  <a:xfrm>
                    <a:off x="39528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9" name=""/>
            <p:cNvGrpSpPr/>
            <p:nvPr/>
          </p:nvGrpSpPr>
          <p:grpSpPr>
            <a:xfrm>
              <a:off x="1697040" y="2626920"/>
              <a:ext cx="7435080" cy="3751920"/>
              <a:chOff x="1697040" y="2626920"/>
              <a:chExt cx="7435080" cy="375192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4140360" y="2626920"/>
                <a:ext cx="4991760" cy="3751920"/>
                <a:chOff x="4140360" y="2626920"/>
                <a:chExt cx="4991760" cy="37519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4140360" y="2626920"/>
                  <a:ext cx="4991760" cy="3751920"/>
                  <a:chOff x="4140360" y="2626920"/>
                  <a:chExt cx="4991760" cy="37519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414036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567400" y="2626920"/>
                    <a:ext cx="3564720" cy="2450160"/>
                    <a:chOff x="5567400" y="2626920"/>
                    <a:chExt cx="3564720" cy="24501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94000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V="1">
                      <a:off x="594000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V="1">
                      <a:off x="594000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7" name=""/>
                        <p:cNvSpPr txBox="1"/>
                        <p:nvPr/>
                      </p:nvSpPr>
                      <p:spPr>
                        <a:xfrm>
                          <a:off x="637164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44544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9" name=""/>
                        <p:cNvSpPr txBox="1"/>
                        <p:nvPr/>
                      </p:nvSpPr>
                      <p:spPr>
                        <a:xfrm>
                          <a:off x="556740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0" name=""/>
                        <p:cNvSpPr txBox="1"/>
                        <p:nvPr/>
                      </p:nvSpPr>
                      <p:spPr>
                        <a:xfrm>
                          <a:off x="739908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1" name=""/>
                        <p:cNvSpPr txBox="1"/>
                        <p:nvPr/>
                      </p:nvSpPr>
                      <p:spPr>
                        <a:xfrm>
                          <a:off x="608436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2" name=""/>
                        <p:cNvSpPr txBox="1"/>
                        <p:nvPr/>
                      </p:nvSpPr>
                      <p:spPr>
                        <a:xfrm>
                          <a:off x="881964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93964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45272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35" name=""/>
                        <p:cNvSpPr txBox="1"/>
                        <p:nvPr/>
                      </p:nvSpPr>
                      <p:spPr>
                        <a:xfrm>
                          <a:off x="723528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6" name=""/>
                        <p:cNvSpPr txBox="1"/>
                        <p:nvPr/>
                      </p:nvSpPr>
                      <p:spPr>
                        <a:xfrm>
                          <a:off x="557964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7" name=""/>
                        <p:cNvSpPr txBox="1"/>
                        <p:nvPr/>
                      </p:nvSpPr>
                      <p:spPr>
                        <a:xfrm>
                          <a:off x="614016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37440" y="4387320"/>
                  <a:ext cx="215280" cy="228960"/>
                  <a:chOff x="7237440" y="4387320"/>
                  <a:chExt cx="215280" cy="2289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>
                    <a:off x="723744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3744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>
                <a:off x="169704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ignific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iángu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tr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metrí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Medida de triángulos"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meras aplicaciones: navegación, geodesia, astr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origen se remonta a las primeras matemáticas conocidas, en Egipto y Babilonia y la usaban para efectuar medidas en agricultura y en la construcción de las pirámid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00000" y="2401920"/>
                <a:ext cx="1008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igonometría es la parte de la geometría que se preocupa de las relaciones de los ángulos y los lados de los triángu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2800" spc="-1" strike="noStrike">
                <a:solidFill>
                  <a:srgbClr val="0000ff"/>
                </a:solidFill>
                <a:latin typeface="Arial"/>
              </a:rPr>
              <a:t>NO TE OLVIDES!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Ángulo es la abertu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comprendida entre 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rectas que se unen en u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punto llamado vértice.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970520" y="3359160"/>
            <a:ext cx="3548160" cy="2836080"/>
            <a:chOff x="4970520" y="3359160"/>
            <a:chExt cx="3548160" cy="2836080"/>
          </a:xfrm>
        </p:grpSpPr>
        <p:grpSp>
          <p:nvGrpSpPr>
            <p:cNvPr id="60" name=""/>
            <p:cNvGrpSpPr/>
            <p:nvPr/>
          </p:nvGrpSpPr>
          <p:grpSpPr>
            <a:xfrm>
              <a:off x="5242680" y="3719520"/>
              <a:ext cx="2785320" cy="2475720"/>
              <a:chOff x="5242680" y="3719520"/>
              <a:chExt cx="2785320" cy="247572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5292720" y="3719520"/>
                <a:ext cx="2448000" cy="1224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92720" y="4943520"/>
                <a:ext cx="2735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42680" y="4367520"/>
                <a:ext cx="182736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42" y="354"/>
                    </a:moveTo>
                    <a:arcTo wR="10800" hR="10800" stAng="-4517672" swAng="33189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42" y="354"/>
                    </a:moveTo>
                    <a:arcTo wR="10800" hR="10800" stAng="-4517672" swAng="33189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300720" y="4511880"/>
                  <a:ext cx="274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970520" y="4799160"/>
                  <a:ext cx="249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788240" y="335916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8172360" y="4727520"/>
                  <a:ext cx="3463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435640" y="5446800"/>
                  <a:ext cx="23050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 </m:t>
                      </m:r>
                      <m:r>
                        <m:t xml:space="preserve">aο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es de 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332080"/>
            <a:ext cx="8712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Una de las formas de expresar los ángulos son los grados sexagesimales. Un ángulo recto tiene 90 grados sexagesimal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rados sexagesimales. 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i dividimos la circunferencia en 360 partes iguales, cada una se denomina grado sexagesimal. (El término sexagesimal significa que van de 60 en 60, es decir, 1º = 60´ (minutos);  1' = 60´´(segundos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Otra manera de expresar la magnitud de un ángulo son los radian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ntender bien el concepto, es conveniente recordar el significado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 la línea circular que rodea al ángulo por el extremo de dos segmento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di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Radianes. 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Se dice que un ángulo ß mide un radián (Rad.) si barre un arco de circunferencia de longitud igual al radio de la mis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elson Zamorano</cp:lastModifiedBy>
  <dcterms:modified xsi:type="dcterms:W3CDTF">2008-03-07T22:36:34Z</dcterms:modified>
  <cp:revision>113</cp:revision>
  <dc:subject/>
  <dc:title>FISICA I</dc:title>
</cp:coreProperties>
</file>