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4D7C-D1B2-4FBD-9E83-C8C916841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9671-9EF2-4A66-9AF3-B3FC6876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1484-C041-443E-9D5A-87957AF51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E06F-1A69-4AA4-9623-6AC1C6977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2683-2FB3-43EA-A968-2F73B3CD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E54B-3159-4900-9498-4A535FA0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8320-9FAB-4497-963B-BE96A85F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2F99-A601-437E-AF93-3B86102E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33B1-DD74-4C5D-9597-7882F60E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1A80-0D29-4C27-9053-30E0B96D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6AF7-1121-4AB4-BFB4-3F7359A0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0F86-CA9F-48AF-9013-4BFFAD28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0C15-7E76-4A44-B34E-3CC291445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 u="sng">
                <a:solidFill>
                  <a:srgbClr val="000000"/>
                </a:solidFill>
                <a:uFillTx/>
                <a:latin typeface="Arial"/>
              </a:rPr>
              <a:t>FISICA I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Arial"/>
              </a:rPr>
              <a:t>ESCUELA DE VERANO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Claudia Rahm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Equivalencia entre grados y radia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¿Cuántos radianes hay en una circunferencia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i="1" lang="en-US" sz="2700" spc="-1" strike="noStrike">
                <a:solidFill>
                  <a:srgbClr val="cc3300"/>
                </a:solidFill>
                <a:latin typeface="Arial"/>
              </a:rPr>
              <a:t>Un ángulo de 360º barre un arco de longitud igual a la longitud de la circunferencia, esto es, </a:t>
            </a:r>
            <a:r>
              <a:rPr b="0" i="1" lang="en-US" sz="27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i="1" lang="en-US" sz="27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i="1" lang="en-US" sz="27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i="1" lang="en-US" sz="27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i="1" lang="en-US" sz="2700" spc="-1" strike="noStrike">
                <a:solidFill>
                  <a:srgbClr val="cc33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cc3300"/>
                </a:solidFill>
                <a:latin typeface="Arial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cc33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i="1" lang="en-US" sz="2700" spc="-1" strike="noStrike">
                <a:solidFill>
                  <a:srgbClr val="cc3300"/>
                </a:solidFill>
                <a:latin typeface="Arial"/>
              </a:rPr>
              <a:t>es decir, el perímetro de una circunferencia es aproximadamente 6 veces el radio de la circunferencia</a:t>
            </a:r>
            <a:r>
              <a:rPr b="0" lang="en-US" sz="27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cc3300"/>
                </a:solidFill>
                <a:latin typeface="Arial"/>
              </a:rPr>
              <a:t> 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6666ff"/>
                </a:solidFill>
                <a:latin typeface="Arial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855880" y="3886200"/>
                <a:ext cx="32288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≈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Equivalencia entre grados y radia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i="1" lang="es-ES" sz="2500" spc="-1" strike="noStrike">
                <a:solidFill>
                  <a:srgbClr val="cc3300"/>
                </a:solidFill>
                <a:latin typeface="Arial"/>
              </a:rPr>
              <a:t>O más exacto… en un giro completo hay 6,28 </a:t>
            </a:r>
            <a:r>
              <a:rPr b="1" i="1" lang="es-ES" sz="2500" spc="-1" strike="noStrike">
                <a:solidFill>
                  <a:srgbClr val="cc3300"/>
                </a:solidFill>
                <a:latin typeface="Arial"/>
              </a:rPr>
              <a:t>radianes</a:t>
            </a:r>
            <a:r>
              <a:rPr b="0" i="1" lang="es-ES" sz="2500" spc="-1" strike="noStrike">
                <a:solidFill>
                  <a:srgbClr val="cc3300"/>
                </a:solidFill>
                <a:latin typeface="Arial"/>
              </a:rPr>
              <a:t>….</a:t>
            </a:r>
            <a:r>
              <a:rPr b="0" lang="es-ES" sz="2500" spc="-1" strike="noStrike">
                <a:solidFill>
                  <a:srgbClr val="cc3300"/>
                </a:solidFill>
                <a:latin typeface="Arial"/>
              </a:rPr>
              <a:t> Por lo cu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6666ff"/>
                </a:solidFill>
                <a:latin typeface="Arial"/>
              </a:rPr>
              <a:t>    </a:t>
            </a:r>
            <a:r>
              <a:rPr b="0" i="1" lang="es-ES" sz="2500" spc="-1" strike="noStrike">
                <a:solidFill>
                  <a:srgbClr val="6666ff"/>
                </a:solidFill>
                <a:latin typeface="Arial"/>
              </a:rPr>
              <a:t>360º =           Radian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924360" y="2638440"/>
            <a:ext cx="5040360" cy="3311640"/>
            <a:chOff x="3924360" y="2638440"/>
            <a:chExt cx="5040360" cy="3311640"/>
          </a:xfrm>
        </p:grpSpPr>
        <mc:AlternateContent>
          <mc:Choice xmlns:a14="http://schemas.microsoft.com/office/drawing/2010/main" Requires="a14">
            <p:sp>
              <p:nvSpPr>
                <p:cNvPr id="88" name=""/>
                <p:cNvSpPr txBox="1"/>
                <p:nvPr/>
              </p:nvSpPr>
              <p:spPr>
                <a:xfrm>
                  <a:off x="7093080" y="2638440"/>
                  <a:ext cx="3603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4789800" y="4122720"/>
                  <a:ext cx="64764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36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90" name=""/>
            <p:cNvGrpSpPr/>
            <p:nvPr/>
          </p:nvGrpSpPr>
          <p:grpSpPr>
            <a:xfrm>
              <a:off x="3924360" y="2781360"/>
              <a:ext cx="5040360" cy="3168720"/>
              <a:chOff x="3924360" y="2781360"/>
              <a:chExt cx="5040360" cy="3168720"/>
            </a:xfrm>
          </p:grpSpPr>
          <p:sp>
            <p:nvSpPr>
              <p:cNvPr id="91" name=""/>
              <p:cNvSpPr/>
              <p:nvPr/>
            </p:nvSpPr>
            <p:spPr>
              <a:xfrm>
                <a:off x="3924360" y="2781360"/>
                <a:ext cx="3600360" cy="31687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5724720" y="3285720"/>
                <a:ext cx="3240000" cy="107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740720" y="2997360"/>
                <a:ext cx="28908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 flipV="1">
                <a:off x="8245440" y="3645000"/>
                <a:ext cx="21600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5724720" y="3141720"/>
                <a:ext cx="3024000" cy="12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4645080" y="4149720"/>
                  <a:ext cx="792360" cy="64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36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7" name=""/>
          <p:cNvGrpSpPr/>
          <p:nvPr/>
        </p:nvGrpSpPr>
        <p:grpSpPr>
          <a:xfrm>
            <a:off x="179280" y="3029040"/>
            <a:ext cx="3433320" cy="2922480"/>
            <a:chOff x="179280" y="3029040"/>
            <a:chExt cx="3433320" cy="2922480"/>
          </a:xfrm>
        </p:grpSpPr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470520" y="4472640"/>
                  <a:ext cx="152640" cy="23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179280" y="5149080"/>
                  <a:ext cx="720360" cy="80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1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radián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360</m:t>
                              </m:r>
                              <m:r>
                                <m:t xml:space="preserve">°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80</m:t>
                              </m:r>
                              <m:r>
                                <m:t xml:space="preserve">°</m:t>
                              </m:r>
                            </m:num>
                            <m:den>
                              <m:r>
                                <m:t xml:space="preserve">π</m:t>
                              </m:r>
                            </m:den>
                          </m:f>
                        </m:e>
                        <m:e>
                          <m:r>
                            <m:t xml:space="preserve">1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radián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57</m:t>
                          </m:r>
                          <m:r>
                            <m:t xml:space="preserve">,</m:t>
                          </m:r>
                          <m:r>
                            <m:t xml:space="preserve">3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00" name=""/>
            <p:cNvSpPr/>
            <p:nvPr/>
          </p:nvSpPr>
          <p:spPr>
            <a:xfrm>
              <a:off x="557640" y="3029040"/>
              <a:ext cx="3054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6666ff"/>
                  </a:solidFill>
                  <a:latin typeface="Arial"/>
                </a:rPr>
                <a:t>180º  =       Rad.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508680" y="4748040"/>
                  <a:ext cx="11556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Áng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2400" spc="-1" strike="noStrike">
                <a:solidFill>
                  <a:srgbClr val="0000ff"/>
                </a:solidFill>
                <a:latin typeface="Arial"/>
              </a:rPr>
              <a:t>RECUERDA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s-MX" sz="2400" spc="-1" strike="noStrike">
                <a:solidFill>
                  <a:srgbClr val="0000ff"/>
                </a:solidFill>
                <a:latin typeface="Arial"/>
              </a:rPr>
              <a:t>Los ángulos los puedes medir en grados, minutos y segundo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eamos como se “pasa” de una a otra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8º  30'  36'' = 8º  30'  36/60' = 8º  30'  0,6' = 8º 30,6' =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= 8º  30,6/60º = 8º  0,51º = </a:t>
            </a:r>
            <a:r>
              <a:rPr b="0" lang="es-ES" sz="2400" spc="-1" strike="noStrike">
                <a:solidFill>
                  <a:srgbClr val="cc3300"/>
                </a:solidFill>
                <a:latin typeface="Arial"/>
              </a:rPr>
              <a:t>8,51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8'51º = 8º 0,51·60' = 8º 30,6' = 8º  30'  0,6·60'' =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= </a:t>
            </a:r>
            <a:r>
              <a:rPr b="0" lang="es-ES" sz="2400" spc="-1" strike="noStrike">
                <a:solidFill>
                  <a:srgbClr val="cc3300"/>
                </a:solidFill>
                <a:latin typeface="Arial"/>
              </a:rPr>
              <a:t>8º  30'  36''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riángulos rectáng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332000" y="2133720"/>
            <a:ext cx="6334920" cy="4017600"/>
            <a:chOff x="1332000" y="2133720"/>
            <a:chExt cx="6334920" cy="4017600"/>
          </a:xfrm>
        </p:grpSpPr>
        <p:sp>
          <p:nvSpPr>
            <p:cNvPr id="109" name=""/>
            <p:cNvSpPr/>
            <p:nvPr/>
          </p:nvSpPr>
          <p:spPr>
            <a:xfrm>
              <a:off x="5327640" y="5098320"/>
              <a:ext cx="233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99"/>
                  </a:solidFill>
                  <a:latin typeface="Arial"/>
                </a:rPr>
                <a:t>Cateto adyacente 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32000" y="2133720"/>
              <a:ext cx="224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99"/>
                  </a:solidFill>
                  <a:latin typeface="Arial"/>
                </a:rPr>
                <a:t>Cateto opuesto a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3660120" y="3015720"/>
              <a:ext cx="2561760" cy="1938960"/>
              <a:chOff x="3660120" y="3015720"/>
              <a:chExt cx="2561760" cy="1938960"/>
            </a:xfrm>
          </p:grpSpPr>
          <p:grpSp>
            <p:nvGrpSpPr>
              <p:cNvPr id="112" name=""/>
              <p:cNvGrpSpPr/>
              <p:nvPr/>
            </p:nvGrpSpPr>
            <p:grpSpPr>
              <a:xfrm>
                <a:off x="4075200" y="3015720"/>
                <a:ext cx="2146680" cy="1571760"/>
                <a:chOff x="4075200" y="3015720"/>
                <a:chExt cx="2146680" cy="157176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4075200" y="3015720"/>
                  <a:ext cx="0" cy="157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075200" y="4587480"/>
                  <a:ext cx="2146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4075200" y="3015720"/>
                  <a:ext cx="2146680" cy="157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116" name=""/>
                  <p:cNvSpPr txBox="1"/>
                  <p:nvPr/>
                </p:nvSpPr>
                <p:spPr>
                  <a:xfrm>
                    <a:off x="3660120" y="3645000"/>
                    <a:ext cx="239400" cy="209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7" name=""/>
                  <p:cNvSpPr txBox="1"/>
                  <p:nvPr/>
                </p:nvSpPr>
                <p:spPr>
                  <a:xfrm>
                    <a:off x="4905720" y="4692600"/>
                    <a:ext cx="236520" cy="262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8" name=""/>
                  <p:cNvSpPr txBox="1"/>
                  <p:nvPr/>
                </p:nvSpPr>
                <p:spPr>
                  <a:xfrm>
                    <a:off x="5252400" y="3488040"/>
                    <a:ext cx="276120" cy="26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c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9" name=""/>
              <p:cNvSpPr/>
              <p:nvPr/>
            </p:nvSpPr>
            <p:spPr>
              <a:xfrm>
                <a:off x="4075200" y="44301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282920" y="4430160"/>
                <a:ext cx="0" cy="15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2207520" y="3614760"/>
                  <a:ext cx="11775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ateto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5702040" y="3368160"/>
                  <a:ext cx="173088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ipotenus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3" name=""/>
                <p:cNvSpPr txBox="1"/>
                <p:nvPr/>
              </p:nvSpPr>
              <p:spPr>
                <a:xfrm>
                  <a:off x="5542200" y="4324680"/>
                  <a:ext cx="264240" cy="26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4" name=""/>
            <p:cNvSpPr/>
            <p:nvPr/>
          </p:nvSpPr>
          <p:spPr>
            <a:xfrm flipH="1">
              <a:off x="5322600" y="4219560"/>
              <a:ext cx="691920" cy="73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5322600" y="4743720"/>
              <a:ext cx="753840" cy="27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3195360" y="2507400"/>
                  <a:ext cx="621360" cy="41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7" name=""/>
            <p:cNvSpPr/>
            <p:nvPr/>
          </p:nvSpPr>
          <p:spPr>
            <a:xfrm>
              <a:off x="3591360" y="2857680"/>
              <a:ext cx="415440" cy="52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5839920" y="5820840"/>
                  <a:ext cx="50040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ecordemo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803160" y="2362320"/>
            <a:ext cx="7153200" cy="3009960"/>
            <a:chOff x="803160" y="2362320"/>
            <a:chExt cx="7153200" cy="3009960"/>
          </a:xfrm>
        </p:grpSpPr>
        <mc:AlternateContent>
          <mc:Choice xmlns:a14="http://schemas.microsoft.com/office/drawing/2010/main" Requires="a14">
            <p:sp>
              <p:nvSpPr>
                <p:cNvPr id="132" name=""/>
                <p:cNvSpPr txBox="1"/>
                <p:nvPr/>
              </p:nvSpPr>
              <p:spPr>
                <a:xfrm>
                  <a:off x="803160" y="2362320"/>
                  <a:ext cx="3940200" cy="292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se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β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CO</m:t>
                              </m:r>
                            </m:num>
                            <m:den>
                              <m:r>
                                <m:t xml:space="preserve">H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a</m:t>
                              </m:r>
                            </m:num>
                            <m:den>
                              <m:r>
                                <m:t xml:space="preserve">c</m:t>
                              </m:r>
                            </m:den>
                          </m:f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β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CA</m:t>
                              </m:r>
                            </m:num>
                            <m:den>
                              <m:r>
                                <m:t xml:space="preserve">H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b</m:t>
                              </m:r>
                            </m:num>
                            <m:den>
                              <m:r>
                                <m:t xml:space="preserve">c</m:t>
                              </m:r>
                            </m:den>
                          </m:f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β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CO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CA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a</m:t>
                              </m:r>
                            </m:num>
                            <m:den>
                              <m:r>
                                <m:t xml:space="preserve">b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β</m:t>
                                  </m:r>
                                </m:e>
                              </m:d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β</m:t>
                                  </m:r>
                                </m:e>
                              </m:d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33" name=""/>
            <p:cNvGrpSpPr/>
            <p:nvPr/>
          </p:nvGrpSpPr>
          <p:grpSpPr>
            <a:xfrm>
              <a:off x="5292720" y="2706840"/>
              <a:ext cx="2663640" cy="2665440"/>
              <a:chOff x="5292720" y="2706840"/>
              <a:chExt cx="2663640" cy="266544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5292720" y="2706840"/>
                <a:ext cx="2663640" cy="2665440"/>
                <a:chOff x="5292720" y="2706840"/>
                <a:chExt cx="2663640" cy="2665440"/>
              </a:xfrm>
            </p:grpSpPr>
            <p:grpSp>
              <p:nvGrpSpPr>
                <p:cNvPr id="135" name=""/>
                <p:cNvGrpSpPr/>
                <p:nvPr/>
              </p:nvGrpSpPr>
              <p:grpSpPr>
                <a:xfrm>
                  <a:off x="5724360" y="2706840"/>
                  <a:ext cx="2232000" cy="2160360"/>
                  <a:chOff x="5724360" y="2706840"/>
                  <a:chExt cx="2232000" cy="216036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5724360" y="2706840"/>
                    <a:ext cx="0" cy="2160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5724360" y="4867200"/>
                    <a:ext cx="2232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5724360" y="2706840"/>
                    <a:ext cx="2232000" cy="2160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mc:AlternateContent>
              <mc:Choice xmlns:a14="http://schemas.microsoft.com/office/drawing/2010/main" Requires="a14">
                <p:sp>
                  <p:nvSpPr>
                    <p:cNvPr id="139" name=""/>
                    <p:cNvSpPr txBox="1"/>
                    <p:nvPr/>
                  </p:nvSpPr>
                  <p:spPr>
                    <a:xfrm>
                      <a:off x="5292720" y="3571920"/>
                      <a:ext cx="249120" cy="287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a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40" name=""/>
                    <p:cNvSpPr txBox="1"/>
                    <p:nvPr/>
                  </p:nvSpPr>
                  <p:spPr>
                    <a:xfrm>
                      <a:off x="6588000" y="5011920"/>
                      <a:ext cx="246240" cy="360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b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41" name=""/>
                    <p:cNvSpPr txBox="1"/>
                    <p:nvPr/>
                  </p:nvSpPr>
                  <p:spPr>
                    <a:xfrm>
                      <a:off x="6948360" y="3356280"/>
                      <a:ext cx="287280" cy="3585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c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42" name=""/>
                <p:cNvSpPr/>
                <p:nvPr/>
              </p:nvSpPr>
              <p:spPr>
                <a:xfrm>
                  <a:off x="5724360" y="4651560"/>
                  <a:ext cx="21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940360" y="4651560"/>
                  <a:ext cx="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144" name=""/>
                  <p:cNvSpPr txBox="1"/>
                  <p:nvPr/>
                </p:nvSpPr>
                <p:spPr>
                  <a:xfrm>
                    <a:off x="7381800" y="4506840"/>
                    <a:ext cx="274680" cy="360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β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5" name=""/>
              <p:cNvSpPr/>
              <p:nvPr/>
            </p:nvSpPr>
            <p:spPr>
              <a:xfrm flipH="1">
                <a:off x="7093080" y="4362480"/>
                <a:ext cx="720000" cy="10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eorema de Pitágo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En un triángulo rectángulo la suma de los cuadrados de los catetos (los lados que forman el ángulo recto) es igual al cuadrado de la hipotenusa (el otro lado).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620720" y="3787920"/>
            <a:ext cx="6480000" cy="2665440"/>
            <a:chOff x="1620720" y="3787920"/>
            <a:chExt cx="6480000" cy="2665440"/>
          </a:xfrm>
        </p:grpSpPr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1620720" y="4653000"/>
                  <a:ext cx="2232000" cy="56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153" name=""/>
            <p:cNvGrpSpPr/>
            <p:nvPr/>
          </p:nvGrpSpPr>
          <p:grpSpPr>
            <a:xfrm>
              <a:off x="5437080" y="3787920"/>
              <a:ext cx="2663640" cy="2665440"/>
              <a:chOff x="5437080" y="3787920"/>
              <a:chExt cx="2663640" cy="266544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5868720" y="3787920"/>
                <a:ext cx="2232000" cy="2160360"/>
                <a:chOff x="5868720" y="3787920"/>
                <a:chExt cx="2232000" cy="21603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5868720" y="3787920"/>
                  <a:ext cx="0" cy="216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868720" y="5948280"/>
                  <a:ext cx="2232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868720" y="3787920"/>
                  <a:ext cx="2232000" cy="216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158" name=""/>
                  <p:cNvSpPr txBox="1"/>
                  <p:nvPr/>
                </p:nvSpPr>
                <p:spPr>
                  <a:xfrm>
                    <a:off x="5437080" y="4653000"/>
                    <a:ext cx="249120" cy="287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9" name=""/>
                  <p:cNvSpPr txBox="1"/>
                  <p:nvPr/>
                </p:nvSpPr>
                <p:spPr>
                  <a:xfrm>
                    <a:off x="6732360" y="6093000"/>
                    <a:ext cx="246240" cy="360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0" name=""/>
                  <p:cNvSpPr txBox="1"/>
                  <p:nvPr/>
                </p:nvSpPr>
                <p:spPr>
                  <a:xfrm>
                    <a:off x="7092720" y="4437360"/>
                    <a:ext cx="287280" cy="358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c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1" name=""/>
              <p:cNvSpPr/>
              <p:nvPr/>
            </p:nvSpPr>
            <p:spPr>
              <a:xfrm>
                <a:off x="5868720" y="573264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084720" y="573264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eorema del Se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Los lados de un triángulo son proporcionales a los senos de los ángulos opuestos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187280" y="3357720"/>
                <a:ext cx="30956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932360" y="3390840"/>
            <a:ext cx="36003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eorema del Cose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El cuadrado de un lado es igual a la suma de los cuadrados de los otros lados menos el doble del producto de estos lados por el coseno del ángulo comprendid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826920" y="4232160"/>
            <a:ext cx="3673800" cy="1514520"/>
            <a:chOff x="826920" y="4232160"/>
            <a:chExt cx="3673800" cy="1514520"/>
          </a:xfrm>
        </p:grpSpPr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826920" y="4232160"/>
                  <a:ext cx="36738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t xml:space="preserve">c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826920" y="4797360"/>
                  <a:ext cx="360072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c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826920" y="5300640"/>
                  <a:ext cx="3600720" cy="4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C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219640" y="3411360"/>
            <a:ext cx="345600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uclides...5</a:t>
            </a:r>
            <a:r>
              <a:rPr b="0" lang="es-MX" sz="4400" spc="-1" strike="noStrike" baseline="30000">
                <a:solidFill>
                  <a:srgbClr val="000000"/>
                </a:solidFill>
                <a:latin typeface="Arial"/>
              </a:rPr>
              <a:t>to </a:t>
            </a: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ostul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4681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Sean r</a:t>
            </a:r>
            <a:r>
              <a:rPr b="0" i="1" lang="en-US" sz="2500" spc="-1" strike="noStrike" baseline="-25000">
                <a:solidFill>
                  <a:srgbClr val="0000ff"/>
                </a:solidFill>
                <a:latin typeface="Arial"/>
              </a:rPr>
              <a:t>1 y</a:t>
            </a: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 r</a:t>
            </a:r>
            <a:r>
              <a:rPr b="0" i="1" lang="en-US" sz="25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 dos rectas cortadas por una secante en los puntos B y C respectivamente. Si D en r</a:t>
            </a:r>
            <a:r>
              <a:rPr b="0" i="1" lang="en-US" sz="25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 y A en r</a:t>
            </a:r>
            <a:r>
              <a:rPr b="0" i="1" lang="en-US" sz="2500" spc="-1" strike="noStrike" baseline="-25000">
                <a:solidFill>
                  <a:srgbClr val="0000ff"/>
                </a:solidFill>
                <a:latin typeface="Arial"/>
              </a:rPr>
              <a:t>1 </a:t>
            </a: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yacen en lados opuestos con respecto a BC, y los ángulos ABC y BCD son iguales, </a:t>
            </a:r>
            <a:r>
              <a:rPr b="0" i="1" lang="en-US" sz="2500" spc="-1" strike="noStrike">
                <a:solidFill>
                  <a:srgbClr val="ff3300"/>
                </a:solidFill>
                <a:latin typeface="Arial"/>
              </a:rPr>
              <a:t>ENTONCES</a:t>
            </a: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 las rectas r</a:t>
            </a:r>
            <a:r>
              <a:rPr b="0" i="1" lang="en-US" sz="25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 y r</a:t>
            </a:r>
            <a:r>
              <a:rPr b="0" i="1" lang="en-US" sz="25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 son paralel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os ángulos ABC y BCD se dicen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alternos interno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859280" y="2421000"/>
            <a:ext cx="3664080" cy="3612600"/>
            <a:chOff x="4859280" y="2421000"/>
            <a:chExt cx="3664080" cy="3612600"/>
          </a:xfrm>
        </p:grpSpPr>
        <p:sp>
          <p:nvSpPr>
            <p:cNvPr id="189" name=""/>
            <p:cNvSpPr/>
            <p:nvPr/>
          </p:nvSpPr>
          <p:spPr>
            <a:xfrm flipH="1">
              <a:off x="4944960" y="3236760"/>
              <a:ext cx="3355920" cy="48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859280" y="4427280"/>
              <a:ext cx="3355920" cy="48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6170400" y="2827080"/>
              <a:ext cx="688680" cy="318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6656400" y="2421000"/>
                  <a:ext cx="276120" cy="32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8242200" y="3993840"/>
                  <a:ext cx="281160" cy="40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8242200" y="2696760"/>
                  <a:ext cx="244440" cy="40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5" name=""/>
                <p:cNvSpPr txBox="1"/>
                <p:nvPr/>
              </p:nvSpPr>
              <p:spPr>
                <a:xfrm>
                  <a:off x="6356520" y="3562200"/>
                  <a:ext cx="288720" cy="27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6572160" y="4354200"/>
                  <a:ext cx="287280" cy="26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7" name=""/>
            <p:cNvSpPr/>
            <p:nvPr/>
          </p:nvSpPr>
          <p:spPr>
            <a:xfrm>
              <a:off x="6069240" y="4282920"/>
              <a:ext cx="100584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6283440" y="3201480"/>
              <a:ext cx="720000" cy="71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7089840" y="5578200"/>
                  <a:ext cx="792000" cy="45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//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5002200" y="3344400"/>
                  <a:ext cx="271440" cy="28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6802560" y="3489120"/>
                  <a:ext cx="271440" cy="28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6127920" y="4425480"/>
                  <a:ext cx="24264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7954920" y="4497120"/>
                  <a:ext cx="287280" cy="28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ales de Mile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dadbc3"/>
                </a:solidFill>
                <a:latin typeface="Arial"/>
              </a:rPr>
              <a:t>“</a:t>
            </a:r>
            <a:r>
              <a:rPr b="0" i="1" lang="es-MX" sz="2500" spc="-1" strike="noStrike">
                <a:solidFill>
                  <a:srgbClr val="dadbc3"/>
                </a:solidFill>
                <a:latin typeface="Arial"/>
              </a:rPr>
              <a:t>El espacio es la más gran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dadbc3"/>
                </a:solidFill>
                <a:latin typeface="Arial"/>
              </a:rPr>
              <a:t>de todas las cosas, porque contien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dadbc3"/>
                </a:solidFill>
                <a:latin typeface="Arial"/>
              </a:rPr>
              <a:t>todo lo que ha sido creado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Filósofo, astrónomo 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matemático griego naci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en Mileto en e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año 624 AC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867280" y="3645000"/>
            <a:ext cx="21654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748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Geomet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inemá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iná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843280" y="2200320"/>
            <a:ext cx="865080" cy="2597040"/>
            <a:chOff x="2843280" y="2200320"/>
            <a:chExt cx="865080" cy="2597040"/>
          </a:xfrm>
        </p:grpSpPr>
        <mc:AlternateContent>
          <mc:Choice xmlns:a14="http://schemas.microsoft.com/office/drawing/2010/main" Requires="a14">
            <p:sp>
              <p:nvSpPr>
                <p:cNvPr id="46" name=""/>
                <p:cNvSpPr txBox="1"/>
                <p:nvPr/>
              </p:nvSpPr>
              <p:spPr>
                <a:xfrm>
                  <a:off x="2916360" y="3208320"/>
                  <a:ext cx="73656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" name=""/>
                <p:cNvSpPr txBox="1"/>
                <p:nvPr/>
              </p:nvSpPr>
              <p:spPr>
                <a:xfrm>
                  <a:off x="2987640" y="2200320"/>
                  <a:ext cx="72072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" name=""/>
                <p:cNvSpPr txBox="1"/>
                <p:nvPr/>
              </p:nvSpPr>
              <p:spPr>
                <a:xfrm>
                  <a:off x="2843280" y="4216320"/>
                  <a:ext cx="792000" cy="58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→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eorema de Tales de Mile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8355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ff"/>
                </a:solidFill>
                <a:latin typeface="Arial"/>
              </a:rPr>
              <a:t>Una familia de rectas paralelas, r</a:t>
            </a:r>
            <a:r>
              <a:rPr b="0" i="1" lang="en-US" sz="27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i="1" lang="en-US" sz="2700" spc="-1" strike="noStrike">
                <a:solidFill>
                  <a:srgbClr val="0000ff"/>
                </a:solidFill>
                <a:latin typeface="Arial"/>
              </a:rPr>
              <a:t>, r</a:t>
            </a:r>
            <a:r>
              <a:rPr b="0" i="1" lang="en-US" sz="27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700" spc="-1" strike="noStrike">
                <a:solidFill>
                  <a:srgbClr val="0000ff"/>
                </a:solidFill>
                <a:latin typeface="Arial"/>
              </a:rPr>
              <a:t>, r</a:t>
            </a:r>
            <a:r>
              <a:rPr b="0" i="1" lang="en-US" sz="27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i="1" lang="en-US" sz="2700" spc="-1" strike="noStrike">
                <a:solidFill>
                  <a:srgbClr val="0000ff"/>
                </a:solidFill>
                <a:latin typeface="Arial"/>
              </a:rPr>
              <a:t>,…, que cortan a dos rectas concurrentes, s y t, determinan en ellas segmentos proporcionales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580000" y="2349360"/>
            <a:ext cx="2952360" cy="3240000"/>
            <a:chOff x="5580000" y="2349360"/>
            <a:chExt cx="2952360" cy="3240000"/>
          </a:xfrm>
        </p:grpSpPr>
        <p:grpSp>
          <p:nvGrpSpPr>
            <p:cNvPr id="221" name=""/>
            <p:cNvGrpSpPr/>
            <p:nvPr/>
          </p:nvGrpSpPr>
          <p:grpSpPr>
            <a:xfrm>
              <a:off x="5580000" y="2349360"/>
              <a:ext cx="2952360" cy="3240000"/>
              <a:chOff x="5580000" y="2349360"/>
              <a:chExt cx="2952360" cy="3240000"/>
            </a:xfrm>
          </p:grpSpPr>
          <p:sp>
            <p:nvSpPr>
              <p:cNvPr id="222" name=""/>
              <p:cNvSpPr/>
              <p:nvPr/>
            </p:nvSpPr>
            <p:spPr>
              <a:xfrm flipH="1">
                <a:off x="5724360" y="3141720"/>
                <a:ext cx="280800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5652720" y="3646440"/>
                <a:ext cx="280800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5580000" y="4149720"/>
                <a:ext cx="280800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6202080" y="2349360"/>
                <a:ext cx="1610640" cy="3240000"/>
                <a:chOff x="6202080" y="2349360"/>
                <a:chExt cx="1610640" cy="3240000"/>
              </a:xfrm>
            </p:grpSpPr>
            <p:sp>
              <p:nvSpPr>
                <p:cNvPr id="226" name=""/>
                <p:cNvSpPr/>
                <p:nvPr/>
              </p:nvSpPr>
              <p:spPr>
                <a:xfrm flipH="1">
                  <a:off x="6226920" y="2781000"/>
                  <a:ext cx="575640" cy="2808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308360" y="2709720"/>
                  <a:ext cx="286920" cy="287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28" name=""/>
                    <p:cNvSpPr txBox="1"/>
                    <p:nvPr/>
                  </p:nvSpPr>
                  <p:spPr>
                    <a:xfrm>
                      <a:off x="6390720" y="2997000"/>
                      <a:ext cx="269280" cy="287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A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29" name=""/>
                    <p:cNvSpPr txBox="1"/>
                    <p:nvPr/>
                  </p:nvSpPr>
                  <p:spPr>
                    <a:xfrm>
                      <a:off x="7452720" y="2896920"/>
                      <a:ext cx="286920" cy="2444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30" name=""/>
                    <p:cNvSpPr txBox="1"/>
                    <p:nvPr/>
                  </p:nvSpPr>
                  <p:spPr>
                    <a:xfrm>
                      <a:off x="6227280" y="3573000"/>
                      <a:ext cx="269280" cy="287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B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31" name=""/>
                    <p:cNvSpPr txBox="1"/>
                    <p:nvPr/>
                  </p:nvSpPr>
                  <p:spPr>
                    <a:xfrm>
                      <a:off x="7452720" y="3357360"/>
                      <a:ext cx="360000" cy="306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32" name=""/>
                    <p:cNvSpPr txBox="1"/>
                    <p:nvPr/>
                  </p:nvSpPr>
                  <p:spPr>
                    <a:xfrm>
                      <a:off x="6202080" y="4078080"/>
                      <a:ext cx="240840" cy="287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C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33" name=""/>
                    <p:cNvSpPr txBox="1"/>
                    <p:nvPr/>
                  </p:nvSpPr>
                  <p:spPr>
                    <a:xfrm>
                      <a:off x="7522560" y="3933360"/>
                      <a:ext cx="288720" cy="2746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C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34" name=""/>
                    <p:cNvSpPr txBox="1"/>
                    <p:nvPr/>
                  </p:nvSpPr>
                  <p:spPr>
                    <a:xfrm>
                      <a:off x="6587640" y="2422080"/>
                      <a:ext cx="229680" cy="287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s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35" name=""/>
                    <p:cNvSpPr txBox="1"/>
                    <p:nvPr/>
                  </p:nvSpPr>
                  <p:spPr>
                    <a:xfrm>
                      <a:off x="7235280" y="2349360"/>
                      <a:ext cx="202680" cy="360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t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5651280" y="4581360"/>
                  <a:ext cx="225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5651280" y="4005360"/>
                  <a:ext cx="2347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8" name=""/>
                <p:cNvSpPr txBox="1"/>
                <p:nvPr/>
              </p:nvSpPr>
              <p:spPr>
                <a:xfrm>
                  <a:off x="5724360" y="3500280"/>
                  <a:ext cx="2044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908000" y="4724280"/>
                <a:ext cx="16560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Teorema de Tales en el triangu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ff"/>
                </a:solidFill>
                <a:latin typeface="Arial"/>
              </a:rPr>
              <a:t>Si </a:t>
            </a:r>
            <a:r>
              <a:rPr b="0" i="1" lang="es-CL" sz="2500" spc="-1" strike="noStrike">
                <a:solidFill>
                  <a:srgbClr val="0000ff"/>
                </a:solidFill>
                <a:latin typeface="Arial"/>
              </a:rPr>
              <a:t>en un triángulo ABC se traza una recta paralela al lado AB, de tal manera que intersecte al lado AC  en el punto P y al lado BC en el punto Q, se obtienen las siguientes proporciones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2124000" y="3500280"/>
            <a:ext cx="453564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les de Mileto resolvió problemas como el siguient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r la altura de un árbol, sabiendo que a la misma hora del día proyecta una sombra de 12 m, mientras que una estaca de 1.50 m proyecta una sombra de 2.25 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755640" y="3068640"/>
            <a:ext cx="77040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amos como lo hiz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Podemos suponer que el árbol y la estaca están colocados verticalment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Los ángulos ACB y A´C´B´ son igua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Los ángulos BAC y B´A´C´ son iguales  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Porque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Los ángulos ABC y A´B´C´ son iguales  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Porque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Los triángulos ABC y A´B´C´ son semejantes </a:t>
            </a: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entonces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 sus lados son proporcionales y se puede escribi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132000" y="5661000"/>
                <a:ext cx="24480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esolviend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eresa usar una proporción en la que se encuentre el lado que se pretende calcular y los datos del proble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ustituyendo la incógnita y las cantidades conocidas, se obtien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 resuelve la proporción para calcular el valor de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914560" y="2690640"/>
                <a:ext cx="165744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019320" y="4365720"/>
                <a:ext cx="166536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esolviend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or lo cual la altura del árbol es de 8 me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195640" y="2349360"/>
                <a:ext cx="4752720" cy="16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Usando Tales en un triangulo rectángu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900000" y="1989000"/>
                <a:ext cx="26640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826920" y="3213000"/>
                <a:ext cx="28083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890960" y="2565360"/>
            <a:ext cx="3857400" cy="3095640"/>
            <a:chOff x="4890960" y="2565360"/>
            <a:chExt cx="3857400" cy="3095640"/>
          </a:xfrm>
        </p:grpSpPr>
        <p:grpSp>
          <p:nvGrpSpPr>
            <p:cNvPr id="268" name=""/>
            <p:cNvGrpSpPr/>
            <p:nvPr/>
          </p:nvGrpSpPr>
          <p:grpSpPr>
            <a:xfrm>
              <a:off x="5410080" y="3008160"/>
              <a:ext cx="2896920" cy="2450880"/>
              <a:chOff x="5410080" y="3008160"/>
              <a:chExt cx="2896920" cy="2450880"/>
            </a:xfrm>
          </p:grpSpPr>
          <p:sp>
            <p:nvSpPr>
              <p:cNvPr id="269" name=""/>
              <p:cNvSpPr/>
              <p:nvPr/>
            </p:nvSpPr>
            <p:spPr>
              <a:xfrm>
                <a:off x="5410080" y="3008160"/>
                <a:ext cx="0" cy="245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410080" y="5459040"/>
                <a:ext cx="28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410080" y="3008160"/>
                <a:ext cx="2896920" cy="245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72" name=""/>
                <p:cNvSpPr txBox="1"/>
                <p:nvPr/>
              </p:nvSpPr>
              <p:spPr>
                <a:xfrm>
                  <a:off x="5148000" y="2565360"/>
                  <a:ext cx="389160" cy="38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4890960" y="3959280"/>
                  <a:ext cx="38412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6876720" y="3814920"/>
                  <a:ext cx="462240" cy="47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5" name=""/>
            <p:cNvSpPr/>
            <p:nvPr/>
          </p:nvSpPr>
          <p:spPr>
            <a:xfrm>
              <a:off x="5410080" y="5214960"/>
              <a:ext cx="2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690880" y="521496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25920" y="416088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5425920" y="3224160"/>
                  <a:ext cx="2761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9" name=""/>
            <p:cNvSpPr/>
            <p:nvPr/>
          </p:nvSpPr>
          <p:spPr>
            <a:xfrm flipV="1">
              <a:off x="4994640" y="3150720"/>
              <a:ext cx="862560" cy="57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0" name=""/>
                <p:cNvSpPr txBox="1"/>
                <p:nvPr/>
              </p:nvSpPr>
              <p:spPr>
                <a:xfrm>
                  <a:off x="4895640" y="5264280"/>
                  <a:ext cx="39672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>
                  <a:off x="8321400" y="5097600"/>
                  <a:ext cx="426960" cy="47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900000" y="4581360"/>
                <a:ext cx="26640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Funciones trigonométricas en una circunfer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sideremos una circunferencia de radio unitario (r=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684360" y="2565000"/>
            <a:ext cx="8064360" cy="3742560"/>
            <a:chOff x="684360" y="2565000"/>
            <a:chExt cx="8064360" cy="3742560"/>
          </a:xfrm>
        </p:grpSpPr>
        <p:grpSp>
          <p:nvGrpSpPr>
            <p:cNvPr id="292" name=""/>
            <p:cNvGrpSpPr/>
            <p:nvPr/>
          </p:nvGrpSpPr>
          <p:grpSpPr>
            <a:xfrm>
              <a:off x="684360" y="2565000"/>
              <a:ext cx="8064360" cy="3742560"/>
              <a:chOff x="684360" y="2565000"/>
              <a:chExt cx="8064360" cy="3742560"/>
            </a:xfrm>
          </p:grpSpPr>
          <p:grpSp>
            <p:nvGrpSpPr>
              <p:cNvPr id="293" name=""/>
              <p:cNvGrpSpPr/>
              <p:nvPr/>
            </p:nvGrpSpPr>
            <p:grpSpPr>
              <a:xfrm>
                <a:off x="3755880" y="2565000"/>
                <a:ext cx="4992840" cy="3742560"/>
                <a:chOff x="3755880" y="2565000"/>
                <a:chExt cx="4992840" cy="374256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3755880" y="2947320"/>
                  <a:ext cx="3600720" cy="33602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5" name=""/>
                <p:cNvGrpSpPr/>
                <p:nvPr/>
              </p:nvGrpSpPr>
              <p:grpSpPr>
                <a:xfrm>
                  <a:off x="5183280" y="2565000"/>
                  <a:ext cx="3565440" cy="2444040"/>
                  <a:chOff x="5183280" y="2565000"/>
                  <a:chExt cx="3565440" cy="244404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>
                    <a:off x="5556240" y="4550040"/>
                    <a:ext cx="2952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 flipV="1">
                    <a:off x="5556240" y="2565000"/>
                    <a:ext cx="0" cy="1984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flipV="1">
                    <a:off x="5556240" y="2946960"/>
                    <a:ext cx="2736720" cy="1602360"/>
                  </a:xfrm>
                  <a:prstGeom prst="line">
                    <a:avLst/>
                  </a:prstGeom>
                  <a:ln w="9360">
                    <a:solidFill>
                      <a:srgbClr val="ff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299" name=""/>
                      <p:cNvSpPr txBox="1"/>
                      <p:nvPr/>
                    </p:nvSpPr>
                    <p:spPr>
                      <a:xfrm>
                        <a:off x="5987880" y="4191120"/>
                        <a:ext cx="360360" cy="3585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α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p:sp>
                <p:nvSpPr>
                  <p:cNvPr id="300" name=""/>
                  <p:cNvSpPr/>
                  <p:nvPr/>
                </p:nvSpPr>
                <p:spPr>
                  <a:xfrm>
                    <a:off x="6061320" y="4169160"/>
                    <a:ext cx="431280" cy="76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301" name=""/>
                      <p:cNvSpPr txBox="1"/>
                      <p:nvPr/>
                    </p:nvSpPr>
                    <p:spPr>
                      <a:xfrm>
                        <a:off x="5183280" y="4398480"/>
                        <a:ext cx="301680" cy="3801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O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302" name=""/>
                      <p:cNvSpPr txBox="1"/>
                      <p:nvPr/>
                    </p:nvSpPr>
                    <p:spPr>
                      <a:xfrm>
                        <a:off x="7015320" y="3175920"/>
                        <a:ext cx="269640" cy="3045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P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303" name=""/>
                      <p:cNvSpPr txBox="1"/>
                      <p:nvPr/>
                    </p:nvSpPr>
                    <p:spPr>
                      <a:xfrm>
                        <a:off x="5700600" y="2565360"/>
                        <a:ext cx="317520" cy="3819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y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304" name=""/>
                      <p:cNvSpPr txBox="1"/>
                      <p:nvPr/>
                    </p:nvSpPr>
                    <p:spPr>
                      <a:xfrm>
                        <a:off x="8435880" y="4627080"/>
                        <a:ext cx="312840" cy="3819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x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p:sp>
                <p:nvSpPr>
                  <p:cNvPr id="305" name=""/>
                  <p:cNvSpPr/>
                  <p:nvPr/>
                </p:nvSpPr>
                <p:spPr>
                  <a:xfrm flipH="1">
                    <a:off x="5556240" y="3709800"/>
                    <a:ext cx="1512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7068960" y="3709800"/>
                    <a:ext cx="0" cy="840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307" name=""/>
                      <p:cNvSpPr txBox="1"/>
                      <p:nvPr/>
                    </p:nvSpPr>
                    <p:spPr>
                      <a:xfrm>
                        <a:off x="6851520" y="4550040"/>
                        <a:ext cx="343080" cy="45900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308" name=""/>
                      <p:cNvSpPr txBox="1"/>
                      <p:nvPr/>
                    </p:nvSpPr>
                    <p:spPr>
                      <a:xfrm>
                        <a:off x="5195880" y="3404880"/>
                        <a:ext cx="274680" cy="3819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309" name=""/>
                      <p:cNvSpPr txBox="1"/>
                      <p:nvPr/>
                    </p:nvSpPr>
                    <p:spPr>
                      <a:xfrm>
                        <a:off x="5756400" y="3787200"/>
                        <a:ext cx="591840" cy="31968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</p:grpSp>
          <p:sp>
            <p:nvSpPr>
              <p:cNvPr id="310" name=""/>
              <p:cNvSpPr/>
              <p:nvPr/>
            </p:nvSpPr>
            <p:spPr>
              <a:xfrm flipV="1">
                <a:off x="2843280" y="5009760"/>
                <a:ext cx="1728720" cy="91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4360" y="3863160"/>
                <a:ext cx="318744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200" spc="-1" strike="noStrike">
                    <a:solidFill>
                      <a:srgbClr val="000000"/>
                    </a:solidFill>
                    <a:latin typeface="Arial"/>
                  </a:rPr>
                  <a:t>La hipotenusa del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200" spc="-1" strike="noStrike">
                    <a:solidFill>
                      <a:srgbClr val="000000"/>
                    </a:solidFill>
                    <a:latin typeface="Arial"/>
                  </a:rPr>
                  <a:t>triángulo rectángulo es r =1……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200" spc="-1" strike="noStrike">
                    <a:solidFill>
                      <a:srgbClr val="000000"/>
                    </a:solidFill>
                    <a:latin typeface="Arial"/>
                  </a:rPr>
                  <a:t>VEAMOS que pasa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 flipH="1">
              <a:off x="6877080" y="43232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77080" y="4323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Funciones trigonométricas en una circunfer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468360" y="2060280"/>
            <a:ext cx="8279640" cy="3817080"/>
            <a:chOff x="468360" y="2060280"/>
            <a:chExt cx="8279640" cy="3817080"/>
          </a:xfrm>
        </p:grpSpPr>
        <mc:AlternateContent>
          <mc:Choice xmlns:a14="http://schemas.microsoft.com/office/drawing/2010/main" Requires="a14">
            <p:sp>
              <p:nvSpPr>
                <p:cNvPr id="316" name=""/>
                <p:cNvSpPr txBox="1"/>
                <p:nvPr/>
              </p:nvSpPr>
              <p:spPr>
                <a:xfrm>
                  <a:off x="468360" y="2323440"/>
                  <a:ext cx="3135240" cy="282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se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α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CO</m:t>
                              </m:r>
                            </m:num>
                            <m:den>
                              <m:r>
                                <m:t xml:space="preserve">H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α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CA</m:t>
                              </m:r>
                            </m:num>
                            <m:den>
                              <m:r>
                                <m:t xml:space="preserve">H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A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α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CO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CA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17" name=""/>
            <p:cNvGrpSpPr/>
            <p:nvPr/>
          </p:nvGrpSpPr>
          <p:grpSpPr>
            <a:xfrm>
              <a:off x="3756240" y="2060280"/>
              <a:ext cx="4991760" cy="3817080"/>
              <a:chOff x="3756240" y="2060280"/>
              <a:chExt cx="4991760" cy="3817080"/>
            </a:xfrm>
          </p:grpSpPr>
          <p:grpSp>
            <p:nvGrpSpPr>
              <p:cNvPr id="318" name=""/>
              <p:cNvGrpSpPr/>
              <p:nvPr/>
            </p:nvGrpSpPr>
            <p:grpSpPr>
              <a:xfrm>
                <a:off x="3756240" y="2060280"/>
                <a:ext cx="4991760" cy="3817080"/>
                <a:chOff x="3756240" y="2060280"/>
                <a:chExt cx="4991760" cy="381708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3756240" y="2450160"/>
                  <a:ext cx="3600360" cy="342720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0" name=""/>
                <p:cNvGrpSpPr/>
                <p:nvPr/>
              </p:nvGrpSpPr>
              <p:grpSpPr>
                <a:xfrm>
                  <a:off x="5183280" y="2060280"/>
                  <a:ext cx="3564720" cy="2493000"/>
                  <a:chOff x="5183280" y="2060280"/>
                  <a:chExt cx="3564720" cy="249300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>
                    <a:off x="5555880" y="4084920"/>
                    <a:ext cx="2952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V="1">
                    <a:off x="5555880" y="2060280"/>
                    <a:ext cx="0" cy="202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flipV="1">
                    <a:off x="5555880" y="2450160"/>
                    <a:ext cx="2736360" cy="1634400"/>
                  </a:xfrm>
                  <a:prstGeom prst="line">
                    <a:avLst/>
                  </a:prstGeom>
                  <a:ln w="9360">
                    <a:solidFill>
                      <a:srgbClr val="ff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324" name=""/>
                      <p:cNvSpPr txBox="1"/>
                      <p:nvPr/>
                    </p:nvSpPr>
                    <p:spPr>
                      <a:xfrm>
                        <a:off x="5987520" y="3718800"/>
                        <a:ext cx="360000" cy="3657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α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p:sp>
                <p:nvSpPr>
                  <p:cNvPr id="325" name=""/>
                  <p:cNvSpPr/>
                  <p:nvPr/>
                </p:nvSpPr>
                <p:spPr>
                  <a:xfrm>
                    <a:off x="6061320" y="3696840"/>
                    <a:ext cx="430560" cy="775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326" name=""/>
                      <p:cNvSpPr txBox="1"/>
                      <p:nvPr/>
                    </p:nvSpPr>
                    <p:spPr>
                      <a:xfrm>
                        <a:off x="5183280" y="3930480"/>
                        <a:ext cx="301320" cy="3877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O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327" name=""/>
                      <p:cNvSpPr txBox="1"/>
                      <p:nvPr/>
                    </p:nvSpPr>
                    <p:spPr>
                      <a:xfrm>
                        <a:off x="7014960" y="2683440"/>
                        <a:ext cx="269280" cy="31068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P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328" name=""/>
                      <p:cNvSpPr txBox="1"/>
                      <p:nvPr/>
                    </p:nvSpPr>
                    <p:spPr>
                      <a:xfrm>
                        <a:off x="5700240" y="2060640"/>
                        <a:ext cx="317160" cy="3895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y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329" name=""/>
                      <p:cNvSpPr txBox="1"/>
                      <p:nvPr/>
                    </p:nvSpPr>
                    <p:spPr>
                      <a:xfrm>
                        <a:off x="8435520" y="4163760"/>
                        <a:ext cx="312480" cy="3895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x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p:sp>
                <p:nvSpPr>
                  <p:cNvPr id="330" name=""/>
                  <p:cNvSpPr/>
                  <p:nvPr/>
                </p:nvSpPr>
                <p:spPr>
                  <a:xfrm flipH="1">
                    <a:off x="5555520" y="3227760"/>
                    <a:ext cx="1512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7068600" y="3227760"/>
                    <a:ext cx="0" cy="856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332" name=""/>
                      <p:cNvSpPr txBox="1"/>
                      <p:nvPr/>
                    </p:nvSpPr>
                    <p:spPr>
                      <a:xfrm>
                        <a:off x="6851160" y="4084920"/>
                        <a:ext cx="342720" cy="4683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333" name=""/>
                      <p:cNvSpPr txBox="1"/>
                      <p:nvPr/>
                    </p:nvSpPr>
                    <p:spPr>
                      <a:xfrm>
                        <a:off x="5195520" y="2917080"/>
                        <a:ext cx="274320" cy="3895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334" name=""/>
                      <p:cNvSpPr txBox="1"/>
                      <p:nvPr/>
                    </p:nvSpPr>
                    <p:spPr>
                      <a:xfrm>
                        <a:off x="5756040" y="3306960"/>
                        <a:ext cx="591480" cy="3261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</p:grpSp>
          <p:grpSp>
            <p:nvGrpSpPr>
              <p:cNvPr id="335" name=""/>
              <p:cNvGrpSpPr/>
              <p:nvPr/>
            </p:nvGrpSpPr>
            <p:grpSpPr>
              <a:xfrm>
                <a:off x="6853320" y="3851280"/>
                <a:ext cx="215280" cy="233280"/>
                <a:chOff x="6853320" y="3851280"/>
                <a:chExt cx="215280" cy="233280"/>
              </a:xfrm>
            </p:grpSpPr>
            <p:sp>
              <p:nvSpPr>
                <p:cNvPr id="336" name=""/>
                <p:cNvSpPr/>
                <p:nvPr/>
              </p:nvSpPr>
              <p:spPr>
                <a:xfrm flipH="1">
                  <a:off x="6853320" y="3851280"/>
                  <a:ext cx="21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853320" y="3851280"/>
                  <a:ext cx="0" cy="23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¿Qué relación existe en los ángulos de los dibujo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4560" y="2133720"/>
            <a:ext cx="8803080" cy="4367160"/>
            <a:chOff x="34560" y="2133720"/>
            <a:chExt cx="8803080" cy="4367160"/>
          </a:xfrm>
        </p:grpSpPr>
        <p:grpSp>
          <p:nvGrpSpPr>
            <p:cNvPr id="342" name=""/>
            <p:cNvGrpSpPr/>
            <p:nvPr/>
          </p:nvGrpSpPr>
          <p:grpSpPr>
            <a:xfrm>
              <a:off x="34560" y="3213360"/>
              <a:ext cx="8803080" cy="3168720"/>
              <a:chOff x="34560" y="3213360"/>
              <a:chExt cx="8803080" cy="3168720"/>
            </a:xfrm>
          </p:grpSpPr>
          <mc:AlternateContent>
            <mc:Choice xmlns:a14="http://schemas.microsoft.com/office/drawing/2010/main" Requires="a14">
              <p:sp>
                <p:nvSpPr>
                  <p:cNvPr id="343" name=""/>
                  <p:cNvSpPr txBox="1"/>
                  <p:nvPr/>
                </p:nvSpPr>
                <p:spPr>
                  <a:xfrm>
                    <a:off x="8548560" y="4959720"/>
                    <a:ext cx="258840" cy="323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44" name=""/>
              <p:cNvGrpSpPr/>
              <p:nvPr/>
            </p:nvGrpSpPr>
            <p:grpSpPr>
              <a:xfrm>
                <a:off x="34560" y="3213360"/>
                <a:ext cx="8803080" cy="3168720"/>
                <a:chOff x="34560" y="3213360"/>
                <a:chExt cx="8803080" cy="316872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4895640" y="3537360"/>
                  <a:ext cx="2986200" cy="28447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389640" y="4894560"/>
                  <a:ext cx="2448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flipV="1">
                  <a:off x="6389640" y="3213360"/>
                  <a:ext cx="0" cy="1681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V="1">
                  <a:off x="6389640" y="3794400"/>
                  <a:ext cx="1811160" cy="11001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49" name=""/>
                    <p:cNvSpPr txBox="1"/>
                    <p:nvPr/>
                  </p:nvSpPr>
                  <p:spPr>
                    <a:xfrm>
                      <a:off x="6746760" y="4656240"/>
                      <a:ext cx="298440" cy="3034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α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350" name=""/>
                <p:cNvSpPr/>
                <p:nvPr/>
              </p:nvSpPr>
              <p:spPr>
                <a:xfrm>
                  <a:off x="6807600" y="4572360"/>
                  <a:ext cx="357840" cy="64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51" name=""/>
                    <p:cNvSpPr txBox="1"/>
                    <p:nvPr/>
                  </p:nvSpPr>
                  <p:spPr>
                    <a:xfrm>
                      <a:off x="6337080" y="4896000"/>
                      <a:ext cx="250920" cy="3207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O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352" name=""/>
                    <p:cNvSpPr txBox="1"/>
                    <p:nvPr/>
                  </p:nvSpPr>
                  <p:spPr>
                    <a:xfrm>
                      <a:off x="7599240" y="3731040"/>
                      <a:ext cx="223920" cy="2570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P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353" name=""/>
                    <p:cNvSpPr txBox="1"/>
                    <p:nvPr/>
                  </p:nvSpPr>
                  <p:spPr>
                    <a:xfrm>
                      <a:off x="6508800" y="3213360"/>
                      <a:ext cx="263520" cy="324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y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354" name=""/>
                <p:cNvSpPr/>
                <p:nvPr/>
              </p:nvSpPr>
              <p:spPr>
                <a:xfrm flipH="1">
                  <a:off x="6389640" y="4183200"/>
                  <a:ext cx="1254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643880" y="4183200"/>
                  <a:ext cx="0" cy="711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56" name=""/>
                    <p:cNvSpPr txBox="1"/>
                    <p:nvPr/>
                  </p:nvSpPr>
                  <p:spPr>
                    <a:xfrm>
                      <a:off x="7462800" y="4894560"/>
                      <a:ext cx="284040" cy="3888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357" name=""/>
                    <p:cNvSpPr txBox="1"/>
                    <p:nvPr/>
                  </p:nvSpPr>
                  <p:spPr>
                    <a:xfrm>
                      <a:off x="6038640" y="3789720"/>
                      <a:ext cx="279720" cy="3967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358" name=""/>
                <p:cNvSpPr/>
                <p:nvPr/>
              </p:nvSpPr>
              <p:spPr>
                <a:xfrm flipH="1">
                  <a:off x="7463880" y="4699080"/>
                  <a:ext cx="179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7464240" y="4699080"/>
                  <a:ext cx="0" cy="19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H="1">
                  <a:off x="5095800" y="4183200"/>
                  <a:ext cx="1254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H="1" flipV="1">
                  <a:off x="4618080" y="3924720"/>
                  <a:ext cx="1790640" cy="9698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H="1">
                  <a:off x="4498560" y="4894560"/>
                  <a:ext cx="1909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431640" y="3537360"/>
                  <a:ext cx="2986200" cy="28447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925640" y="4894560"/>
                  <a:ext cx="2448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V="1">
                  <a:off x="1925640" y="3213360"/>
                  <a:ext cx="0" cy="1681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66" name=""/>
                    <p:cNvSpPr txBox="1"/>
                    <p:nvPr/>
                  </p:nvSpPr>
                  <p:spPr>
                    <a:xfrm>
                      <a:off x="1873080" y="4896000"/>
                      <a:ext cx="250920" cy="3207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O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367" name=""/>
                    <p:cNvSpPr txBox="1"/>
                    <p:nvPr/>
                  </p:nvSpPr>
                  <p:spPr>
                    <a:xfrm>
                      <a:off x="3135240" y="3731040"/>
                      <a:ext cx="223920" cy="2570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P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368" name=""/>
                    <p:cNvSpPr txBox="1"/>
                    <p:nvPr/>
                  </p:nvSpPr>
                  <p:spPr>
                    <a:xfrm>
                      <a:off x="2044800" y="3213360"/>
                      <a:ext cx="263520" cy="324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y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369" name=""/>
                    <p:cNvSpPr txBox="1"/>
                    <p:nvPr/>
                  </p:nvSpPr>
                  <p:spPr>
                    <a:xfrm>
                      <a:off x="4313160" y="4959720"/>
                      <a:ext cx="258840" cy="323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x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370" name=""/>
                <p:cNvSpPr/>
                <p:nvPr/>
              </p:nvSpPr>
              <p:spPr>
                <a:xfrm flipH="1">
                  <a:off x="1925640" y="4183200"/>
                  <a:ext cx="1254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3179880" y="4183200"/>
                  <a:ext cx="0" cy="711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72" name=""/>
                    <p:cNvSpPr txBox="1"/>
                    <p:nvPr/>
                  </p:nvSpPr>
                  <p:spPr>
                    <a:xfrm>
                      <a:off x="2998800" y="4894560"/>
                      <a:ext cx="284040" cy="3888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373" name=""/>
                    <p:cNvSpPr txBox="1"/>
                    <p:nvPr/>
                  </p:nvSpPr>
                  <p:spPr>
                    <a:xfrm>
                      <a:off x="1574640" y="3789720"/>
                      <a:ext cx="279360" cy="3967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374" name=""/>
                <p:cNvSpPr/>
                <p:nvPr/>
              </p:nvSpPr>
              <p:spPr>
                <a:xfrm flipH="1">
                  <a:off x="2999880" y="4699080"/>
                  <a:ext cx="179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3000240" y="4699080"/>
                  <a:ext cx="0" cy="19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H="1">
                  <a:off x="631800" y="4183200"/>
                  <a:ext cx="1254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H="1" flipV="1">
                  <a:off x="154080" y="3924720"/>
                  <a:ext cx="1790640" cy="9698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H="1">
                  <a:off x="34560" y="4894560"/>
                  <a:ext cx="1909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79" name=""/>
                    <p:cNvSpPr txBox="1"/>
                    <p:nvPr/>
                  </p:nvSpPr>
                  <p:spPr>
                    <a:xfrm>
                      <a:off x="1977840" y="4510440"/>
                      <a:ext cx="328680" cy="431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β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380" name=""/>
                <p:cNvSpPr/>
                <p:nvPr/>
              </p:nvSpPr>
              <p:spPr>
                <a:xfrm flipV="1">
                  <a:off x="1906560" y="3646800"/>
                  <a:ext cx="431640" cy="12240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762560" y="4294440"/>
                  <a:ext cx="720000" cy="1152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>
                  <a:off x="1619280" y="4294440"/>
                  <a:ext cx="1005840" cy="86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2286000" y="2133720"/>
                  <a:ext cx="3600360" cy="11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se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α</m:t>
                              </m:r>
                            </m:e>
                          </m:d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se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β</m:t>
                              </m:r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α</m:t>
                              </m:r>
                            </m:e>
                          </m:d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β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3149640" y="6021720"/>
                  <a:ext cx="2016000" cy="47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+</m:t>
                      </m:r>
                      <m:r>
                        <m:t xml:space="preserve">α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8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11280" y="90756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ff3300"/>
                </a:solidFill>
                <a:latin typeface="Arial"/>
              </a:rPr>
              <a:t>CLASE 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500" spc="-1" strike="noStrike">
                <a:solidFill>
                  <a:srgbClr val="6666ff"/>
                </a:solidFill>
                <a:latin typeface="Arial"/>
              </a:rPr>
              <a:t>TRIGONOMETRI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¿Qué relación exis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2433600" y="1844640"/>
                <a:ext cx="330192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???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???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89" name=""/>
          <p:cNvGrpSpPr/>
          <p:nvPr/>
        </p:nvGrpSpPr>
        <p:grpSpPr>
          <a:xfrm>
            <a:off x="1979640" y="3212640"/>
            <a:ext cx="5111640" cy="3456360"/>
            <a:chOff x="1979640" y="3212640"/>
            <a:chExt cx="5111640" cy="3456360"/>
          </a:xfrm>
        </p:grpSpPr>
        <p:sp>
          <p:nvSpPr>
            <p:cNvPr id="390" name=""/>
            <p:cNvSpPr/>
            <p:nvPr/>
          </p:nvSpPr>
          <p:spPr>
            <a:xfrm>
              <a:off x="2638440" y="3565440"/>
              <a:ext cx="3373560" cy="3103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1" name=""/>
                <p:cNvSpPr txBox="1"/>
                <p:nvPr/>
              </p:nvSpPr>
              <p:spPr>
                <a:xfrm>
                  <a:off x="6764400" y="5118120"/>
                  <a:ext cx="2937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92" name=""/>
            <p:cNvSpPr/>
            <p:nvPr/>
          </p:nvSpPr>
          <p:spPr>
            <a:xfrm>
              <a:off x="4325760" y="5046480"/>
              <a:ext cx="276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4325760" y="3212640"/>
              <a:ext cx="0" cy="18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4325760" y="3846240"/>
              <a:ext cx="2046600" cy="120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4729320" y="4676760"/>
              <a:ext cx="472320" cy="701640"/>
              <a:chOff x="4729320" y="4676760"/>
              <a:chExt cx="472320" cy="701640"/>
            </a:xfrm>
          </p:grpSpPr>
          <mc:AlternateContent>
            <mc:Choice xmlns:a14="http://schemas.microsoft.com/office/drawing/2010/main" Requires="a14">
              <p:sp>
                <p:nvSpPr>
                  <p:cNvPr id="396" name=""/>
                  <p:cNvSpPr txBox="1"/>
                  <p:nvPr/>
                </p:nvSpPr>
                <p:spPr>
                  <a:xfrm>
                    <a:off x="4729320" y="4768560"/>
                    <a:ext cx="33660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97" name=""/>
              <p:cNvSpPr/>
              <p:nvPr/>
            </p:nvSpPr>
            <p:spPr>
              <a:xfrm>
                <a:off x="4797000" y="4676760"/>
                <a:ext cx="404640" cy="701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98" name=""/>
                <p:cNvSpPr txBox="1"/>
                <p:nvPr/>
              </p:nvSpPr>
              <p:spPr>
                <a:xfrm>
                  <a:off x="3849840" y="4705200"/>
                  <a:ext cx="28404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9" name=""/>
                <p:cNvSpPr txBox="1"/>
                <p:nvPr/>
              </p:nvSpPr>
              <p:spPr>
                <a:xfrm>
                  <a:off x="5692680" y="3778200"/>
                  <a:ext cx="2523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0" name=""/>
                <p:cNvSpPr txBox="1"/>
                <p:nvPr/>
              </p:nvSpPr>
              <p:spPr>
                <a:xfrm>
                  <a:off x="4460760" y="3213000"/>
                  <a:ext cx="29700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01" name=""/>
            <p:cNvSpPr/>
            <p:nvPr/>
          </p:nvSpPr>
          <p:spPr>
            <a:xfrm flipH="1">
              <a:off x="4325760" y="4270320"/>
              <a:ext cx="1416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42000" y="4270320"/>
              <a:ext cx="0" cy="776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3" name=""/>
                <p:cNvSpPr txBox="1"/>
                <p:nvPr/>
              </p:nvSpPr>
              <p:spPr>
                <a:xfrm>
                  <a:off x="5538960" y="5046480"/>
                  <a:ext cx="320400" cy="42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4" name=""/>
                <p:cNvSpPr txBox="1"/>
                <p:nvPr/>
              </p:nvSpPr>
              <p:spPr>
                <a:xfrm>
                  <a:off x="3929040" y="3841560"/>
                  <a:ext cx="31608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05" name=""/>
            <p:cNvSpPr/>
            <p:nvPr/>
          </p:nvSpPr>
          <p:spPr>
            <a:xfrm flipH="1">
              <a:off x="5540400" y="4833720"/>
              <a:ext cx="20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40400" y="483372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2188800" y="5046480"/>
              <a:ext cx="21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8" name=""/>
                <p:cNvSpPr txBox="1"/>
                <p:nvPr/>
              </p:nvSpPr>
              <p:spPr>
                <a:xfrm>
                  <a:off x="1979640" y="5118120"/>
                  <a:ext cx="2919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09" name=""/>
            <p:cNvSpPr/>
            <p:nvPr/>
          </p:nvSpPr>
          <p:spPr>
            <a:xfrm>
              <a:off x="4338720" y="5018040"/>
              <a:ext cx="1789200" cy="110016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0" name=""/>
                <p:cNvSpPr txBox="1"/>
                <p:nvPr/>
              </p:nvSpPr>
              <p:spPr>
                <a:xfrm>
                  <a:off x="4716360" y="5086080"/>
                  <a:ext cx="58896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11" name=""/>
            <p:cNvSpPr/>
            <p:nvPr/>
          </p:nvSpPr>
          <p:spPr>
            <a:xfrm>
              <a:off x="5221800" y="5084640"/>
              <a:ext cx="141840" cy="115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Relaciones trigonométricas import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50920" y="1773360"/>
            <a:ext cx="8881200" cy="4605480"/>
            <a:chOff x="250920" y="1773360"/>
            <a:chExt cx="8881200" cy="4605480"/>
          </a:xfrm>
        </p:grpSpPr>
        <p:grpSp>
          <p:nvGrpSpPr>
            <p:cNvPr id="416" name=""/>
            <p:cNvGrpSpPr/>
            <p:nvPr/>
          </p:nvGrpSpPr>
          <p:grpSpPr>
            <a:xfrm>
              <a:off x="250920" y="1773360"/>
              <a:ext cx="4321080" cy="1952640"/>
              <a:chOff x="250920" y="1773360"/>
              <a:chExt cx="4321080" cy="1952640"/>
            </a:xfrm>
          </p:grpSpPr>
          <mc:AlternateContent>
            <mc:Choice xmlns:a14="http://schemas.microsoft.com/office/drawing/2010/main" Requires="a14">
              <p:sp>
                <p:nvSpPr>
                  <p:cNvPr id="417" name=""/>
                  <p:cNvSpPr txBox="1"/>
                  <p:nvPr/>
                </p:nvSpPr>
                <p:spPr>
                  <a:xfrm>
                    <a:off x="250920" y="1773360"/>
                    <a:ext cx="4321080" cy="766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18" name=""/>
                  <p:cNvSpPr txBox="1"/>
                  <p:nvPr/>
                </p:nvSpPr>
                <p:spPr>
                  <a:xfrm>
                    <a:off x="395280" y="2551320"/>
                    <a:ext cx="2735280" cy="1174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419" name=""/>
            <p:cNvGrpSpPr/>
            <p:nvPr/>
          </p:nvGrpSpPr>
          <p:grpSpPr>
            <a:xfrm>
              <a:off x="1697040" y="2626920"/>
              <a:ext cx="7435080" cy="3751920"/>
              <a:chOff x="1697040" y="2626920"/>
              <a:chExt cx="7435080" cy="3751920"/>
            </a:xfrm>
          </p:grpSpPr>
          <p:grpSp>
            <p:nvGrpSpPr>
              <p:cNvPr id="420" name=""/>
              <p:cNvGrpSpPr/>
              <p:nvPr/>
            </p:nvGrpSpPr>
            <p:grpSpPr>
              <a:xfrm>
                <a:off x="4140360" y="2626920"/>
                <a:ext cx="4991760" cy="3751920"/>
                <a:chOff x="4140360" y="2626920"/>
                <a:chExt cx="4991760" cy="3751920"/>
              </a:xfrm>
            </p:grpSpPr>
            <p:grpSp>
              <p:nvGrpSpPr>
                <p:cNvPr id="421" name=""/>
                <p:cNvGrpSpPr/>
                <p:nvPr/>
              </p:nvGrpSpPr>
              <p:grpSpPr>
                <a:xfrm>
                  <a:off x="4140360" y="2626920"/>
                  <a:ext cx="4991760" cy="3751920"/>
                  <a:chOff x="4140360" y="2626920"/>
                  <a:chExt cx="4991760" cy="375192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>
                    <a:off x="4140360" y="3010320"/>
                    <a:ext cx="3600360" cy="33685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23" name=""/>
                  <p:cNvGrpSpPr/>
                  <p:nvPr/>
                </p:nvGrpSpPr>
                <p:grpSpPr>
                  <a:xfrm>
                    <a:off x="5567400" y="2626920"/>
                    <a:ext cx="3564720" cy="2450160"/>
                    <a:chOff x="5567400" y="2626920"/>
                    <a:chExt cx="3564720" cy="2450160"/>
                  </a:xfrm>
                </p:grpSpPr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5940000" y="4617000"/>
                      <a:ext cx="29523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"/>
                    <p:cNvSpPr/>
                    <p:nvPr/>
                  </p:nvSpPr>
                  <p:spPr>
                    <a:xfrm flipV="1">
                      <a:off x="5940000" y="2626920"/>
                      <a:ext cx="0" cy="1989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 flipV="1">
                      <a:off x="5940000" y="3010320"/>
                      <a:ext cx="2736360" cy="1606320"/>
                    </a:xfrm>
                    <a:prstGeom prst="line">
                      <a:avLst/>
                    </a:prstGeom>
                    <a:ln w="9360">
                      <a:solidFill>
                        <a:srgbClr val="ff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427" name=""/>
                        <p:cNvSpPr txBox="1"/>
                        <p:nvPr/>
                      </p:nvSpPr>
                      <p:spPr>
                        <a:xfrm>
                          <a:off x="6371640" y="4257000"/>
                          <a:ext cx="360000" cy="3596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α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6445440" y="4235400"/>
                      <a:ext cx="430560" cy="76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429" name=""/>
                        <p:cNvSpPr txBox="1"/>
                        <p:nvPr/>
                      </p:nvSpPr>
                      <p:spPr>
                        <a:xfrm>
                          <a:off x="5567400" y="4464720"/>
                          <a:ext cx="301320" cy="38088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O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430" name=""/>
                        <p:cNvSpPr txBox="1"/>
                        <p:nvPr/>
                      </p:nvSpPr>
                      <p:spPr>
                        <a:xfrm>
                          <a:off x="7399080" y="3239280"/>
                          <a:ext cx="269280" cy="30528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P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431" name=""/>
                        <p:cNvSpPr txBox="1"/>
                        <p:nvPr/>
                      </p:nvSpPr>
                      <p:spPr>
                        <a:xfrm>
                          <a:off x="6084360" y="2627280"/>
                          <a:ext cx="317160" cy="3830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y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432" name=""/>
                        <p:cNvSpPr txBox="1"/>
                        <p:nvPr/>
                      </p:nvSpPr>
                      <p:spPr>
                        <a:xfrm>
                          <a:off x="8819640" y="4694040"/>
                          <a:ext cx="312480" cy="3830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x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p:sp>
                  <p:nvSpPr>
                    <p:cNvPr id="433" name=""/>
                    <p:cNvSpPr/>
                    <p:nvPr/>
                  </p:nvSpPr>
                  <p:spPr>
                    <a:xfrm flipH="1">
                      <a:off x="5939640" y="3774600"/>
                      <a:ext cx="15123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7452720" y="3774600"/>
                      <a:ext cx="0" cy="842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435" name=""/>
                        <p:cNvSpPr txBox="1"/>
                        <p:nvPr/>
                      </p:nvSpPr>
                      <p:spPr>
                        <a:xfrm>
                          <a:off x="7235280" y="4617000"/>
                          <a:ext cx="342720" cy="46008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436" name=""/>
                        <p:cNvSpPr txBox="1"/>
                        <p:nvPr/>
                      </p:nvSpPr>
                      <p:spPr>
                        <a:xfrm>
                          <a:off x="5579640" y="3468960"/>
                          <a:ext cx="274320" cy="3830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437" name=""/>
                        <p:cNvSpPr txBox="1"/>
                        <p:nvPr/>
                      </p:nvSpPr>
                      <p:spPr>
                        <a:xfrm>
                          <a:off x="6140160" y="3852000"/>
                          <a:ext cx="591480" cy="32040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r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</p:grpSp>
            </p:grpSp>
            <p:grpSp>
              <p:nvGrpSpPr>
                <p:cNvPr id="438" name=""/>
                <p:cNvGrpSpPr/>
                <p:nvPr/>
              </p:nvGrpSpPr>
              <p:grpSpPr>
                <a:xfrm>
                  <a:off x="7237440" y="4387320"/>
                  <a:ext cx="215280" cy="228960"/>
                  <a:chOff x="7237440" y="4387320"/>
                  <a:chExt cx="215280" cy="22896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flipH="1">
                    <a:off x="7237440" y="4387320"/>
                    <a:ext cx="21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7237440" y="4387320"/>
                    <a:ext cx="0" cy="228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1" name=""/>
              <p:cNvSpPr/>
              <p:nvPr/>
            </p:nvSpPr>
            <p:spPr>
              <a:xfrm>
                <a:off x="1697040" y="5943960"/>
                <a:ext cx="32227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200" spc="-1" strike="noStrike">
                    <a:solidFill>
                      <a:srgbClr val="000000"/>
                    </a:solidFill>
                    <a:latin typeface="Arial"/>
                  </a:rPr>
                  <a:t>Circunferencia unitaria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rigonomet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Trigon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significa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iángul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y 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metro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ed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Trigonometría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"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Medida de triángulos"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imeras aplicaciones: navegación, geodesia, astronom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u origen se remonta a las primeras matemáticas conocidas, en Egipto y Babilonia y la usaban para efectuar medidas en agricultura y en la construcción de las pirámid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900000" y="2401920"/>
                <a:ext cx="10080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rigonomet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Trigonometría es la parte de la geometría que se preocupa de las relaciones de los ángulos y los lados de los triángu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MX" sz="2800" spc="-1" strike="noStrike">
                <a:solidFill>
                  <a:srgbClr val="0000ff"/>
                </a:solidFill>
                <a:latin typeface="Arial"/>
              </a:rPr>
              <a:t>NO TE OLVIDES! 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1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6666ff"/>
                </a:solidFill>
                <a:latin typeface="Arial"/>
              </a:rPr>
              <a:t>  </a:t>
            </a:r>
            <a:r>
              <a:rPr b="1" i="1" lang="es-ES" sz="2500" spc="-1" strike="noStrike">
                <a:solidFill>
                  <a:srgbClr val="6666ff"/>
                </a:solidFill>
                <a:latin typeface="Arial"/>
              </a:rPr>
              <a:t>Ángulo es la abertur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6666ff"/>
                </a:solidFill>
                <a:latin typeface="Arial"/>
              </a:rPr>
              <a:t>  </a:t>
            </a:r>
            <a:r>
              <a:rPr b="1" i="1" lang="es-ES" sz="2500" spc="-1" strike="noStrike">
                <a:solidFill>
                  <a:srgbClr val="6666ff"/>
                </a:solidFill>
                <a:latin typeface="Arial"/>
              </a:rPr>
              <a:t>comprendida entre do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6666ff"/>
                </a:solidFill>
                <a:latin typeface="Arial"/>
              </a:rPr>
              <a:t>  </a:t>
            </a:r>
            <a:r>
              <a:rPr b="1" i="1" lang="es-ES" sz="2500" spc="-1" strike="noStrike">
                <a:solidFill>
                  <a:srgbClr val="6666ff"/>
                </a:solidFill>
                <a:latin typeface="Arial"/>
              </a:rPr>
              <a:t>rectas que se unen en u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6666ff"/>
                </a:solidFill>
                <a:latin typeface="Arial"/>
              </a:rPr>
              <a:t>  </a:t>
            </a:r>
            <a:r>
              <a:rPr b="1" i="1" lang="es-ES" sz="2500" spc="-1" strike="noStrike">
                <a:solidFill>
                  <a:srgbClr val="6666ff"/>
                </a:solidFill>
                <a:latin typeface="Arial"/>
              </a:rPr>
              <a:t>punto llamado vértice.</a:t>
            </a:r>
            <a:r>
              <a:rPr b="0" i="1" lang="es-ES" sz="2500" spc="-1" strike="noStrike">
                <a:solidFill>
                  <a:srgbClr val="6666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970520" y="3359160"/>
            <a:ext cx="3548160" cy="2836080"/>
            <a:chOff x="4970520" y="3359160"/>
            <a:chExt cx="3548160" cy="2836080"/>
          </a:xfrm>
        </p:grpSpPr>
        <p:grpSp>
          <p:nvGrpSpPr>
            <p:cNvPr id="60" name=""/>
            <p:cNvGrpSpPr/>
            <p:nvPr/>
          </p:nvGrpSpPr>
          <p:grpSpPr>
            <a:xfrm>
              <a:off x="5242680" y="3719520"/>
              <a:ext cx="2785320" cy="2475720"/>
              <a:chOff x="5242680" y="3719520"/>
              <a:chExt cx="2785320" cy="2475720"/>
            </a:xfrm>
          </p:grpSpPr>
          <p:sp>
            <p:nvSpPr>
              <p:cNvPr id="61" name=""/>
              <p:cNvSpPr/>
              <p:nvPr/>
            </p:nvSpPr>
            <p:spPr>
              <a:xfrm flipV="1">
                <a:off x="5292720" y="3719520"/>
                <a:ext cx="2448000" cy="1224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292720" y="4943520"/>
                <a:ext cx="27352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242680" y="4367520"/>
                <a:ext cx="1827360" cy="182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42" y="354"/>
                    </a:moveTo>
                    <a:arcTo wR="10800" hR="10800" stAng="-4517672" swAng="33189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42" y="354"/>
                    </a:moveTo>
                    <a:arcTo wR="10800" hR="10800" stAng="-4517672" swAng="331898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6300720" y="4511880"/>
                  <a:ext cx="2746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4970520" y="4799160"/>
                  <a:ext cx="24912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ο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7788240" y="3359160"/>
                  <a:ext cx="3128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8172360" y="4727520"/>
                  <a:ext cx="34632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5435640" y="5446800"/>
                  <a:ext cx="2305080" cy="64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r>
                        <m:t xml:space="preserve"> </m:t>
                      </m:r>
                      <m:r>
                        <m:t xml:space="preserve">aοb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lases de áng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50920" y="2332080"/>
            <a:ext cx="871200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Unidades de medidas de los ángul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6666ff"/>
                </a:solidFill>
                <a:latin typeface="Arial"/>
              </a:rPr>
              <a:t>Una de las formas de expresar los ángulos son los grados sexagesimales. Un ángulo recto tiene 90 grados sexagesimale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rados sexagesimales. 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Si dividimos la circunferencia en 360 partes iguales, cada una se denomina grado sexagesimal. (El término sexagesimal significa que van de 60 en 60, es decir, 1º = 60´ (minutos);  1' = 60´´(segundos)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6666ff"/>
                </a:solidFill>
                <a:latin typeface="Arial"/>
              </a:rPr>
              <a:t>Otra manera de expresar la magnitud de un ángulo son los radiane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Unidades de medidas de los ángu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entender bien el concepto, es conveniente recordar el significado d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r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co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s la línea circular que rodea al ángulo por el extremo de dos segmento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adi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cc33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s-ES" sz="3600" spc="-1" strike="noStrike">
                <a:solidFill>
                  <a:srgbClr val="cc3300"/>
                </a:solidFill>
                <a:latin typeface="Arial"/>
              </a:rPr>
              <a:t>Radianes. </a:t>
            </a:r>
            <a:r>
              <a:rPr b="0" i="1" lang="es-ES" sz="3600" spc="-1" strike="noStrike">
                <a:solidFill>
                  <a:srgbClr val="cc3300"/>
                </a:solidFill>
                <a:latin typeface="Arial"/>
              </a:rPr>
              <a:t>Se dice que un ángulo ß mide un radián (Rad.) si barre un arco de circunferencia de longitud igual al radio de la mism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33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8T01:44:00Z</dcterms:created>
  <dc:creator>Claudia Rahmann</dc:creator>
  <dc:description/>
  <dc:language>en-US</dc:language>
  <cp:lastModifiedBy>Nelson Zamorano</cp:lastModifiedBy>
  <dcterms:modified xsi:type="dcterms:W3CDTF">2008-03-07T22:36:34Z</dcterms:modified>
  <cp:revision>113</cp:revision>
  <dc:subject/>
  <dc:title>FISICA I</dc:title>
</cp:coreProperties>
</file>