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1300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Arial"/>
              </a:rPr>
              <a:t>FI-100-06</a:t>
            </a:r>
            <a:r>
              <a:rPr b="0" lang="es-ES" sz="36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00"/>
                </a:solidFill>
                <a:latin typeface="TCL Elemental Sans"/>
              </a:rPr>
              <a:t>Introducción a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6600"/>
                </a:solidFill>
                <a:latin typeface="TCL Elemental Sans"/>
              </a:rPr>
              <a:t>Física Newtoniana</a:t>
            </a:r>
            <a:r>
              <a:rPr b="0" lang="es-ES" sz="36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cc"/>
                </a:solidFill>
                <a:latin typeface="Arial"/>
              </a:rPr>
              <a:t>Nelson Zamorano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057400" cy="77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44276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3988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740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57704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572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0036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51476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527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516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08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3-13T18:55:55Z</dcterms:modified>
  <cp:revision>42</cp:revision>
  <dc:subject/>
  <dc:title>Sin título de diapositiva</dc:title>
</cp:coreProperties>
</file>