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712D3-1EF8-424F-B604-EE8ADFC58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B8D88-7B57-4E81-A459-2C58BCA43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64B09-1E3A-4EA5-A120-4A6A3B84C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6C2F4-3192-4C60-AF8A-A09E7D829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C8FD0-EC97-4B7C-986F-B11A3C183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4AA10-A3CA-4212-8A73-46585EBD8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28246-254D-482E-816E-18B981317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C9748-884A-4F4E-A4CA-7E586CA4B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98D28-DB03-469A-A273-180682F84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DDF56-E53E-425C-8B29-AD531B318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81C8D-EEF2-4FA2-9ED2-74DA6280D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07D3E-2D93-4B4F-BECB-85533FE56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DAC98-1900-44B5-AABD-8707549C9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86215-64FE-4B69-930D-ED714AEBA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5737B-AD63-4A85-A009-DF44E39FC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5FC45-DDD3-44FF-BD60-95D7F5C65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7DB41-9B6C-42F9-A4C5-854389F71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10BD18-730C-4E56-ACC1-6C444AEDF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298A98-D592-4913-A3F1-87CCF0198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37F825-C9D1-4520-B983-5A94E8CC5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8CDFEE-38E3-49BE-8105-42D0ADFDF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C81FFC-D4A7-4D95-BD17-CB4A0EA57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C1AF9-1B4E-4B0F-AEAC-F84F89A77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C7E175-7A4D-4528-9B25-928FF53DF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CEA0B0-4D70-4B89-963E-7128AE799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220BF7-648C-4F44-A9CA-BE30AE0B8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12D091-5624-4E4B-B0E3-B5D77EB94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21C1BE-19E2-4F1D-8B5E-5230CE176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048284-217C-48CD-A002-23B724A55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57E1FE-921E-4566-B4CF-858062B69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1AF759-9896-4C7C-B028-1548A08DD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2D0E61-7E72-4766-B1D8-C73929791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984AFF-9493-4C73-8763-F9EDB3875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B9600-E328-4758-A6E2-82BEE81AF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8FE885-D282-4A23-A8B9-5D9981419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587407-8A21-43AA-B76F-636EE6820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75CBBE-F8A8-4ED3-A584-BB75EF6DC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DDFA37-6489-4160-A272-9A44CAB11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FBD128-3239-488C-918B-C1BE98885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418DB2-A295-4B59-AD16-C5BD3788F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C50832-AA5C-480D-9DED-6158B1A8D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2C7F89-3874-4CF0-97AE-733BFA8B7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7E5C33-7FC4-449C-A36B-932F2B62D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157B43-F400-4C21-97E9-B8E55E3BD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193C5-FACD-4DB0-8EC8-34CC65814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BF5484-787B-46BA-AC22-30B64EE36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AA3460-AD38-4A4B-AAFF-9E5602148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E197CA-BECC-4AD1-AE69-3D14CE1F0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5B7BEA-FA1C-43E5-8CA9-241F3CA47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C86C80-CB1B-484C-9888-F66F21463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AFEE26-30AE-4C42-9D0C-54C94C915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157C5E-F740-453B-8FAD-831E4488F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014A8D-E7A6-4305-A86C-724C916D1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26096D-B432-42EF-8323-18AA39047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709E28-3E18-401E-808D-361A57DBF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26BA6-DEC1-4D61-829A-7B91C6467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E6E48D-B45A-497C-84AE-402C53102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428B90-A021-43E6-9018-946B5DB66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ACA688-5C37-48E6-A77B-301FD7196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C3F336-5B7F-4FD1-9B50-444F0E180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40A4D7-B07C-42B7-95FA-37ABDE8C9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2FCF55-08E3-4448-BFE8-50F0F5AB4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220A0D-4CC4-47E5-9CCF-E85646D54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3CC9EC-1D7C-4E81-BACC-38B7F6AF7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8807A1-160F-43D3-9BA4-E9B01C7DC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010F56-36E0-4B06-BB62-073567D3F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B2C19-5720-4D64-B7D1-206938487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8BA4E0-97AF-4F87-A62A-4FE82052D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328A8D-342F-4EE6-A9EA-88C62EE3F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65E4EA-64DC-42E9-9EF1-8BBD0E310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037DD-9099-4902-A023-04051DBBD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EB59E-5BC2-4019-BD63-AE8EE8AAD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11 Forma libre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15 Forma libre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C006C-6287-49C5-879F-6BD5A35966DC}" type="datetime">
              <a:rPr b="0" lang="es-ES" sz="1000" spc="-1" strike="noStrike">
                <a:solidFill>
                  <a:srgbClr val="9b9a98"/>
                </a:solidFill>
                <a:latin typeface="Times New Roman"/>
              </a:rPr>
              <a:t>28/07/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B214E-6BE1-41E4-93BB-D198DF6CF8E5}" type="slidenum">
              <a:rPr b="0" lang="es-E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10 Forma libre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12 Forma libre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51EE2-F7A0-45D0-A8E2-6129475955D1}" type="datetime">
              <a:rPr b="0" lang="es-ES" sz="1000" spc="-1" strike="noStrike">
                <a:solidFill>
                  <a:srgbClr val="9b9a98"/>
                </a:solidFill>
                <a:latin typeface="Times New Roman"/>
              </a:rPr>
              <a:t>28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D4960-5CFD-4DBC-A046-60C6E26A1090}" type="slidenum">
              <a:rPr b="0" lang="es-E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10 Forma libre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12 Forma libre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6C398-2F56-486E-8A5E-CA5A33D22086}" type="datetime">
              <a:rPr b="0" lang="es-ES" sz="1000" spc="-1" strike="noStrike">
                <a:solidFill>
                  <a:srgbClr val="9b9a98"/>
                </a:solidFill>
                <a:latin typeface="Times New Roman"/>
              </a:rPr>
              <a:t>28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8827A-5192-4D90-B603-330763D8EC53}" type="slidenum">
              <a:rPr b="0" lang="es-E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34B1D-D4BD-4B40-B6A2-D3CE0EE34316}" type="datetime">
              <a:rPr b="0" lang="es-ES" sz="1000" spc="-1" strike="noStrike">
                <a:solidFill>
                  <a:srgbClr val="9b9a98"/>
                </a:solidFill>
                <a:latin typeface="Times New Roman"/>
              </a:rPr>
              <a:t>28/07/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83C6D-98E3-40A9-B63E-B15BC31F828B}" type="slidenum">
              <a:rPr b="0" lang="es-E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11 Forma libre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15 Forma libre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5BE42-CD68-4D65-BF4A-FAF5DE76F708}" type="datetime">
              <a:rPr b="0" lang="es-ES" sz="1000" spc="-1" strike="noStrike">
                <a:solidFill>
                  <a:srgbClr val="9b9a98"/>
                </a:solidFill>
                <a:latin typeface="Times New Roman"/>
              </a:rPr>
              <a:t>28/07/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2645B-F13F-45A5-8A7E-1EB7BA088337}" type="slidenum">
              <a:rPr b="0" lang="es-E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E6C48-319E-40F8-9A20-FE41B98A19D4}" type="datetime">
              <a:rPr b="0" lang="es-ES" sz="1000" spc="-1" strike="noStrike">
                <a:solidFill>
                  <a:srgbClr val="9b9a98"/>
                </a:solidFill>
                <a:latin typeface="Times New Roman"/>
              </a:rPr>
              <a:t>28/07/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4BA58-B208-4DA6-8351-31A74752F9A8}" type="slidenum">
              <a:rPr b="0" lang="es-E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tigreonline.cl/la_eventas.php" TargetMode="External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tigre2.tigre.cl/descargas/Catalogos/Electricidad_678.pdf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1 Título" descr=""/>
          <p:cNvPicPr/>
          <p:nvPr/>
        </p:nvPicPr>
        <p:blipFill>
          <a:blip r:embed="rId1"/>
          <a:stretch/>
        </p:blipFill>
        <p:spPr>
          <a:xfrm>
            <a:off x="1566720" y="2219400"/>
            <a:ext cx="6491520" cy="2657520"/>
          </a:xfrm>
          <a:prstGeom prst="rect">
            <a:avLst/>
          </a:prstGeom>
          <a:ln w="0">
            <a:noFill/>
          </a:ln>
        </p:spPr>
      </p:pic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6572160" y="4642920"/>
            <a:ext cx="2408400" cy="1752840"/>
          </a:xfrm>
          <a:prstGeom prst="rect">
            <a:avLst/>
          </a:prstGeom>
          <a:noFill/>
          <a:ln w="0">
            <a:noFill/>
          </a:ln>
        </p:spPr>
        <p:txBody>
          <a:bodyPr rIns="45720" tIns="0" bIns="0" anchor="b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d8d8d8"/>
                </a:solidFill>
                <a:latin typeface="Arial"/>
              </a:rPr>
              <a:t>Carlos Juri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d8d8d8"/>
                </a:solidFill>
                <a:latin typeface="Arial"/>
              </a:rPr>
              <a:t>Felipe Mor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6" name="3 CuadroTexto" descr=""/>
          <p:cNvPicPr/>
          <p:nvPr/>
        </p:nvPicPr>
        <p:blipFill>
          <a:blip r:embed="rId2"/>
          <a:stretch/>
        </p:blipFill>
        <p:spPr>
          <a:xfrm>
            <a:off x="208080" y="1743120"/>
            <a:ext cx="5411520" cy="42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600" spc="-1" strike="noStrike">
                <a:solidFill>
                  <a:srgbClr val="ffffff"/>
                </a:solidFill>
                <a:latin typeface="Franklin Gothic Book"/>
              </a:rPr>
              <a:t>Fabricante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Arial"/>
              </a:rPr>
              <a:t>Tigre Chil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499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Tuberías MT y B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499"/>
              </a:spcBef>
              <a:buClr>
                <a:srgbClr val="74856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ondui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499"/>
              </a:spcBef>
              <a:buClr>
                <a:srgbClr val="74856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Tigrefle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499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ajas de Derivac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499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ajas, Coplas, Curv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499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intas Aislant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499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Arial"/>
              </a:rPr>
              <a:t>Vinili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499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499"/>
              </a:spcBef>
              <a:buClr>
                <a:srgbClr val="74856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499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6" name="Picture 3" descr=""/>
          <p:cNvPicPr/>
          <p:nvPr/>
        </p:nvPicPr>
        <p:blipFill>
          <a:blip r:embed="rId1"/>
          <a:stretch/>
        </p:blipFill>
        <p:spPr>
          <a:xfrm>
            <a:off x="4475160" y="853920"/>
            <a:ext cx="1492200" cy="218124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4" descr=""/>
          <p:cNvPicPr/>
          <p:nvPr/>
        </p:nvPicPr>
        <p:blipFill>
          <a:blip r:embed="rId2"/>
          <a:stretch/>
        </p:blipFill>
        <p:spPr>
          <a:xfrm>
            <a:off x="6261120" y="1639800"/>
            <a:ext cx="1487520" cy="226692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5" descr=""/>
          <p:cNvPicPr/>
          <p:nvPr/>
        </p:nvPicPr>
        <p:blipFill>
          <a:blip r:embed="rId3"/>
          <a:stretch/>
        </p:blipFill>
        <p:spPr>
          <a:xfrm>
            <a:off x="4621320" y="2992320"/>
            <a:ext cx="1487520" cy="210996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6" descr=""/>
          <p:cNvPicPr/>
          <p:nvPr/>
        </p:nvPicPr>
        <p:blipFill>
          <a:blip r:embed="rId4"/>
          <a:stretch/>
        </p:blipFill>
        <p:spPr>
          <a:xfrm>
            <a:off x="6473880" y="4206960"/>
            <a:ext cx="1493640" cy="18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700" spc="-1" strike="noStrike">
                <a:solidFill>
                  <a:srgbClr val="ffffff"/>
                </a:solidFill>
                <a:latin typeface="Franklin Gothic Book"/>
              </a:rPr>
              <a:t>Estructura de la Empresa </a:t>
            </a:r>
            <a:br>
              <a:rPr sz="3700"/>
            </a:br>
            <a:r>
              <a:rPr b="0" lang="es-ES" sz="3700" spc="-1" strike="noStrike">
                <a:solidFill>
                  <a:srgbClr val="ffffff"/>
                </a:solidFill>
                <a:latin typeface="Franklin Gothic Book"/>
              </a:rPr>
              <a:t>Tigre Chile</a:t>
            </a:r>
            <a:endParaRPr b="0" lang="en-US" sz="37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28400" y="142884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ffffff"/>
                </a:solidFill>
                <a:latin typeface="Arial"/>
              </a:rPr>
              <a:t>Jefatura División Minería-</a:t>
            </a:r>
            <a:r>
              <a:rPr b="0" lang="es-ES" sz="3000" spc="-1" strike="noStrike">
                <a:solidFill>
                  <a:srgbClr val="ffffff"/>
                </a:solidFill>
                <a:latin typeface="Arial"/>
              </a:rPr>
              <a:t> Jefatura Venta Constructoras</a:t>
            </a:r>
            <a:r>
              <a:rPr b="0" lang="es-CL" sz="3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000"/>
            </a:br>
            <a:r>
              <a:rPr b="1" lang="es-CL" sz="3000" spc="-1" strike="noStrike">
                <a:solidFill>
                  <a:srgbClr val="ffffff"/>
                </a:solidFill>
                <a:latin typeface="Arial"/>
              </a:rPr>
              <a:t>Jimmy Peñailillo</a:t>
            </a:r>
            <a:br>
              <a:rPr sz="3000"/>
            </a:br>
            <a:r>
              <a:rPr b="1" lang="es-CL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ffffff"/>
                </a:solidFill>
                <a:latin typeface="Arial"/>
              </a:rPr>
              <a:t>Sub-Gerente Venta Regiones </a:t>
            </a:r>
            <a:br>
              <a:rPr sz="3000"/>
            </a:br>
            <a:r>
              <a:rPr b="1" lang="es-CL" sz="3000" spc="-1" strike="noStrike">
                <a:solidFill>
                  <a:srgbClr val="ffffff"/>
                </a:solidFill>
                <a:latin typeface="Arial"/>
              </a:rPr>
              <a:t>Luis Bustamante </a:t>
            </a:r>
            <a:r>
              <a:rPr b="1" lang="es-ES" sz="3000" spc="-1" strike="noStrike" u="sng">
                <a:solidFill>
                  <a:srgbClr val="00c8c3"/>
                </a:solidFill>
                <a:uFillTx/>
                <a:latin typeface="Arial"/>
                <a:hlinkClick r:id="rId1"/>
              </a:rPr>
              <a:t>_x000b__x000b_http://www.tigreonline.cl/la_eventas.php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2" name="Picture 4" descr=""/>
          <p:cNvPicPr/>
          <p:nvPr/>
        </p:nvPicPr>
        <p:blipFill>
          <a:blip r:embed="rId2"/>
          <a:stretch/>
        </p:blipFill>
        <p:spPr>
          <a:xfrm>
            <a:off x="6797520" y="1657440"/>
            <a:ext cx="1413000" cy="154944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5" descr=""/>
          <p:cNvPicPr/>
          <p:nvPr/>
        </p:nvPicPr>
        <p:blipFill>
          <a:blip r:embed="rId3"/>
          <a:stretch/>
        </p:blipFill>
        <p:spPr>
          <a:xfrm>
            <a:off x="6797520" y="3517920"/>
            <a:ext cx="1413000" cy="15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600" spc="-1" strike="noStrike">
                <a:solidFill>
                  <a:srgbClr val="ffffff"/>
                </a:solidFill>
                <a:latin typeface="Franklin Gothic Book"/>
              </a:rPr>
              <a:t>Catálogo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 u="sng">
                <a:solidFill>
                  <a:srgbClr val="00c8c3"/>
                </a:solidFill>
                <a:uFillTx/>
                <a:latin typeface="Arial"/>
                <a:hlinkClick r:id="rId1"/>
              </a:rPr>
              <a:t>http://tigre2.tigre.cl/descargas/Catalogos/Electricidad_678.pdf</a:t>
            </a:r>
            <a:r>
              <a:rPr b="0" lang="es-E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 u="sng">
                <a:solidFill>
                  <a:srgbClr val="ffffff"/>
                </a:solidFill>
                <a:uFillTx/>
                <a:latin typeface="Arial"/>
              </a:rPr>
              <a:t>http://tigre2.tigre.cl/descargas/Catalogos/Accesorios_223.pdf</a:t>
            </a:r>
            <a:r>
              <a:rPr b="0" lang="es-E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600" spc="-1" strike="noStrike">
                <a:solidFill>
                  <a:srgbClr val="ffffff"/>
                </a:solidFill>
                <a:latin typeface="Franklin Gothic Book"/>
              </a:rPr>
              <a:t>Estructura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Arial"/>
              </a:rPr>
              <a:t>Origen del PVC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Arial"/>
              </a:rPr>
              <a:t>Materias prima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Arial"/>
              </a:rPr>
              <a:t>Propiedades física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Arial"/>
              </a:rPr>
              <a:t>Características del PVC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Arial"/>
              </a:rPr>
              <a:t>Procesos de producció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Arial"/>
              </a:rPr>
              <a:t>Productos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Arial"/>
              </a:rPr>
              <a:t>Fabricant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600" spc="-1" strike="noStrike">
                <a:solidFill>
                  <a:srgbClr val="ffffff"/>
                </a:solidFill>
                <a:latin typeface="Franklin Gothic Book"/>
              </a:rPr>
              <a:t>Origen del PVC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El Policloruro de vinilo fue descubierto accidentalmente en 2 ocasiones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1835 por Henri Victor Regnaul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1872 por Eugen Baumann en donde aparece como producto plástic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1926, Waldo Semon y B.F Goodrich Co. desarrollaron un método para plastificar PVC (Mayor flexibilidad y facilidad de producción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1" name="Picture 2" descr=""/>
          <p:cNvPicPr/>
          <p:nvPr/>
        </p:nvPicPr>
        <p:blipFill>
          <a:blip r:embed="rId1"/>
          <a:stretch/>
        </p:blipFill>
        <p:spPr>
          <a:xfrm>
            <a:off x="5065560" y="493560"/>
            <a:ext cx="3256200" cy="115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600" spc="-1" strike="noStrike">
                <a:solidFill>
                  <a:srgbClr val="ffffff"/>
                </a:solidFill>
                <a:latin typeface="Franklin Gothic Book"/>
              </a:rPr>
              <a:t>Materias Prima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8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Arial"/>
              </a:rPr>
              <a:t>Sal Comú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Arial"/>
              </a:rPr>
              <a:t>Petróleo o Gas Natur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Arial"/>
              </a:rPr>
              <a:t>Aditivos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lnSpc>
                <a:spcPct val="80000"/>
              </a:lnSpc>
              <a:spcBef>
                <a:spcPts val="60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Plastifican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lnSpc>
                <a:spcPct val="80000"/>
              </a:lnSpc>
              <a:spcBef>
                <a:spcPts val="60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Estabilizado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lnSpc>
                <a:spcPct val="80000"/>
              </a:lnSpc>
              <a:spcBef>
                <a:spcPts val="60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Lubrican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lnSpc>
                <a:spcPct val="80000"/>
              </a:lnSpc>
              <a:spcBef>
                <a:spcPts val="60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Pigmento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lnSpc>
                <a:spcPct val="80000"/>
              </a:lnSpc>
              <a:spcBef>
                <a:spcPts val="60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Espuman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lnSpc>
                <a:spcPct val="80000"/>
              </a:lnSpc>
              <a:spcBef>
                <a:spcPts val="60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600" spc="-1" strike="noStrike">
                <a:solidFill>
                  <a:srgbClr val="ffffff"/>
                </a:solidFill>
                <a:latin typeface="Franklin Gothic Book"/>
              </a:rPr>
              <a:t>Proceso de Producción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80000"/>
              </a:lnSpc>
              <a:spcBef>
                <a:spcPts val="425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ffffff"/>
                </a:solidFill>
                <a:latin typeface="Arial"/>
              </a:rPr>
              <a:t>Sal Común </a:t>
            </a:r>
            <a:r>
              <a:rPr b="0" lang="es-ES" sz="1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7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ES" sz="1700" spc="-1" strike="noStrike">
                <a:solidFill>
                  <a:srgbClr val="ffffff"/>
                </a:solidFill>
                <a:latin typeface="Arial"/>
              </a:rPr>
              <a:t>Cloro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7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ES" sz="1700" spc="-1" strike="noStrike">
                <a:solidFill>
                  <a:srgbClr val="ffffff"/>
                </a:solidFill>
                <a:latin typeface="Arial"/>
              </a:rPr>
              <a:t>Soda Cáustica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7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ES" sz="1700" spc="-1" strike="noStrike">
                <a:solidFill>
                  <a:srgbClr val="ffffff"/>
                </a:solidFill>
                <a:latin typeface="Arial"/>
              </a:rPr>
              <a:t>Hidrógeno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25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ffffff"/>
                </a:solidFill>
                <a:latin typeface="Arial"/>
              </a:rPr>
              <a:t>Petróleo o Gas Natural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7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ES" sz="1700" spc="-1" strike="noStrike">
                <a:solidFill>
                  <a:srgbClr val="ffffff"/>
                </a:solidFill>
                <a:latin typeface="Arial"/>
              </a:rPr>
              <a:t>Etileno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25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ffffff"/>
                </a:solidFill>
                <a:latin typeface="Arial"/>
              </a:rPr>
              <a:t>Cloro + Etileno </a:t>
            </a:r>
            <a:r>
              <a:rPr b="0" lang="es-ES" sz="1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7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ES" sz="1700" spc="-1" strike="noStrike">
                <a:solidFill>
                  <a:srgbClr val="ffffff"/>
                </a:solidFill>
                <a:latin typeface="Arial"/>
              </a:rPr>
              <a:t> Etileno Diclorado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25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25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ffffff"/>
                </a:solidFill>
                <a:latin typeface="Arial"/>
              </a:rPr>
              <a:t>Etileno Diclorado </a:t>
            </a:r>
            <a:r>
              <a:rPr b="0" lang="es-ES" sz="1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7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ES" sz="1700" spc="-1" strike="noStrike">
                <a:solidFill>
                  <a:srgbClr val="ffffff"/>
                </a:solidFill>
                <a:latin typeface="Arial"/>
              </a:rPr>
              <a:t>Cloruro de Vinilo (VCM)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25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25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ffffff"/>
                </a:solidFill>
                <a:latin typeface="Arial"/>
              </a:rPr>
              <a:t>VCM + Polimerizació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7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ES" sz="1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200" spc="-1" strike="noStrike" u="sng">
                <a:solidFill>
                  <a:srgbClr val="ffffff"/>
                </a:solidFill>
                <a:uFillTx/>
                <a:latin typeface="Arial"/>
              </a:rPr>
              <a:t>Policloruro de vinilo (PVC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25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7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600" spc="-1" strike="noStrike">
                <a:solidFill>
                  <a:srgbClr val="ffffff"/>
                </a:solidFill>
                <a:latin typeface="Franklin Gothic Book"/>
              </a:rPr>
              <a:t>Propiedades Física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8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Densidad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1380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          [</a:t>
            </a:r>
            <a:r>
              <a:rPr b="0" lang="es-CL" sz="2000" spc="-1" strike="noStrike" u="sng">
                <a:solidFill>
                  <a:srgbClr val="ffffff"/>
                </a:solidFill>
                <a:uFillTx/>
                <a:latin typeface="Arial"/>
              </a:rPr>
              <a:t>kg/m3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]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Modulo de Young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2900-3400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[MPa]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Esfuerzo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50-80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[MPa]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Elongación Máxima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20-40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[%]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Temperatura Máxima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212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[C]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Coef. de Transf. Calor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0,16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[W/m]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Calor Especifico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0,9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        [kJ/kg·K]</a:t>
            </a:r>
            <a:br>
              <a:rPr sz="2000"/>
            </a:b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Resistividad Eléctrica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l-GR" sz="2000" spc="-1" strike="noStrike" baseline="30000">
                <a:solidFill>
                  <a:srgbClr val="ffffff"/>
                </a:solidFill>
                <a:latin typeface="Arial"/>
              </a:rPr>
              <a:t>17 </a:t>
            </a:r>
            <a:r>
              <a:rPr b="0" lang="es-ES" sz="2000" spc="-1" strike="noStrike" baseline="30000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 baseline="30000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[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Ω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/Cm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600" spc="-1" strike="noStrike">
                <a:solidFill>
                  <a:srgbClr val="ffffff"/>
                </a:solidFill>
                <a:latin typeface="Franklin Gothic Book"/>
              </a:rPr>
              <a:t>Características del PVC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80000"/>
              </a:lnSpc>
              <a:spcBef>
                <a:spcPts val="575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300" spc="-1" strike="noStrike">
                <a:solidFill>
                  <a:srgbClr val="ffffff"/>
                </a:solidFill>
                <a:latin typeface="Arial"/>
              </a:rPr>
              <a:t>Resistente y liviano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75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300" spc="-1" strike="noStrike">
                <a:solidFill>
                  <a:srgbClr val="ffffff"/>
                </a:solidFill>
                <a:latin typeface="Arial"/>
              </a:rPr>
              <a:t>Versatilidad.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75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300" spc="-1" strike="noStrike">
                <a:solidFill>
                  <a:srgbClr val="ffffff"/>
                </a:solidFill>
                <a:latin typeface="Arial"/>
              </a:rPr>
              <a:t>Estabilidad.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75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300" spc="-1" strike="noStrike">
                <a:solidFill>
                  <a:srgbClr val="ffffff"/>
                </a:solidFill>
                <a:latin typeface="Arial"/>
              </a:rPr>
              <a:t>Longevidad.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75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300" spc="-1" strike="noStrike">
                <a:solidFill>
                  <a:srgbClr val="ffffff"/>
                </a:solidFill>
                <a:latin typeface="Arial"/>
              </a:rPr>
              <a:t>Seguridad.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75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300" spc="-1" strike="noStrike">
                <a:solidFill>
                  <a:srgbClr val="ffffff"/>
                </a:solidFill>
                <a:latin typeface="Arial"/>
              </a:rPr>
              <a:t>Reciclable.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75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300" spc="-1" strike="noStrike">
                <a:solidFill>
                  <a:srgbClr val="ffffff"/>
                </a:solidFill>
                <a:latin typeface="Arial"/>
              </a:rPr>
              <a:t>Recuperación de energía (A</a:t>
            </a:r>
            <a:r>
              <a:rPr b="0" lang="es-ES" sz="2300" spc="-1" strike="noStrike">
                <a:solidFill>
                  <a:srgbClr val="ffffff"/>
                </a:solidFill>
                <a:latin typeface="Arial"/>
              </a:rPr>
              <a:t>lto valor energético)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75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300" spc="-1" strike="noStrike">
                <a:solidFill>
                  <a:srgbClr val="ffffff"/>
                </a:solidFill>
                <a:latin typeface="Arial"/>
              </a:rPr>
              <a:t>Buen uso de los recursos.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75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300" spc="-1" strike="noStrike">
                <a:solidFill>
                  <a:srgbClr val="ffffff"/>
                </a:solidFill>
                <a:latin typeface="Arial"/>
              </a:rPr>
              <a:t>Rentable (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osto nulo de mantenimiento</a:t>
            </a:r>
            <a:r>
              <a:rPr b="1" lang="es-ES" sz="2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75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300" spc="-1" strike="noStrike">
                <a:solidFill>
                  <a:srgbClr val="ffffff"/>
                </a:solidFill>
                <a:latin typeface="Arial"/>
              </a:rPr>
              <a:t>Autoextinguible (productos antiflama)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75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300" spc="-1" strike="noStrike">
                <a:solidFill>
                  <a:srgbClr val="ffffff"/>
                </a:solidFill>
                <a:latin typeface="Arial"/>
              </a:rPr>
              <a:t>Aislante eléctrico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600" spc="-1" strike="noStrike">
                <a:solidFill>
                  <a:srgbClr val="ffffff"/>
                </a:solidFill>
                <a:latin typeface="Franklin Gothic Book"/>
              </a:rPr>
              <a:t>Producto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Arial"/>
              </a:rPr>
              <a:t>Construcció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Arial"/>
              </a:rPr>
              <a:t>Mobiliario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Arial"/>
              </a:rPr>
              <a:t>Packing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Arial"/>
              </a:rPr>
              <a:t>Aplicaciones Médica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Arial"/>
              </a:rPr>
              <a:t>Automotriz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Arial"/>
              </a:rPr>
              <a:t>Vario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 u="sng">
                <a:solidFill>
                  <a:srgbClr val="ffffff"/>
                </a:solidFill>
                <a:uFillTx/>
                <a:latin typeface="Arial"/>
              </a:rPr>
              <a:t>“</a:t>
            </a:r>
            <a:r>
              <a:rPr b="0" lang="es-ES" sz="3000" spc="-1" strike="noStrike" u="sng">
                <a:solidFill>
                  <a:srgbClr val="ffffff"/>
                </a:solidFill>
                <a:uFillTx/>
                <a:latin typeface="Arial"/>
              </a:rPr>
              <a:t>Electricidad y Electrónica”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600" spc="-1" strike="noStrike">
                <a:solidFill>
                  <a:srgbClr val="ffffff"/>
                </a:solidFill>
                <a:latin typeface="Franklin Gothic Book"/>
              </a:rPr>
              <a:t>Electricidad y Electrónica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80000"/>
              </a:lnSpc>
              <a:spcBef>
                <a:spcPts val="425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700" spc="-1" strike="noStrike">
                <a:solidFill>
                  <a:srgbClr val="ffffff"/>
                </a:solidFill>
                <a:latin typeface="Arial"/>
              </a:rPr>
              <a:t>Aislamiento  y recubrimiento de cables de diferentes tipos (un tercio de los materiales usados en esta actividad)</a:t>
            </a:r>
            <a:br>
              <a:rPr sz="1700"/>
            </a:br>
            <a:r>
              <a:rPr b="1" lang="es-CL" sz="17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 algn="just">
              <a:lnSpc>
                <a:spcPct val="80000"/>
              </a:lnSpc>
              <a:spcBef>
                <a:spcPts val="3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Arial"/>
              </a:rPr>
              <a:t>Buenas propiedades eléctricas en un amplio rango de temperaturas.</a:t>
            </a:r>
            <a:r>
              <a:rPr b="0" lang="es-CL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 algn="just">
              <a:lnSpc>
                <a:spcPct val="80000"/>
              </a:lnSpc>
              <a:spcBef>
                <a:spcPts val="3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Arial"/>
              </a:rPr>
              <a:t>Excelente durabilidad y larga expectativa de vida (40 años o más).</a:t>
            </a:r>
            <a:r>
              <a:rPr b="0" lang="es-CL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 algn="just">
              <a:lnSpc>
                <a:spcPct val="80000"/>
              </a:lnSpc>
              <a:spcBef>
                <a:spcPts val="3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Arial"/>
              </a:rPr>
              <a:t>Características de fácil procesado para alcanzar las especificaciones deseadas en el producto final, ya sean físicas, mecánicas o eléctricas.</a:t>
            </a:r>
            <a:r>
              <a:rPr b="0" lang="es-CL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 algn="just">
              <a:lnSpc>
                <a:spcPct val="80000"/>
              </a:lnSpc>
              <a:spcBef>
                <a:spcPts val="3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Arial"/>
              </a:rPr>
              <a:t>Resistente a ambientes agresivos.</a:t>
            </a:r>
            <a:r>
              <a:rPr b="0" lang="es-CL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 algn="just">
              <a:lnSpc>
                <a:spcPct val="80000"/>
              </a:lnSpc>
              <a:spcBef>
                <a:spcPts val="3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Arial"/>
              </a:rPr>
              <a:t>Cumple con severos requerimientos de seguridad.</a:t>
            </a:r>
            <a:r>
              <a:rPr b="0" lang="es-CL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 algn="just">
              <a:lnSpc>
                <a:spcPct val="80000"/>
              </a:lnSpc>
              <a:spcBef>
                <a:spcPts val="3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Arial"/>
              </a:rPr>
              <a:t>Tiene un buen precio competitivo comparado con otros materiales.</a:t>
            </a:r>
            <a:r>
              <a:rPr b="0" lang="es-CL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 algn="just">
              <a:lnSpc>
                <a:spcPct val="80000"/>
              </a:lnSpc>
              <a:spcBef>
                <a:spcPts val="3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Arial"/>
              </a:rPr>
              <a:t>De fácil instalación, lo que permite lograr sustanciales ahorros.</a:t>
            </a:r>
            <a:r>
              <a:rPr b="0" lang="es-CL" sz="1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400"/>
            </a:br>
            <a:r>
              <a:rPr b="0" lang="es-CL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25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700" spc="-1" strike="noStrike">
                <a:solidFill>
                  <a:srgbClr val="ffffff"/>
                </a:solidFill>
                <a:latin typeface="Arial"/>
              </a:rPr>
              <a:t>Ejemplos de utilización:</a:t>
            </a:r>
            <a:r>
              <a:rPr b="0" lang="es-CL" sz="1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700"/>
            </a:br>
            <a:r>
              <a:rPr b="0" lang="es-CL" sz="17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80000"/>
              </a:lnSpc>
              <a:spcBef>
                <a:spcPts val="3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Arial"/>
              </a:rPr>
              <a:t>Partes de artefactos eléctricos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80000"/>
              </a:lnSpc>
              <a:spcBef>
                <a:spcPts val="3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Arial"/>
              </a:rPr>
              <a:t>Aislamiento de cables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80000"/>
              </a:lnSpc>
              <a:spcBef>
                <a:spcPts val="3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Arial"/>
              </a:rPr>
              <a:t>Cajas de distribución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80000"/>
              </a:lnSpc>
              <a:spcBef>
                <a:spcPts val="3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Arial"/>
              </a:rPr>
              <a:t>Enchufes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80000"/>
              </a:lnSpc>
              <a:spcBef>
                <a:spcPts val="3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Arial"/>
              </a:rPr>
              <a:t>Carcazas y partes de computadoras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3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2T13:35:38Z</dcterms:created>
  <dc:creator>cjuri</dc:creator>
  <dc:description/>
  <dc:language>en-US</dc:language>
  <cp:lastModifiedBy> Alberto Botteselle Doggenweiler</cp:lastModifiedBy>
  <dcterms:modified xsi:type="dcterms:W3CDTF">2009-05-08T19:48:22Z</dcterms:modified>
  <cp:revision>27</cp:revision>
  <dc:subject/>
  <dc:title>PVC</dc:title>
</cp:coreProperties>
</file>