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DEB9-4A07-42C6-B1E1-B8A34F7E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F38-0609-4C0B-A7DA-3DA4AB35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D9F-8186-4556-8B15-BB8B2306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E2FA-542C-4D5F-B875-48CE178D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269D-10B3-4D91-B20D-94FEC0C2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894F-588D-4739-A9AD-0E003A7D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0C74-8D58-4F71-86D8-8E520557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8BDD-3AC6-48CB-847E-43FABC7E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6367-F218-42B6-8915-CDF17022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C480-0490-4445-A6DE-D994D8C5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FA49-C12A-42BD-A4E1-298EC3D7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8B0-D88B-4637-BB09-2A77BACE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5207-2731-4DBA-AE87-54E48BB9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2A22-5125-45B4-BEC5-5217AF96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4AEA-0A6C-496A-BBE3-497EBE2E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996E-A8B4-4D63-A432-B249315B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9DFC-AEDE-4F0C-ACA5-7B63AC96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755DB-6C94-40F0-B157-15DA9B12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34640-EF82-4CCB-9563-7A741C10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37697-451B-4AAD-A89A-A4C2C8DF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A3C22-BDBD-4FAB-8F77-7D58B514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16462-7E3B-4C08-BB07-0086BB34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CF3-8E73-4560-BDA1-8B65D04A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F2244-9697-4E49-9A14-B6510F52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7CC9-D151-4887-BFB2-601E78E9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39075-E16C-48B2-B981-C21F8ED6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47335-19E1-4ABF-80FB-13EBEADB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3F969-BAA3-4DD5-BB53-17E5E17F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BB97B-9F03-41D8-99DD-DB83FA4B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789D6-F00D-4F0B-BBBF-073EA39E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6F016-FE6A-4DDA-82B3-705FBFE0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3D32F-8A9B-4034-9104-C4AFC969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686C3-1CEC-4F18-B324-FBAF5956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9C0-99A2-4AB0-A1A8-A5AAC70F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27835-0574-4364-B809-77912146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25CE7-2F8D-4757-AE41-3E81626D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0EE34-C452-4F20-A1F0-7914A992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541DE-CE2B-4945-8A78-F99AB471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BAA5D-81AB-43CE-9E7F-0FC01622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6D915-BF40-4E37-A3AC-4DC7D62C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8A700-EB71-4B20-97A7-182F1E44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11D0D-5446-41BC-8109-61FD58BA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A38C0-6933-4592-A794-E287CE4B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9052B-9B1E-4DED-9DEB-E22535DD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A66-D1B9-42A7-8856-00CFBC1A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B65E1-3C23-45A1-A166-FDB80B11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EC215-DA70-4E98-85BC-C363DAEB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F8247-1D11-4161-830A-9FECBDF3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5D529-2B4D-41CC-94B8-9E825E51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326CC-8CA6-48FE-9DB3-0BEB4671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3EC2F-8156-447B-B8E7-CB2E33C1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39A6D-FBB7-4551-86CD-6B866581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3BF93-9307-4BF9-8970-6A5BC3D9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55D99-6FEE-4531-B31F-58B61743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AC981-2F0A-4EDD-B46B-B98BAEA9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98A8-C33C-4E00-AA2B-6C2EBCD2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41FF6-3D0A-481C-9625-C196B7A1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3EED9-3362-43E2-89B6-C056D2B7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395C2-73DC-417D-AA83-9603B601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3DD22-043C-4A04-B132-079C45E5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FFB97-A6DF-4EB1-A262-E485648A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93D61-63D2-448B-BDBF-AD8E7A8A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8EC79-80BA-42F5-8518-65C4A93C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60DA8-0837-4531-9990-B81B25C4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792EB-996D-4701-9B31-BFB85025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7A6C1-E702-4482-904A-8D0084D1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84B0-35BB-48BF-A66E-65905AC3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5A14B-0BB8-47FE-AA89-D64D9B38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DEB71-C12F-49A3-8699-E1E031F8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64302-8340-45D5-BEC7-045F6048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E048-F022-482A-AED3-D6EFC080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BE01-99D5-4560-878C-27FC6112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C530-92FE-4332-ADB9-C4364353F308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23EA-7F31-4422-BF63-0D44149B57EB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0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2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297E-8DBC-4B03-9525-8BBB80DBE012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03BA-F0C5-4478-A1C1-A4DE7AE018B0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0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2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0A05-79F8-483E-9594-7C9D2FE51527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74DA-1737-48EC-92AD-5C7477D62031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EB3E-64A3-493A-B347-EB61D518D019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28C4-448F-46A4-940A-39103687EAF7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30E3-4265-4344-8D49-6BC0DB502E0F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B67F-EA76-480F-943F-4BA4FE3B6D8A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C178-4126-4A50-B312-BB3D1EC31F3E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48AE-14DB-4B61-B669-D9EFE9E02562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igreonline.cl/la_eventas.php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igre2.tigre.cl/descargas/Catalogos/Electricidad_678.pd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1 Título" descr=""/>
          <p:cNvPicPr/>
          <p:nvPr/>
        </p:nvPicPr>
        <p:blipFill>
          <a:blip r:embed="rId1"/>
          <a:stretch/>
        </p:blipFill>
        <p:spPr>
          <a:xfrm>
            <a:off x="1566720" y="2219400"/>
            <a:ext cx="6491520" cy="26575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572160" y="4642920"/>
            <a:ext cx="240840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8d8d8"/>
                </a:solidFill>
                <a:latin typeface="Arial"/>
              </a:rPr>
              <a:t>Carlos Jur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8d8d8"/>
                </a:solidFill>
                <a:latin typeface="Arial"/>
              </a:rPr>
              <a:t>Felipe Mor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3 CuadroTexto" descr=""/>
          <p:cNvPicPr/>
          <p:nvPr/>
        </p:nvPicPr>
        <p:blipFill>
          <a:blip r:embed="rId2"/>
          <a:stretch/>
        </p:blipFill>
        <p:spPr>
          <a:xfrm>
            <a:off x="208080" y="1743120"/>
            <a:ext cx="541152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Fabricant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Tigre Ch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berías MT y B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499"/>
              </a:spcBef>
              <a:buClr>
                <a:srgbClr val="74856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d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499"/>
              </a:spcBef>
              <a:buClr>
                <a:srgbClr val="74856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igrefl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jas de Deriv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jas, Coplas, Cur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ntas Aisl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Vinil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499"/>
              </a:spcBef>
              <a:buClr>
                <a:srgbClr val="74856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4475160" y="853920"/>
            <a:ext cx="1492200" cy="2181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6261120" y="1639800"/>
            <a:ext cx="1487520" cy="2266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"/>
          <p:cNvPicPr/>
          <p:nvPr/>
        </p:nvPicPr>
        <p:blipFill>
          <a:blip r:embed="rId3"/>
          <a:stretch/>
        </p:blipFill>
        <p:spPr>
          <a:xfrm>
            <a:off x="4621320" y="2992320"/>
            <a:ext cx="1487520" cy="2109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"/>
          <p:cNvPicPr/>
          <p:nvPr/>
        </p:nvPicPr>
        <p:blipFill>
          <a:blip r:embed="rId4"/>
          <a:stretch/>
        </p:blipFill>
        <p:spPr>
          <a:xfrm>
            <a:off x="6473880" y="4206960"/>
            <a:ext cx="149364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ffffff"/>
                </a:solidFill>
                <a:latin typeface="Franklin Gothic Book"/>
              </a:rPr>
              <a:t>Estructura de la Empresa </a:t>
            </a:r>
            <a:br>
              <a:rPr sz="3700"/>
            </a:br>
            <a:r>
              <a:rPr b="0" lang="es-ES" sz="3700" spc="-1" strike="noStrike">
                <a:solidFill>
                  <a:srgbClr val="ffffff"/>
                </a:solidFill>
                <a:latin typeface="Franklin Gothic Book"/>
              </a:rPr>
              <a:t>Tigre Chile</a:t>
            </a:r>
            <a:endParaRPr b="0" lang="en-US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28400" y="14288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Jefatura División Minería-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Jefatura Venta Constructoras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000"/>
            </a:br>
            <a:r>
              <a:rPr b="1" lang="es-CL" sz="3000" spc="-1" strike="noStrike">
                <a:solidFill>
                  <a:srgbClr val="ffffff"/>
                </a:solidFill>
                <a:latin typeface="Arial"/>
              </a:rPr>
              <a:t>Jimmy Peñailillo</a:t>
            </a:r>
            <a:br>
              <a:rPr sz="3000"/>
            </a:br>
            <a:r>
              <a:rPr b="1" lang="es-CL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Sub-Gerente Venta Regiones </a:t>
            </a:r>
            <a:br>
              <a:rPr sz="3000"/>
            </a:br>
            <a:r>
              <a:rPr b="1" lang="es-CL" sz="3000" spc="-1" strike="noStrike">
                <a:solidFill>
                  <a:srgbClr val="ffffff"/>
                </a:solidFill>
                <a:latin typeface="Arial"/>
              </a:rPr>
              <a:t>Luis Bustamante </a:t>
            </a:r>
            <a:r>
              <a:rPr b="1" lang="es-E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_x000b__x000b_http://www.tigreonline.cl/la_eventas.ph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2"/>
          <a:stretch/>
        </p:blipFill>
        <p:spPr>
          <a:xfrm>
            <a:off x="6797520" y="1657440"/>
            <a:ext cx="1413000" cy="1549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3"/>
          <a:stretch/>
        </p:blipFill>
        <p:spPr>
          <a:xfrm>
            <a:off x="6797520" y="3517920"/>
            <a:ext cx="141300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Catálog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tigre2.tigre.cl/descargas/Catalogos/Electricidad_678.pdf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 u="sng">
                <a:solidFill>
                  <a:srgbClr val="ffffff"/>
                </a:solidFill>
                <a:uFillTx/>
                <a:latin typeface="Arial"/>
              </a:rPr>
              <a:t>http://tigre2.tigre.cl/descargas/Catalogos/Accesorios_223.pdf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Estructur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Origen del PV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Materias prim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ropiedades físic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Características del PV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rocesos de produc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roducto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Fabrican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Origen del PVC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Policloruro de vinilo fue descubierto accidentalmente en 2 ocasion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835 por Henri Victor Regnaul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872 por Eugen Baumann en donde aparece como producto plástic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926, Waldo Semon y B.F Goodrich Co. desarrollaron un método para plastificar PVC (Mayor flexibilidad y facilidad de producció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5065560" y="493560"/>
            <a:ext cx="325620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Materias Prima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Sal Comú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etróleo o Gas Natur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Aditivo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lastific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tabiliz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ubric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igmen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pum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Proceso de Prod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Sal Común 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Clor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Soda Cáustic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Hidrógen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Petróleo o Gas Natura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Etilen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Cloro + Etileno 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 Etileno Diclorad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Etileno Diclorado 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Cloruro de Vinilo (VCM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VCM + Polimerizació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Policloruro de vinilo (PVC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Propiedades Física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ns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380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[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kg/m3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odulo de Young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900-3400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[MPa]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fuerz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50-80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[MPa]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ongación Máxim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-4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[%]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emperatura Máxim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12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[C]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ef. de Transf. Calo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0,16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[W/m]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alor Especif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0,9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[kJ/kg·K]</a:t>
            </a:r>
            <a:br>
              <a:rPr sz="2000"/>
            </a:b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istividad Eléctric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l-GR" sz="2000" spc="-1" strike="noStrike" baseline="30000">
                <a:solidFill>
                  <a:srgbClr val="ffffff"/>
                </a:solidFill>
                <a:latin typeface="Arial"/>
              </a:rPr>
              <a:t>17 </a:t>
            </a:r>
            <a:r>
              <a:rPr b="0" lang="es-E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/Cm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Características del PVC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Resistente y liviano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Versatilidad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Estabilidad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Longevidad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Seguridad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Reciclable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Recuperación de energía (A</a:t>
            </a:r>
            <a:r>
              <a:rPr b="0" lang="es-ES" sz="2300" spc="-1" strike="noStrike">
                <a:solidFill>
                  <a:srgbClr val="ffffff"/>
                </a:solidFill>
                <a:latin typeface="Arial"/>
              </a:rPr>
              <a:t>lto valor energético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Buen uso de los recurso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Rentable (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sto nulo de mantenimiento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Autoextinguible (productos antiflama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Aislante eléctrico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Product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Construc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Mobiliari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ac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Aplicaciones Médic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Automotri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Vari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0" lang="es-ES" sz="3000" spc="-1" strike="noStrike" u="sng">
                <a:solidFill>
                  <a:srgbClr val="ffffff"/>
                </a:solidFill>
                <a:uFillTx/>
                <a:latin typeface="Arial"/>
              </a:rPr>
              <a:t>Electricidad y Electrónica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Electricidad y Electrónic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ffffff"/>
                </a:solidFill>
                <a:latin typeface="Arial"/>
              </a:rPr>
              <a:t>Aislamiento  y recubrimiento de cables de diferentes tipos (un tercio de los materiales usados en esta actividad)</a:t>
            </a:r>
            <a:br>
              <a:rPr sz="1700"/>
            </a:br>
            <a:r>
              <a:rPr b="1" lang="es-CL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just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Buenas propiedades eléctricas en un amplio rango de temperaturas.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just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Excelente durabilidad y larga expectativa de vida (40 años o más).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just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aracterísticas de fácil procesado para alcanzar las especificaciones deseadas en el producto final, ya sean físicas, mecánicas o eléctricas.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just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Resistente a ambientes agresivos.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just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umple con severos requerimientos de seguridad.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just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Tiene un buen precio competitivo comparado con otros materiales.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just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De fácil instalación, lo que permite lograr sustanciales ahorros.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ffffff"/>
                </a:solidFill>
                <a:latin typeface="Arial"/>
              </a:rPr>
              <a:t>Ejemplos de utilización:</a:t>
            </a: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700"/>
            </a:b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Partes de artefactos eléctrico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Aislamiento de cabl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ajas de distribución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Enchuf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arcazas y partes de computadora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3:35:38Z</dcterms:created>
  <dc:creator>cjuri</dc:creator>
  <dc:description/>
  <dc:language>en-US</dc:language>
  <cp:lastModifiedBy> Alberto Botteselle Doggenweiler</cp:lastModifiedBy>
  <dcterms:modified xsi:type="dcterms:W3CDTF">2009-05-08T19:48:22Z</dcterms:modified>
  <cp:revision>27</cp:revision>
  <dc:subject/>
  <dc:title>PVC</dc:title>
</cp:coreProperties>
</file>