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37B-2AC8-4540-BAAC-430DBEB1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D58-B68B-406C-9E0D-C326634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1AC-20AB-4985-987F-6C9E8716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2EE-13B3-4D0A-BF07-7248A74D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32B8-4371-4070-9225-C9E791D9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96EB-2AF2-4F23-9BE0-E677BB16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721D-4724-4E46-9F51-906C5D76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BFA-1CD6-45D7-9568-EE5066E8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5C2E-0DA1-4F4B-80E1-56CEBEC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8E21-7014-4846-8806-7378C826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D32-07E2-4BA2-A7FF-1FB97CF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4E3-C184-4ED8-8AEA-CCD1BA7E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6147-C482-4372-93D9-5C36EEEF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541E-19A6-48EF-B0A6-02BF5AE6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18A7-DD42-467D-AC9D-ADAE1C9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81AC-9119-4698-BEDB-2FB08C2E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B4F8-7A73-4638-9C44-B76CD50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6994-BCE9-469D-9F12-4929D898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8CF4-1DE0-453B-89D3-EBF79F8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BC27-B04A-4BBD-BF8B-8A68AA4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F4FA4-426A-4683-B142-657226E9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3091-25BA-458E-BB7F-A4D1F3E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D05-6C6D-4C77-A1CD-258780D7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93FAD-16E7-4E90-B1BA-B02DE7E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2795-712F-4C8E-9011-B8BFB5F4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055E-986D-4D00-8626-7E29CCCE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4490A-4D67-4504-9F2F-4C2417E3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3304-F5EB-4425-A809-5A2A0D91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C2DF-5380-4F40-B2B1-ED4A879A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7ADD-ABB0-4FE7-A2C6-D140B110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F2B0-7192-4ACE-AA2C-5E4C89A0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E0EA-A606-41F9-8B1D-6735A87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8758-7E80-4A5F-840B-20C6E595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829-4385-4482-820D-D3B0583C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333E-9B69-4439-98DA-106F35FE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1892-13C7-490E-AED6-0F01D0F6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2F4F-227E-4CB9-9946-539D0188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FF84-7FCF-4D29-9F00-94FB412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89C70-F0C9-42D2-9A02-D8876796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45E7-F3EF-4BF4-BB26-208E4ADF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0ADC-D0C3-48C9-AAA7-46506A61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55C1-7A6E-4FC0-B601-60A7D2F5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1637-A59D-4778-8A62-3AC4621A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84451-D809-4D32-86BA-88C79195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D24-6110-4472-A4A2-27DE803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5E96-8928-4E27-922C-B8118ABD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90F0-D42C-4910-8C7A-DD3F75DC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58D1F-4C0F-4523-A766-34CE53C9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E9A6-D758-435B-86A2-0D1235EA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9314-3EF9-40F7-AD81-44A5F36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A3B5-08DF-473F-B751-7BAC94A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6C4EC-EEE6-4F47-8730-6852917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ED8A-949C-4B4F-841E-2F59358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C3FF5-A6CB-494E-BC47-65D697AE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186F8-74D5-41B6-B220-DD95384C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D5C-0740-4E74-943D-E97BFDB5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A249-DD56-4B29-A930-0E857EC7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2DAE-F3A3-49C0-A7C5-355D0912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54D0-9B7C-46EE-81DB-14230288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BE4CE-A6EA-49BE-A944-9ECD0E9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906D5-CF35-4D4F-8C66-63719A7B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1667-776F-4A50-8BF4-73B91364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B79C-BDD5-424C-B1F8-7B381BD5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1F1B5-2E89-45C9-8082-CB92EA4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DADC-AEAC-4DDF-9ED3-1D020D4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D6C4-68E3-459C-886B-DEA3C67E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7A7-5030-4D81-B2D6-5C17047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EA45D-2C68-4B6C-8DA3-1FC050B9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307A5-68DC-4BDF-BCA0-4E006ADC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80B25-1F3F-435A-A233-3D56C015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BBC-0D59-4A40-9E43-2A216E4C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B58-A6EB-4878-B932-1FAC5B43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F33-6749-4153-A2B9-3779401F20B9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5534-5320-4565-9694-9EB01F79B471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109-F0AA-48B7-968C-D267D054AEC8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D62-33AC-4128-9C08-A2405DE6DEED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B80-F98A-4C5D-8A14-3D9D738D9925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96D9-36B5-4607-A765-8E07C76AB35D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D9C7-260E-47CA-BD4B-FB1231CEFD4C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2F68-4811-4AFA-864E-DDDA7686C7DD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3CE-538D-435F-879E-5E3E96A7D94D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90E5-410D-4672-942B-7908E4277DC7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79A-DE74-4AA9-8F53-6538AB5FBB06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BD2-4AF1-43CE-ABFD-C0BAAA892E02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igreonline.cl/la_eventas.php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igre2.tigre.cl/descargas/Catalogos/Electricidad_678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1566720" y="2219400"/>
            <a:ext cx="6491520" cy="2657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572160" y="4642920"/>
            <a:ext cx="24084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8d8d8"/>
                </a:solidFill>
                <a:latin typeface="Arial"/>
              </a:rPr>
              <a:t>Carlos Ju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8d8d8"/>
                </a:solidFill>
                <a:latin typeface="Arial"/>
              </a:rPr>
              <a:t>Felipe Mo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3 CuadroTexto" descr=""/>
          <p:cNvPicPr/>
          <p:nvPr/>
        </p:nvPicPr>
        <p:blipFill>
          <a:blip r:embed="rId2"/>
          <a:stretch/>
        </p:blipFill>
        <p:spPr>
          <a:xfrm>
            <a:off x="208080" y="1743120"/>
            <a:ext cx="54115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Fabrican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Tigre Ch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berías MT y 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d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gref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as de Deri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as, Coplas, Cur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ntas Aisl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Vinil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475160" y="853920"/>
            <a:ext cx="1492200" cy="2181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6261120" y="1639800"/>
            <a:ext cx="1487520" cy="2266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4621320" y="2992320"/>
            <a:ext cx="1487520" cy="210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6473880" y="4206960"/>
            <a:ext cx="1493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ff"/>
                </a:solidFill>
                <a:latin typeface="Franklin Gothic Book"/>
              </a:rPr>
              <a:t>Estructura de la Empresa </a:t>
            </a:r>
            <a:br>
              <a:rPr sz="3700"/>
            </a:br>
            <a:r>
              <a:rPr b="0" lang="es-ES" sz="3700" spc="-1" strike="noStrike">
                <a:solidFill>
                  <a:srgbClr val="ffffff"/>
                </a:solidFill>
                <a:latin typeface="Franklin Gothic Book"/>
              </a:rPr>
              <a:t>Tigre Chile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400" y="14288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Jefatura División Minería-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Jefatura Venta Constructora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Jimmy Peñailillo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ub-Gerente Venta Regiones 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Luis Bustamante </a:t>
            </a:r>
            <a:r>
              <a:rPr b="1" lang="es-E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_x000b__x000b_http://www.tigreonline.cl/la_eventas.ph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6797520" y="1657440"/>
            <a:ext cx="1413000" cy="1549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6797520" y="3517920"/>
            <a:ext cx="14130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tigre2.tigre.cl/descargas/Catalogos/Electricidad_678.pdf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http://tigre2.tigre.cl/descargas/Catalogos/Accesorios_223.pdf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Estructur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Origen del P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piedades fís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acterísticas del P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cesos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ducto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Fabrica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Origen del PV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Policloruro de vinilo fue descubierto accidentalmente en 2 ocasion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835 por Henri Victor Regnau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872 por Eugen Baumann en donde aparece como producto plást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26, Waldo Semon y B.F Goodrich Co. desarrollaron un método para plastificar PVC (Mayor flexibilidad y facilidad de producció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065560" y="493560"/>
            <a:ext cx="3256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Materias Prim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Sal Comú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etróleo o Gas Natu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ditiv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lastific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iliz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ubric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ig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pum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Sal Común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Soda Cáust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Hidróge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Petróleo o Gas Natura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Etile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o + Etileno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Etileno Diclora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Etileno Diclorado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uro de Vinilo (VCM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VCM + Polimerizació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Policloruro de vinilo (PV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piedades Físic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ns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38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[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kg/m3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dulo de Young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900-340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MPa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fuerz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-8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MPa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ongación Máxim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-4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%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emperatura Máxim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ef. de Transf. Cal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0,16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W/m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lor Especi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0,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[kJ/kg·K]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istividad Eléctr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l-GR" sz="2000" spc="-1" strike="noStrike" baseline="30000">
                <a:solidFill>
                  <a:srgbClr val="ffffff"/>
                </a:solidFill>
                <a:latin typeface="Arial"/>
              </a:rPr>
              <a:t>17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/Cm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racterísticas del PV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sistente y livian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Versatil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Estabil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Longev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Segur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ciclabl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cuperación de energía (A</a:t>
            </a:r>
            <a:r>
              <a:rPr b="0" lang="es-ES" sz="2300" spc="-1" strike="noStrike">
                <a:solidFill>
                  <a:srgbClr val="ffffff"/>
                </a:solidFill>
                <a:latin typeface="Arial"/>
              </a:rPr>
              <a:t>lto valor energético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Buen uso de los recurso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ntable (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sto nulo de mantenimiento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Autoextinguible (productos antiflam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Aislante eléctric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du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onstr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Mobilia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c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plicaciones Méd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utomotri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Electricidad y Electrónica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Electricidad y Electrónic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Aislamiento  y recubrimiento de cables de diferentes tipos (un tercio de los materiales usados en esta actividad)</a:t>
            </a:r>
            <a:br>
              <a:rPr sz="1700"/>
            </a:b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uenas propiedades eléctricas en un amplio rango de temperatura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Excelente durabilidad y larga expectativa de vida (40 años o más)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racterísticas de fácil procesado para alcanzar las especificaciones deseadas en el producto final, ya sean físicas, mecánicas o eléctrica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istente a ambientes agresivo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umple con severos requerimientos de seguridad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Tiene un buen precio competitivo comparado con otros materiale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 fácil instalación, lo que permite lograr sustanciales ahorro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Ejemplos de utilización:</a:t>
            </a: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700"/>
            </a:b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Partes de artefactos eléctrico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islamiento de cab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jas de distribució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Enchuf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rcazas y partes de computador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35:38Z</dcterms:created>
  <dc:creator>cjuri</dc:creator>
  <dc:description/>
  <dc:language>en-US</dc:language>
  <cp:lastModifiedBy> Alberto Botteselle Doggenweiler</cp:lastModifiedBy>
  <dcterms:modified xsi:type="dcterms:W3CDTF">2009-05-08T19:48:22Z</dcterms:modified>
  <cp:revision>27</cp:revision>
  <dc:subject/>
  <dc:title>PVC</dc:title>
</cp:coreProperties>
</file>