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" descr=""/>
          <p:cNvPicPr/>
          <p:nvPr/>
        </p:nvPicPr>
        <p:blipFill>
          <a:blip r:embed="rId1"/>
          <a:stretch/>
        </p:blipFill>
        <p:spPr>
          <a:xfrm>
            <a:off x="4481640" y="334800"/>
            <a:ext cx="4025880" cy="21085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12600" y="2882880"/>
            <a:ext cx="12954240" cy="32259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76" name="Picture 3" descr=""/>
          <p:cNvPicPr/>
          <p:nvPr/>
        </p:nvPicPr>
        <p:blipFill>
          <a:blip r:embed="rId3"/>
          <a:stretch/>
        </p:blipFill>
        <p:spPr>
          <a:xfrm>
            <a:off x="3390840" y="6616800"/>
            <a:ext cx="6210360" cy="26161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1"/>
          <p:cNvSpPr/>
          <p:nvPr/>
        </p:nvSpPr>
        <p:spPr>
          <a:xfrm>
            <a:off x="2313720" y="3058200"/>
            <a:ext cx="8382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ACSR/AW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1041480" y="5029200"/>
            <a:ext cx="4991040" cy="3035160"/>
          </a:xfrm>
          <a:prstGeom prst="rect">
            <a:avLst/>
          </a:prstGeom>
          <a:ln w="0">
            <a:noFill/>
          </a:ln>
        </p:spPr>
      </p:pic>
      <p:sp>
        <p:nvSpPr>
          <p:cNvPr id="728" name="Comment 3"/>
          <p:cNvSpPr/>
          <p:nvPr/>
        </p:nvSpPr>
        <p:spPr>
          <a:xfrm>
            <a:off x="7340760" y="3835440"/>
            <a:ext cx="4698720" cy="439560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Descripción</a:t>
            </a: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Conductor de Aluminio Reforzado con Acero recubierto con Aluminio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Con un centro de acero y un recubrimiento de aluminio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El núcleo puede ser un alambre de acero o puede ser un torón, conformado por 7 ó 19 alambres cableados en forma concéntrica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En algunos cables ACSR/AW de 7 hilos, se encuentran alambres de acero distribuidos en la primera capa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Usos y Aplicaciones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</a:rPr>
              <a:t>Los conductores ACSR/AW se usan en líneas aéreas de transmisión y distribución de energía eléctrica. Los cables ACSR/AW presentan muy buena carga de rotura,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Con diferentes cableados de núcleo de acero se pueden obtener diferentes cargas de rotura, sin sacrificar la capacidad de conducción de corriente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1212840"/>
            <a:ext cx="130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DE ALUMINIO DESNUD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2"/>
          <a:stretch/>
        </p:blipFill>
        <p:spPr>
          <a:xfrm>
            <a:off x="7023240" y="5359320"/>
            <a:ext cx="48132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1478400" presetSubtype="814830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7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"/>
          <p:cNvSpPr/>
          <p:nvPr/>
        </p:nvSpPr>
        <p:spPr>
          <a:xfrm>
            <a:off x="127080" y="1346040"/>
            <a:ext cx="1300464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ECTORES DE ALUMINI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Rectangle 2"/>
          <p:cNvSpPr/>
          <p:nvPr/>
        </p:nvSpPr>
        <p:spPr>
          <a:xfrm>
            <a:off x="1211040" y="3225240"/>
            <a:ext cx="355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ector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luminio Normal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853200" y="5797080"/>
            <a:ext cx="427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ector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Aluminio Anticorona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2"/>
          <a:stretch/>
        </p:blipFill>
        <p:spPr>
          <a:xfrm>
            <a:off x="7950240" y="2806560"/>
            <a:ext cx="2082600" cy="1930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3"/>
          <a:stretch/>
        </p:blipFill>
        <p:spPr>
          <a:xfrm>
            <a:off x="7950240" y="5372280"/>
            <a:ext cx="2082600" cy="1930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6"/>
          <p:cNvSpPr/>
          <p:nvPr/>
        </p:nvSpPr>
        <p:spPr>
          <a:xfrm>
            <a:off x="5778360" y="6095880"/>
            <a:ext cx="1016280" cy="482760"/>
          </a:xfrm>
          <a:prstGeom prst="rightArrow">
            <a:avLst>
              <a:gd name="adj1" fmla="val 32000"/>
              <a:gd name="adj2" fmla="val 115783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5994360" y="3467160"/>
            <a:ext cx="1015920" cy="482400"/>
          </a:xfrm>
          <a:prstGeom prst="rightArrow">
            <a:avLst>
              <a:gd name="adj1" fmla="val 32000"/>
              <a:gd name="adj2" fmla="val 115828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1478784" presetSubtype="795988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3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"/>
          <p:cNvSpPr/>
          <p:nvPr/>
        </p:nvSpPr>
        <p:spPr>
          <a:xfrm>
            <a:off x="0" y="1111320"/>
            <a:ext cx="13004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TALOGO</a:t>
            </a:r>
            <a:endParaRPr b="0" lang="en-US" sz="65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1709640" y="2819520"/>
            <a:ext cx="9569520" cy="551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1479936" presetSubtype="795990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"/>
          <p:cNvSpPr/>
          <p:nvPr/>
        </p:nvSpPr>
        <p:spPr>
          <a:xfrm>
            <a:off x="0" y="1111320"/>
            <a:ext cx="13004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CESO DE VENTA</a:t>
            </a:r>
            <a:endParaRPr b="0" lang="en-US" sz="6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581040" y="309240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 Exporta el Alumino como materia prima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584280" y="384804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 fabrican: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1320840" y="457200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ables Conductores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1320840" y="530856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ectores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584280" y="612144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lientes: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1320840" y="693432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mpresas Distribuidoras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1320840" y="767088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mpresas de Transmisión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slow"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1480320" presetSubtype="79599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3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9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1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1"/>
          <p:cNvSpPr/>
          <p:nvPr/>
        </p:nvSpPr>
        <p:spPr>
          <a:xfrm>
            <a:off x="0" y="1111320"/>
            <a:ext cx="13004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VEEDORES</a:t>
            </a:r>
            <a:endParaRPr b="0" lang="en-US" sz="6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2219400" y="354960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INGELAT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2222640" y="572760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HELPS DODGE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2222640" y="428004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ADECO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222640" y="5003640"/>
            <a:ext cx="8559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OP CABLES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222640" y="6451560"/>
            <a:ext cx="855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GENERAL CABLE (Chilecables)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1480704" presetSubtype="795994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1"/>
          <p:cNvSpPr/>
          <p:nvPr/>
        </p:nvSpPr>
        <p:spPr>
          <a:xfrm>
            <a:off x="0" y="1111320"/>
            <a:ext cx="13004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CLUSIÓN</a:t>
            </a:r>
            <a:endParaRPr b="0" lang="en-US" sz="6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62200" y="4146480"/>
            <a:ext cx="9474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a conductivida del Aluminio es del 60% del cobre.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104840" y="5143680"/>
            <a:ext cx="10794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or ser más ligero aumenta la separación entre las torres.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1765440" y="6134040"/>
            <a:ext cx="9474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5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ejor opción al momento de lineas de trasmisión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1481088" presetSubtype="795996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7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519200" y="1076760"/>
            <a:ext cx="996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ORIGEN DEL MATERIA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911160" y="3733920"/>
            <a:ext cx="8610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stado Natural: Oxido de Aluminio (Al</a:t>
            </a:r>
            <a:r>
              <a:rPr b="0" lang="en-US" sz="3700" spc="-1" strike="noStrike" baseline="-6000">
                <a:solidFill>
                  <a:srgbClr val="414141"/>
                </a:solidFill>
                <a:latin typeface="Gill Sans Light"/>
                <a:ea typeface="Gill Sans Light"/>
              </a:rPr>
              <a:t>2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O</a:t>
            </a:r>
            <a:r>
              <a:rPr b="0" lang="en-US" sz="3700" spc="-1" strike="noStrike" baseline="-6000">
                <a:solidFill>
                  <a:srgbClr val="414141"/>
                </a:solidFill>
                <a:latin typeface="Gill Sans Light"/>
                <a:ea typeface="Gill Sans Light"/>
              </a:rPr>
              <a:t>3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)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914400" y="4444920"/>
            <a:ext cx="8610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Se encuentra en la Bauxita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914400" y="5181480"/>
            <a:ext cx="9677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ara obtenerlo se siguen los siguientes procesos: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1765440" y="5905440"/>
            <a:ext cx="9677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ceso Bayer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1765440" y="6629400"/>
            <a:ext cx="9677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37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Electrolisis</a:t>
            </a:r>
            <a:endParaRPr b="0" lang="en-US" sz="37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3" name="Picture 7" descr=""/>
          <p:cNvPicPr/>
          <p:nvPr/>
        </p:nvPicPr>
        <p:blipFill>
          <a:blip r:embed="rId6"/>
          <a:stretch/>
        </p:blipFill>
        <p:spPr>
          <a:xfrm>
            <a:off x="5715000" y="7581960"/>
            <a:ext cx="1577880" cy="204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0180352" presetSubtype="719365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75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2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85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74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975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1"/>
          <p:cNvSpPr/>
          <p:nvPr/>
        </p:nvSpPr>
        <p:spPr>
          <a:xfrm>
            <a:off x="3432600" y="1089360"/>
            <a:ext cx="613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PIEDAD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301680" y="2959200"/>
            <a:ext cx="5753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Metal Ligero y Dúctil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17520" y="3962520"/>
            <a:ext cx="1137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Lucida Grande"/>
              </a:rPr>
              <a:t> 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Lucida Grande"/>
              </a:rPr>
              <a:t>Conductividad Eléctrica entre 34 y 38 m/(Ω*mm</a:t>
            </a:r>
            <a:r>
              <a:rPr b="0" lang="en-US" sz="4200" spc="-1" strike="noStrike" baseline="32000">
                <a:solidFill>
                  <a:srgbClr val="414141"/>
                </a:solidFill>
                <a:latin typeface="Gill Sans Light"/>
                <a:ea typeface="Gill Sans Light"/>
              </a:rPr>
              <a:t>2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)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304920" y="5029200"/>
            <a:ext cx="10909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ividad Térmica (80 a 230 W/m*K)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317520" y="6095880"/>
            <a:ext cx="1137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Resistente a la corrosión, a los productos químicos, a la intemperie y al agua de mar, gracias a la capa de Al</a:t>
            </a:r>
            <a:r>
              <a:rPr b="0" lang="en-US" sz="4200" spc="-1" strike="noStrike" baseline="-6000">
                <a:solidFill>
                  <a:srgbClr val="414141"/>
                </a:solidFill>
                <a:latin typeface="Gill Sans Light"/>
                <a:ea typeface="Gill Sans Light"/>
              </a:rPr>
              <a:t>2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O</a:t>
            </a:r>
            <a:r>
              <a:rPr b="0" lang="en-US" sz="4200" spc="-1" strike="noStrike" baseline="-6000">
                <a:solidFill>
                  <a:srgbClr val="414141"/>
                </a:solidFill>
                <a:latin typeface="Gill Sans Light"/>
                <a:ea typeface="Gill Sans Light"/>
              </a:rPr>
              <a:t>3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formada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304920" y="8280360"/>
            <a:ext cx="10909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 </a:t>
            </a:r>
            <a:r>
              <a:rPr b="0" lang="en-US" sz="4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Barato y Reciclable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0180736" presetSubtype="719371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925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4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825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1401120" y="1127520"/>
            <a:ext cx="10200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CESO DE PRODUCCIÓN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970560" y="2709720"/>
            <a:ext cx="149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Gill Sans"/>
                <a:ea typeface="Gill Sans"/>
              </a:rPr>
              <a:t>Extracción 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Gill Sans"/>
                <a:ea typeface="Gill Sans"/>
              </a:rPr>
              <a:t>de la Bauxita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669960" y="4275000"/>
            <a:ext cx="2082600" cy="19684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4048200" y="3720960"/>
            <a:ext cx="4248000" cy="5600880"/>
          </a:xfrm>
          <a:prstGeom prst="rect">
            <a:avLst/>
          </a:prstGeom>
          <a:ln w="0">
            <a:noFill/>
          </a:ln>
        </p:spPr>
      </p:pic>
      <p:sp>
        <p:nvSpPr>
          <p:cNvPr id="694" name="AutoShape 5"/>
          <p:cNvSpPr/>
          <p:nvPr/>
        </p:nvSpPr>
        <p:spPr>
          <a:xfrm>
            <a:off x="3137040" y="2743200"/>
            <a:ext cx="1015920" cy="482760"/>
          </a:xfrm>
          <a:prstGeom prst="rightArrow">
            <a:avLst>
              <a:gd name="adj1" fmla="val 32000"/>
              <a:gd name="adj2" fmla="val 115741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5" name="AutoShape 6"/>
          <p:cNvSpPr/>
          <p:nvPr/>
        </p:nvSpPr>
        <p:spPr>
          <a:xfrm>
            <a:off x="8178840" y="2743200"/>
            <a:ext cx="1015920" cy="482760"/>
          </a:xfrm>
          <a:prstGeom prst="rightArrow">
            <a:avLst>
              <a:gd name="adj1" fmla="val 32000"/>
              <a:gd name="adj2" fmla="val 115741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6" name="Picture 7" descr=""/>
          <p:cNvPicPr/>
          <p:nvPr/>
        </p:nvPicPr>
        <p:blipFill>
          <a:blip r:embed="rId3"/>
          <a:stretch/>
        </p:blipFill>
        <p:spPr>
          <a:xfrm>
            <a:off x="9399600" y="4495680"/>
            <a:ext cx="3048120" cy="17910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8"/>
          <p:cNvSpPr/>
          <p:nvPr/>
        </p:nvSpPr>
        <p:spPr>
          <a:xfrm>
            <a:off x="9869760" y="2763360"/>
            <a:ext cx="1550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14141"/>
                </a:solidFill>
                <a:latin typeface="Gill Sans"/>
                <a:ea typeface="Gill Sans"/>
              </a:rPr>
              <a:t>Alúmina</a:t>
            </a:r>
            <a:endParaRPr b="0" lang="en-US" sz="29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4857120" y="2763360"/>
            <a:ext cx="2609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14141"/>
                </a:solidFill>
                <a:latin typeface="Gill Sans"/>
                <a:ea typeface="Gill Sans"/>
              </a:rPr>
              <a:t>Proceso Bayer</a:t>
            </a:r>
            <a:endParaRPr b="0" lang="en-US" sz="29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0181120" presetSubtype="719378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1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7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"/>
          <p:cNvSpPr/>
          <p:nvPr/>
        </p:nvSpPr>
        <p:spPr>
          <a:xfrm>
            <a:off x="1362600" y="1114920"/>
            <a:ext cx="106336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CESOS DE PRODUCCIÓN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0" name="Rectangle 2"/>
          <p:cNvSpPr/>
          <p:nvPr/>
        </p:nvSpPr>
        <p:spPr>
          <a:xfrm>
            <a:off x="5438160" y="3116160"/>
            <a:ext cx="246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4141"/>
                </a:solidFill>
                <a:latin typeface="Gill Sans"/>
                <a:ea typeface="Gill Sans"/>
              </a:rPr>
              <a:t>Electrólisi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01" name="Picture 3" descr=""/>
          <p:cNvPicPr/>
          <p:nvPr/>
        </p:nvPicPr>
        <p:blipFill>
          <a:blip r:embed="rId1"/>
          <a:stretch/>
        </p:blipFill>
        <p:spPr>
          <a:xfrm>
            <a:off x="4597560" y="4768920"/>
            <a:ext cx="3797280" cy="27432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"/>
          <p:cNvPicPr/>
          <p:nvPr/>
        </p:nvPicPr>
        <p:blipFill>
          <a:blip r:embed="rId2"/>
          <a:stretch/>
        </p:blipFill>
        <p:spPr>
          <a:xfrm>
            <a:off x="1019160" y="4889520"/>
            <a:ext cx="2552760" cy="149868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5"/>
          <p:cNvSpPr/>
          <p:nvPr/>
        </p:nvSpPr>
        <p:spPr>
          <a:xfrm>
            <a:off x="1513080" y="3182400"/>
            <a:ext cx="1550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14141"/>
                </a:solidFill>
                <a:latin typeface="Gill Sans"/>
                <a:ea typeface="Gill Sans"/>
              </a:rPr>
              <a:t>Alúmina</a:t>
            </a:r>
            <a:endParaRPr b="0" lang="en-US" sz="29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4" name="AutoShape 6"/>
          <p:cNvSpPr/>
          <p:nvPr/>
        </p:nvSpPr>
        <p:spPr>
          <a:xfrm>
            <a:off x="3835440" y="3162240"/>
            <a:ext cx="1015920" cy="482760"/>
          </a:xfrm>
          <a:prstGeom prst="rightArrow">
            <a:avLst>
              <a:gd name="adj1" fmla="val 32000"/>
              <a:gd name="adj2" fmla="val 115741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05" name="Picture 7" descr=""/>
          <p:cNvPicPr/>
          <p:nvPr/>
        </p:nvPicPr>
        <p:blipFill>
          <a:blip r:embed="rId3"/>
          <a:stretch/>
        </p:blipFill>
        <p:spPr>
          <a:xfrm>
            <a:off x="9780480" y="4775040"/>
            <a:ext cx="2540160" cy="255276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8"/>
          <p:cNvSpPr/>
          <p:nvPr/>
        </p:nvSpPr>
        <p:spPr>
          <a:xfrm>
            <a:off x="8496360" y="3162240"/>
            <a:ext cx="1015920" cy="482760"/>
          </a:xfrm>
          <a:prstGeom prst="rightArrow">
            <a:avLst>
              <a:gd name="adj1" fmla="val 32000"/>
              <a:gd name="adj2" fmla="val 115741"/>
            </a:avLst>
          </a:prstGeom>
          <a:solidFill>
            <a:srgbClr val="6c7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10005120" y="3122640"/>
            <a:ext cx="207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4141"/>
                </a:solidFill>
                <a:latin typeface="Gill Sans"/>
                <a:ea typeface="Gill Sans"/>
              </a:rPr>
              <a:t>Aluminio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slow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0181888" presetSubtype="79597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3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9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4014000" y="1102320"/>
            <a:ext cx="497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PRODUCTO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365040" y="2933640"/>
            <a:ext cx="126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para las lineas de Media y Alta Tensión</a:t>
            </a:r>
            <a:endParaRPr b="0" lang="en-US" sz="39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140360" y="49784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0182272" presetSubtype="79597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"/>
          <p:cNvSpPr/>
          <p:nvPr/>
        </p:nvSpPr>
        <p:spPr>
          <a:xfrm>
            <a:off x="0" y="1212840"/>
            <a:ext cx="130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DE ALUMINIO DESNUD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2129040" y="3058200"/>
            <a:ext cx="8753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AAC ó ASC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3" name="Picture 3" descr=""/>
          <p:cNvPicPr/>
          <p:nvPr/>
        </p:nvPicPr>
        <p:blipFill>
          <a:blip r:embed="rId1"/>
          <a:stretch/>
        </p:blipFill>
        <p:spPr>
          <a:xfrm>
            <a:off x="647640" y="4657680"/>
            <a:ext cx="5232600" cy="3152880"/>
          </a:xfrm>
          <a:prstGeom prst="rect">
            <a:avLst/>
          </a:prstGeom>
          <a:ln w="0">
            <a:noFill/>
          </a:ln>
        </p:spPr>
      </p:pic>
      <p:sp>
        <p:nvSpPr>
          <p:cNvPr id="714" name="Comment 4"/>
          <p:cNvSpPr/>
          <p:nvPr/>
        </p:nvSpPr>
        <p:spPr>
          <a:xfrm>
            <a:off x="1028880" y="1562040"/>
            <a:ext cx="4851360" cy="323532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Descripción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</a:rPr>
              <a:t>Conductor de Aluminio Cableado Concéntrico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</a:rPr>
              <a:t>Alambres de aluminio 1350-H19 cableados de forma concéntrica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Usos y Aplicaciones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</a:rPr>
              <a:t>Estos son utilizados el líneas aéreas de transmisión y de distribución de energía eléctrica en donde no se necesita una carga de rotura tan alta, se utiliza en vanos o tramos cortos, o como neutro en para cables de distribución tipo múltiplex con fases de aluminio aisladas y cableados alrededor del neutro en AAC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5" name="Picture 5" descr=""/>
          <p:cNvPicPr/>
          <p:nvPr/>
        </p:nvPicPr>
        <p:blipFill>
          <a:blip r:embed="rId2"/>
          <a:stretch/>
        </p:blipFill>
        <p:spPr>
          <a:xfrm>
            <a:off x="6654960" y="4584600"/>
            <a:ext cx="570384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0182656" presetSubtype="79597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3036600" y="2562840"/>
            <a:ext cx="693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AAAC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787320" y="5041800"/>
            <a:ext cx="5079960" cy="3086280"/>
          </a:xfrm>
          <a:prstGeom prst="rect">
            <a:avLst/>
          </a:prstGeom>
          <a:ln w="0">
            <a:noFill/>
          </a:ln>
        </p:spPr>
      </p:pic>
      <p:sp>
        <p:nvSpPr>
          <p:cNvPr id="718" name="Comment 3"/>
          <p:cNvSpPr/>
          <p:nvPr/>
        </p:nvSpPr>
        <p:spPr>
          <a:xfrm>
            <a:off x="546120" y="2095560"/>
            <a:ext cx="5079960" cy="376704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Descripción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</a:rPr>
              <a:t>Conductor de Aleación de Aluminio All Aluminum Alloy Conductor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Alambres de aleación de aluminio 6201-T81 cableados concéntricamente.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Usos y Aplicaciones:</a:t>
            </a:r>
            <a:br>
              <a:rPr sz="1600"/>
            </a:b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ヒラギノ明朝 ProN W3"/>
              </a:rPr>
              <a:t>Los conductores AAAC se usan en líneas aéreas de transmisión y distribución </a:t>
            </a:r>
            <a:br>
              <a:rPr sz="1600"/>
            </a:b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ヒラギノ明朝 ProN W3"/>
              </a:rPr>
              <a:t>de energía eléctrica. Como en el conductor anterior también se utilizan como neutro para cables de distribución tipo Múltiplex con fases de aluminio o aleación de aluminio aislado y cableado alrededor del neutro en AAAC.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ヒラギノ明朝 ProN W3"/>
              </a:rPr>
              <a:t>Los conductores AAAC presentan una mayor capacidad de rotura además y una buena resistencia a la corrosión.</a:t>
            </a:r>
            <a:endParaRPr b="0" lang="en-US" sz="1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1162080"/>
            <a:ext cx="130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DE ALUMINIO DESNUD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0" name="Picture 5" descr=""/>
          <p:cNvPicPr/>
          <p:nvPr/>
        </p:nvPicPr>
        <p:blipFill>
          <a:blip r:embed="rId2"/>
          <a:stretch/>
        </p:blipFill>
        <p:spPr>
          <a:xfrm>
            <a:off x="6921360" y="5268960"/>
            <a:ext cx="46483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1477632" presetSubtype="809406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"/>
          <p:cNvSpPr/>
          <p:nvPr/>
        </p:nvSpPr>
        <p:spPr>
          <a:xfrm>
            <a:off x="3030120" y="2651760"/>
            <a:ext cx="6924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ACAR</a:t>
            </a:r>
            <a:endParaRPr b="0" lang="en-US" sz="6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914400" y="4788000"/>
            <a:ext cx="4788000" cy="3124080"/>
          </a:xfrm>
          <a:prstGeom prst="rect">
            <a:avLst/>
          </a:prstGeom>
          <a:ln w="0">
            <a:noFill/>
          </a:ln>
        </p:spPr>
      </p:pic>
      <p:sp>
        <p:nvSpPr>
          <p:cNvPr id="723" name="Comment 3"/>
          <p:cNvSpPr/>
          <p:nvPr/>
        </p:nvSpPr>
        <p:spPr>
          <a:xfrm>
            <a:off x="2730600" y="1816200"/>
            <a:ext cx="5092560" cy="2904840"/>
          </a:xfrm>
          <a:prstGeom prst="rect">
            <a:avLst/>
          </a:prstGeom>
          <a:solidFill>
            <a:srgbClr val="faf087"/>
          </a:solidFill>
          <a:ln w="0">
            <a:noFill/>
          </a:ln>
          <a:effectLst>
            <a:outerShdw dist="5076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Conductor de Aluminio Reforzado con Aleación de Aluminio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(Aluminum Conductor Aluminum Alloy Reinforced)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Construidos con alambres de aluminio 1350-H19 cableados concéntricamente alrededor de un núcleo de aleación de aluminio. En algunos conductores los alambres de aleación de aluminio se encuentran distribuidos en capas, combinados con alambres de aluminio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Usos y Aplicaciones</a:t>
            </a: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: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Los conductores eléctricos ACAR se usan en líneas aéreas de transmisión y distribución</a:t>
            </a:r>
            <a:br>
              <a:rPr sz="1300"/>
            </a:br>
            <a:r>
              <a:rPr b="0" lang="en-US" sz="1300" spc="-1" strike="noStrike">
                <a:solidFill>
                  <a:srgbClr val="414141"/>
                </a:solidFill>
                <a:latin typeface="Trebuchet MS"/>
                <a:ea typeface="Trebuchet MS"/>
              </a:rPr>
              <a:t>de energía eléctrica, la relación de carga de rotura a peso los hace excelentes para los sitios en donde se requieren buenas características de conducción de corriente.</a:t>
            </a:r>
            <a:endParaRPr b="0" lang="en-US" sz="13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1212840"/>
            <a:ext cx="130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CONDUCTORES DE ALUMINIO DESNUDO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5" name="Picture 5" descr=""/>
          <p:cNvPicPr/>
          <p:nvPr/>
        </p:nvPicPr>
        <p:blipFill>
          <a:blip r:embed="rId2"/>
          <a:stretch/>
        </p:blipFill>
        <p:spPr>
          <a:xfrm>
            <a:off x="6997680" y="4902120"/>
            <a:ext cx="4356000" cy="29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1478016" presetSubtype="814822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Alberto Botteselle Doggenweiler</cp:lastModifiedBy>
  <dcterms:modified xsi:type="dcterms:W3CDTF">2009-05-08T19:44:33Z</dcterms:modified>
  <cp:revision>1</cp:revision>
  <dc:subject/>
  <dc:title>Diapositiva 1</dc:title>
</cp:coreProperties>
</file>