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4115-39E3-4D6A-9093-50F2D010FD61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2705-25B4-4756-942C-29CD1C1738C6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F31-C8E3-4E31-B9C6-B4B6AA504A2B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943-4AAD-413C-9C39-B2D97669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043-A1A2-42B9-8328-77D907A2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6C0-8316-447F-81B3-333DB834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E04-1790-4AF2-BFBF-B1321D91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6DF3-6F6D-4F52-9E81-4D217242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AC1C-AFD4-4C37-8D47-54DA0291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E02E-4633-4E31-983F-12755233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E6B3-54D7-4F8A-BA87-2725166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8BD4-659C-48DC-80E1-D4262FF0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545E-652D-459D-81D4-47F4E9DA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9934-9B96-4432-BE91-3DCEB4DA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4DD-C525-4496-B614-49A3AE2E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9FC-64C1-4D6A-BADD-6740B94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0D7E-292D-498A-B02C-06411F7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0213-9AB9-4857-807F-271636F2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C584-8653-4000-AEF6-B5EE586C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B79F-67F6-41A9-9CDB-05922DFB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631-774C-4403-85A9-A355B256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310-B5EA-4D1C-821B-4288F312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BA9-3008-4328-867B-6D9F204E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A8B-4927-4B59-85F8-E67745C0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A21-D773-4B5D-BB66-63570E6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8B9-51D8-43D0-AAC5-5D7746B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EFA-3C0B-4849-8907-3796E79A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AC35-9006-4FAA-AE8D-507766387B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942B-1923-438F-A531-701167F476AE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Bebidas Alcohól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ino y vinag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erv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a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Fermentacao_tanques_od"/>
          <p:cNvPicPr/>
          <p:nvPr/>
        </p:nvPicPr>
        <p:blipFill>
          <a:blip r:embed="rId1"/>
          <a:stretch/>
        </p:blipFill>
        <p:spPr>
          <a:xfrm>
            <a:off x="3203640" y="2930400"/>
            <a:ext cx="5178240" cy="28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28760" y="31680"/>
            <a:ext cx="828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Criterios más importantes para el diseño de un fermentado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l tanque debe diseñarse para que funcione asépticam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Se debe proporcionar un sistema adecuado de aireación y agitación para cubrir las necesidades metabólicas de los microorganism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Bajo consumo energétic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Control de p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Toma de muest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Sistema para el control de la tempera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s pérdidas por evaporación no deben ser excesivas.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28760" y="32760"/>
            <a:ext cx="8280360" cy="75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Mínimas operaciones laborales durante el funcionamiento, recolección, limpieza y mantenimien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l tanque debe ser versátil para la aplicación de diversas modalidades de proces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s superficies internas del tanque deben ser lis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 geometría del fermentador debe ser similar a otros tanques más pequeños o mayores de la planta o a los de la planta piloto para poder reproducir procesos a diferentes esca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s recomendable utilizar materiales baratos que proporcionen resultados satisfactor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28760" y="-196200"/>
            <a:ext cx="82803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Factores fisicoquímicos que afectan al rendimiento de las fermentaciones industria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Oxígen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Tempera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p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006666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3" descr="fermentadores__modos_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57200" y="0"/>
            <a:ext cx="86868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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971640" y="119700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4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971640" y="4724280"/>
                <a:ext cx="3659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7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1979640" y="148428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6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1332000" y="3716280"/>
            <a:ext cx="7812000" cy="2151000"/>
            <a:chOff x="1332000" y="371628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76" name="Object 8"/>
                <p:cNvSpPr txBox="1"/>
                <p:nvPr/>
              </p:nvSpPr>
              <p:spPr>
                <a:xfrm>
                  <a:off x="1332000" y="416700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77" name="Picture 9" descr=""/>
            <p:cNvPicPr/>
            <p:nvPr/>
          </p:nvPicPr>
          <p:blipFill>
            <a:blip r:embed="rId1"/>
            <a:stretch/>
          </p:blipFill>
          <p:spPr>
            <a:xfrm>
              <a:off x="6329520" y="371628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4284720" y="467028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9" name="Text Box 11"/>
          <p:cNvSpPr/>
          <p:nvPr/>
        </p:nvSpPr>
        <p:spPr>
          <a:xfrm>
            <a:off x="826920" y="5805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Experimento 31 de Marz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aboratorio    Experiencia "Cultivos Batch en Matraz de 500 ml"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Cultivo Continu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Existen diferentes mo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 operar fermentador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inuo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Quimostato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(Perfectamente agitado, CSTR, RP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4" descr="chemost"/>
          <p:cNvPicPr/>
          <p:nvPr/>
        </p:nvPicPr>
        <p:blipFill>
          <a:blip r:embed="rId1"/>
          <a:stretch/>
        </p:blipFill>
        <p:spPr>
          <a:xfrm>
            <a:off x="5105520" y="98100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aracterísticas del Quimostato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e le llamó Quimostato dado que la composición química y biológica del medio se mantiene constante, para ello se debe controlar: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volumen del líquido en el reactor se mantiene constante, ajustando los flujos de entrada y salida al mismo val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pH del medio mediante la adición de ácido o base. Generalmente se adiciona ácid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suministro continuo de O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( o aire), en el caso de sistemas aeróbic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 nivel de agitación adecuado que garantice la homogeneidad del siste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os principales componentes de un cultivo continuo son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eactor de volumen consta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limentación de medio y salida de produc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Tanque estéril de medio (entrada y salid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trol de pH, T, OD (Oxígeno disuelto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ireación y agitació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91" name="Text Box 3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aphicFrame>
          <p:nvGraphicFramePr>
            <p:cNvPr id="192" name="Object 4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94" name="Picture 5" descr="f15_5"/>
          <p:cNvPicPr/>
          <p:nvPr/>
        </p:nvPicPr>
        <p:blipFill>
          <a:blip r:embed="rId3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8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9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57200" y="0"/>
            <a:ext cx="86868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alance de Biomas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"/>
              <a:tabLst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87280" y="836640"/>
                <a:ext cx="6578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4500720" y="3414600"/>
                <a:ext cx="549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4211640" y="2708280"/>
                <a:ext cx="5284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212" name="Rectangle 8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15" name="Rectangle 11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50920" y="1052640"/>
            <a:ext cx="5400720" cy="3889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1835280" y="2852640"/>
            <a:ext cx="280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6012000" y="2781360"/>
            <a:ext cx="259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8" name="Picture 34" descr="800px-Cut_sugarcane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5" descr="maiz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6" descr="stra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7"/>
          <p:cNvSpPr/>
          <p:nvPr/>
        </p:nvSpPr>
        <p:spPr>
          <a:xfrm>
            <a:off x="2195640" y="54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Presentación 1:   7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 de Abri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5867280" y="981000"/>
            <a:ext cx="2881440" cy="489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Rectangle 39"/>
          <p:cNvSpPr/>
          <p:nvPr/>
        </p:nvSpPr>
        <p:spPr>
          <a:xfrm>
            <a:off x="2987640" y="5157720"/>
            <a:ext cx="2735280" cy="15112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250920" y="5519880"/>
            <a:ext cx="2520720" cy="133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Formas de ferment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HF, SSF, SSCF y CBP o DM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700" spc="-1" strike="noStrike">
                <a:solidFill>
                  <a:srgbClr val="ffffcc"/>
                </a:solidFill>
                <a:latin typeface="Arial"/>
              </a:rPr>
              <a:t>Producción de Biomasa a escala Industria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¿Qué es la fermentació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f. Acción y efecto de ferment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r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Del lat.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fermentār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.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intr. Dicho de los hidratos de carbono: Degradarse por acción enzimática, dando lugar a productos sencillos, como el alcohol etí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Cómo debemos entender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n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ausencia de oxígeno): produce compuestos meno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presencia de oxígeno): produce compuestos algo má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Por qué en un microorganismo se produce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Respuest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ara producir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Ejemplo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evadura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Saccharomyces cerevisia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n ausencia de oxígen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lucosa </a:t>
            </a:r>
            <a:r>
              <a:rPr b="0" lang="es-E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tanol + CO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+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Tipos de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5280" y="1197000"/>
          <a:ext cx="8748720" cy="551484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Tipo de fermentac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duct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Organism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cohól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tanol +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Levadura (Saccharomyce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del ácido láctico (Streptococcus, lactobacillus, etc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mixt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Escherichia, Salmonell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Aerobacter, Serrati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i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ítico, ácido acético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butyr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 – bu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, butanol, e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acetobutyl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pionibacterium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Ácidos Orgán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minoáci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Vitamin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Hormonas (esteroid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ntibiót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ick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ucr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ite de oliv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to balsám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alsa de soy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3-17T17:28:00Z</dcterms:modified>
  <cp:revision>146</cp:revision>
  <dc:subject/>
  <dc:title>Sin título de diapositiva</dc:title>
</cp:coreProperties>
</file>