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ACB2-C3B1-4749-B4F1-2B9EBF4A82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9303-7FF0-43D1-B2BB-37F9138AC32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9F3A-606D-4F1C-8D19-3799D3A3443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A2C7-28DA-40C3-81EF-0F103282A1F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F05-545F-4EB7-8806-E649D834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8A5-A24C-41B9-AB78-D8C045A1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0A7-3D9D-4ED5-98E9-3EB7EDE0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46E-8DEE-4EF7-B073-9E69A418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DA61-8689-40F3-B26B-DC76486B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BDD5-6372-46DD-8F76-B56FA87D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F1F3-24E0-4F2B-8D14-866DC128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E385-817B-4084-90AF-4B0612A9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65BE-9454-4AFE-A805-0E5B2BD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4DB3-0DDB-4FFD-A4DB-E31783E6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7A7B-D1BE-4C32-918C-6E5DD51B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62F-84C9-4B70-92D6-8D0524B6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18A2-E448-4A15-96F2-4DAE475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C084-B326-4E39-9D3F-CD7BB10A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C134-220A-475B-BE5F-4C17B2CC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53C2-9453-4D38-AB34-E180E7E8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EB2D-4C55-4866-A287-F5ABCD98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9DD-26B0-46E3-8E9C-A2D2C89E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CA3-70D3-4394-B4A6-B7BC23F2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92C-BA87-4855-9651-4191AB3B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8B7-443F-444E-B2C9-3CDD0222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950-1F55-4068-8EAC-A6D3FA15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71A-C1EB-46E1-9475-D8E583D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F0D-394F-423B-95BD-B84DD641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5EF4-427F-443D-99FF-738AB48506F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7B45-E7B3-40B1-9DC1-CF124DA1F6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11280" y="476280"/>
            <a:ext cx="813744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D20A-12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rimavera 2006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Times New Roman"/>
              </a:rPr>
              <a:t>PROTOTIPO FINAL DE BIORREACTOR PARA LA PRODUCCIÓN DE BIOMASA Y OBTENCIÓN DE ETA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aviera Mu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esarella Mol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ortencia Jorqu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epartamento de Ing. Química y Biotecnolog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OBJETIVOS DEL PROYECT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84360" y="155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roceso de Fermentación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692360" y="3357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25"/>
          <p:cNvSpPr/>
          <p:nvPr/>
        </p:nvSpPr>
        <p:spPr>
          <a:xfrm>
            <a:off x="2050920" y="39027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Obtención de Energ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28"/>
          <p:cNvSpPr/>
          <p:nvPr/>
        </p:nvSpPr>
        <p:spPr>
          <a:xfrm>
            <a:off x="2771640" y="52135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iocombustib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9"/>
          <p:cNvSpPr/>
          <p:nvPr/>
        </p:nvSpPr>
        <p:spPr>
          <a:xfrm>
            <a:off x="6877080" y="5297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00"/>
                </a:solidFill>
                <a:latin typeface="Times New Roman"/>
              </a:rPr>
              <a:t>ETAN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1"/>
          <p:cNvSpPr/>
          <p:nvPr/>
        </p:nvSpPr>
        <p:spPr>
          <a:xfrm>
            <a:off x="1332000" y="2708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roducción de </a:t>
            </a:r>
            <a:r>
              <a:rPr b="1" lang="es-ES" sz="3200" spc="-1" strike="noStrike">
                <a:solidFill>
                  <a:srgbClr val="cccc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34"/>
          <p:cNvSpPr/>
          <p:nvPr/>
        </p:nvSpPr>
        <p:spPr>
          <a:xfrm flipV="1">
            <a:off x="2195640" y="4581360"/>
            <a:ext cx="576000" cy="122400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35"/>
          <p:cNvSpPr/>
          <p:nvPr/>
        </p:nvSpPr>
        <p:spPr>
          <a:xfrm flipV="1">
            <a:off x="1476360" y="3357000"/>
            <a:ext cx="576360" cy="122364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36"/>
          <p:cNvSpPr/>
          <p:nvPr/>
        </p:nvSpPr>
        <p:spPr>
          <a:xfrm flipV="1">
            <a:off x="755640" y="2133720"/>
            <a:ext cx="576360" cy="122400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137"/>
          <p:cNvSpPr/>
          <p:nvPr/>
        </p:nvSpPr>
        <p:spPr>
          <a:xfrm>
            <a:off x="5867280" y="5372280"/>
            <a:ext cx="935280" cy="43308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38" descr="MMj02836960000[1]"/>
          <p:cNvPicPr/>
          <p:nvPr/>
        </p:nvPicPr>
        <p:blipFill>
          <a:blip r:embed="rId1"/>
          <a:stretch/>
        </p:blipFill>
        <p:spPr>
          <a:xfrm>
            <a:off x="6516720" y="19162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Descripción del Proyec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esquemafinal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937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etapa2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700360" y="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MARA LA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50920" y="9079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longación de la fase La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092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jor homoge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928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jor Distribución de los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206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Nivel de Oxigenación más al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9280" y="2492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recimiento regulado si se controlan los parámet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9640" y="47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372360" y="47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003640" y="90792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ícil toma de muestras debido al aparata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003640" y="1484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to peligro de contaminación por microorganismos extr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003640" y="198900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volumen en el matraz no es const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1835280" y="2997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MARA LOGARÍT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24000" y="3567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796000" y="35672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50920" y="403236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ca Probabilidad de Contaminación por microorganismos aerób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250920" y="46814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posterior Destilación del Etanol es más simp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50920" y="525780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 obliga a las levaduras a solo producir etanol por medio de nutrientes especi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79280" y="583236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más “limpio”: Existe salida de Efluent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50920" y="6408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homogéneo y está a Tº óptim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4788000" y="40086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Filtración se torna complic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788000" y="44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bido a lo complicado del aparataje el proceso se torna dis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4140360" y="62064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4140360" y="47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25"/>
          <p:cNvSpPr/>
          <p:nvPr/>
        </p:nvSpPr>
        <p:spPr>
          <a:xfrm flipH="1">
            <a:off x="2339640" y="62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26"/>
          <p:cNvSpPr/>
          <p:nvPr/>
        </p:nvSpPr>
        <p:spPr>
          <a:xfrm flipH="1">
            <a:off x="2123640" y="3716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3924360" y="3716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-108000" y="189000"/>
            <a:ext cx="1011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DESARROLLO DEL PROYECTO Y CALENDARIO DE ACTIVIDAD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692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1: 23 al 29 de O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067280" y="620640"/>
            <a:ext cx="4681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ienzo del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grupación de Materi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1916280"/>
            <a:ext cx="450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2: 30 de Oct al 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0" y="33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3: 6 al 12 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0" y="53737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ana 4:  13 al 19 de N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995640" y="1700280"/>
            <a:ext cx="514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ienzo Armado del Proto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idráulica del Mode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aboración Medio de Cultivo Fase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995640" y="3271680"/>
            <a:ext cx="51483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mado Final del Proto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se 1 del Experimento: Determinación del Tiempo de du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aboración Medio de Cultivo Fase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3995640" y="5229360"/>
            <a:ext cx="54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se 1 y Fase 2 del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oma de Muestras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tracción de Aire por medio de la Bomba de vací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ESULTADOS DEL EXPERIMEN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57160" y="2279520"/>
          <a:ext cx="7459920" cy="3702240"/>
        </p:xfrm>
        <a:graphic>
          <a:graphicData uri="http://schemas.openxmlformats.org/drawingml/2006/table">
            <a:tbl>
              <a:tblPr/>
              <a:tblGrid>
                <a:gridCol w="1865520"/>
                <a:gridCol w="1863720"/>
                <a:gridCol w="1866960"/>
                <a:gridCol w="1863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º de h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curridas</a:t>
                      </a: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del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per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a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620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olu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ración de células en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0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47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25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29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134"/>
          <p:cNvSpPr/>
          <p:nvPr/>
        </p:nvSpPr>
        <p:spPr>
          <a:xfrm>
            <a:off x="3255840" y="273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142"/>
          <p:cNvSpPr/>
          <p:nvPr/>
        </p:nvSpPr>
        <p:spPr>
          <a:xfrm>
            <a:off x="931320" y="1428120"/>
            <a:ext cx="73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imes New Roman"/>
              </a:rPr>
              <a:t>x (g/l) =(7.01*Ab +0.026)*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Optimización y diseño de un nuevo prototip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84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actores a mejor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708360" y="2179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stema de calefacción de la 1ª et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707640" y="27558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ajada de suer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701520" y="3259080"/>
            <a:ext cx="44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alta de vitaminas del complejo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706200" y="3763800"/>
            <a:ext cx="34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so de la bomba de va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698640" y="4340160"/>
            <a:ext cx="55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terminación del tiempo de crecimie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24000" y="5205240"/>
            <a:ext cx="2543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uevo dis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277800" y="404640"/>
            <a:ext cx="24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Conclus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08200" y="121752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quiso crear una herramienta para la investigar la relación entre la cantidad de biomasa y la cantidad de etanol obteni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55640" y="2914560"/>
            <a:ext cx="75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sólo se considera la primera etapa, es un prototipo que puede ser elaborado a nivel esco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5640" y="4365720"/>
            <a:ext cx="75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si se quiere llevar a cabo la totalidad del proceso se debe hacer con los materiales y recursos necesarios para costear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324000" y="1341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324000" y="443700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324000" y="2997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4:32Z</dcterms:created>
  <dc:creator>jmulet</dc:creator>
  <dc:description/>
  <dc:language>en-US</dc:language>
  <cp:lastModifiedBy>Ing Quimica</cp:lastModifiedBy>
  <dcterms:modified xsi:type="dcterms:W3CDTF">2009-06-23T20:03:15Z</dcterms:modified>
  <cp:revision>11</cp:revision>
  <dc:subject/>
  <dc:title>Diapositiva 1</dc:title>
</cp:coreProperties>
</file>