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8FCA-C26D-49FF-AA9C-C65EB27A6CA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D539-0528-451D-9149-1ECAA322901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A2D3-3377-4C0C-8DA5-7F3BC1A50CD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21FE-45F8-4CCC-9900-5BCC628AD9F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3CB9-547B-4C7F-8F12-7F696F4A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2DF-ACF9-4AB3-9293-62A83406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922E-C8A9-48B5-AC6B-04471E69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977-06DE-418E-9697-FC98D4B6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0840-421D-433A-9408-07AAC473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94AB-483E-4E6F-9794-A9B10BC7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F22C-88A1-4D14-85F7-500D738F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E75C-E191-42D5-9CFE-8BBF27DF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EF30-18B8-4CBA-80B9-3B4A934E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7027-5231-4B29-A6D1-E1F160DE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8DB7-4AE2-465E-9259-EFE8E864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3F75-547C-42D7-B987-786FE4E6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6258-94FC-4B9E-9CD0-B019874F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8945-2E2D-4A2D-8977-D0394494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550D-8064-4260-B9A9-01EBDE87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E3D9-767E-4EB2-8A5F-1A03926E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C22E-9101-4D07-8F80-3B1D977D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FFE-1F0D-4B24-B180-74559E07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FE4-F2FB-4166-81A9-83427E12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C2C-052B-45F7-B7D0-AA72CF89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AB5-DE8D-452F-A97E-C3AB58D1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FCA-6C08-437B-97B1-EE35BE2B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3170-62B4-4B5B-BE4A-5BBE3678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D3C1-B0BE-41A2-86C1-FFC9E386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60A4-5BED-48A0-A5A7-CF9A5A80101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43D6-4489-4E91-860F-B61A1E70459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611280" y="476280"/>
            <a:ext cx="813744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D20A-12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Primavera 2006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eec94"/>
                </a:solidFill>
                <a:latin typeface="Times New Roman"/>
              </a:rPr>
              <a:t>PROTOTIPO FINAL DE BIORREACTOR PARA LA PRODUCCIÓN DE BIOMASA Y OBTENCIÓN DE ETAN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Javiera Mul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Jesarella Mol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Hortencia Jorqu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epartamento de Ing. Química y Biotecnologí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Times New Roman"/>
              </a:rPr>
              <a:t>OBJETIVOS DEL PROYECTO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84360" y="1557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Proceso de Fermentación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692360" y="3357720"/>
            <a:ext cx="65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25"/>
          <p:cNvSpPr/>
          <p:nvPr/>
        </p:nvSpPr>
        <p:spPr>
          <a:xfrm>
            <a:off x="2050920" y="39027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Obtención de Energ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28"/>
          <p:cNvSpPr/>
          <p:nvPr/>
        </p:nvSpPr>
        <p:spPr>
          <a:xfrm>
            <a:off x="2771640" y="5213520"/>
            <a:ext cx="309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Biocombustib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9"/>
          <p:cNvSpPr/>
          <p:nvPr/>
        </p:nvSpPr>
        <p:spPr>
          <a:xfrm>
            <a:off x="6877080" y="52974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00"/>
                </a:solidFill>
                <a:latin typeface="Times New Roman"/>
              </a:rPr>
              <a:t>ETAN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31"/>
          <p:cNvSpPr/>
          <p:nvPr/>
        </p:nvSpPr>
        <p:spPr>
          <a:xfrm>
            <a:off x="1332000" y="2708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Producción de </a:t>
            </a:r>
            <a:r>
              <a:rPr b="1" lang="es-ES" sz="3200" spc="-1" strike="noStrike">
                <a:solidFill>
                  <a:srgbClr val="cccc00"/>
                </a:solidFill>
                <a:latin typeface="Times New Roman"/>
              </a:rPr>
              <a:t>BIOM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134"/>
          <p:cNvSpPr/>
          <p:nvPr/>
        </p:nvSpPr>
        <p:spPr>
          <a:xfrm flipV="1">
            <a:off x="2195640" y="4581360"/>
            <a:ext cx="576000" cy="122400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135"/>
          <p:cNvSpPr/>
          <p:nvPr/>
        </p:nvSpPr>
        <p:spPr>
          <a:xfrm flipV="1">
            <a:off x="1476360" y="3357000"/>
            <a:ext cx="576360" cy="122364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136"/>
          <p:cNvSpPr/>
          <p:nvPr/>
        </p:nvSpPr>
        <p:spPr>
          <a:xfrm flipV="1">
            <a:off x="755640" y="2133720"/>
            <a:ext cx="576360" cy="122400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137"/>
          <p:cNvSpPr/>
          <p:nvPr/>
        </p:nvSpPr>
        <p:spPr>
          <a:xfrm>
            <a:off x="5867280" y="5372280"/>
            <a:ext cx="935280" cy="43308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138" descr="MMj02836960000[1]"/>
          <p:cNvPicPr/>
          <p:nvPr/>
        </p:nvPicPr>
        <p:blipFill>
          <a:blip r:embed="rId1"/>
          <a:stretch/>
        </p:blipFill>
        <p:spPr>
          <a:xfrm>
            <a:off x="6516720" y="1916280"/>
            <a:ext cx="1942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Descripción del Proyect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4" descr="esquemafinal"/>
          <p:cNvPicPr/>
          <p:nvPr/>
        </p:nvPicPr>
        <p:blipFill>
          <a:blip r:embed="rId1"/>
          <a:stretch/>
        </p:blipFill>
        <p:spPr>
          <a:xfrm>
            <a:off x="324000" y="1413000"/>
            <a:ext cx="8496000" cy="4937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etapa2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700360" y="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AMARA LA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50920" y="90792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olongación de la fase La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50920" y="1341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ejor homoge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79280" y="17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ejor Distribución de los nutri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79280" y="206064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Nivel de Oxigenación más al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79280" y="2492280"/>
            <a:ext cx="388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recimiento regulado si se controlan los parámet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39640" y="476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ENTAJ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372360" y="47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VENTAJ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003640" y="907920"/>
            <a:ext cx="37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ifícil toma de muestras debido al aparataj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5003640" y="148428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to peligro de contaminación por microorganismos extr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003640" y="1989000"/>
            <a:ext cx="374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 volumen en el matraz no es consta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1835280" y="299736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AMARA LOGARÍTM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324000" y="35672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ENTAJ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5796000" y="35672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VENTAJ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250920" y="4032360"/>
            <a:ext cx="41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oca Probabilidad de Contaminación por microorganismos aeróbic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250920" y="468144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posterior Destilación del Etanol es más simp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250920" y="5257800"/>
            <a:ext cx="46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e obliga a las levaduras a solo producir etanol por medio de nutrientes especi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179280" y="5832360"/>
            <a:ext cx="42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 medio es más “limpio”: Existe salida de Efluent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250920" y="64087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 medio es homogéneo y está a Tº óptim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4788000" y="4008600"/>
            <a:ext cx="39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Filtración se torna complic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4788000" y="4437000"/>
            <a:ext cx="43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bido a lo complicado del aparataje el proceso se torna discontinu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23"/>
          <p:cNvSpPr/>
          <p:nvPr/>
        </p:nvSpPr>
        <p:spPr>
          <a:xfrm>
            <a:off x="4140360" y="620640"/>
            <a:ext cx="19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24"/>
          <p:cNvSpPr/>
          <p:nvPr/>
        </p:nvSpPr>
        <p:spPr>
          <a:xfrm>
            <a:off x="4140360" y="476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25"/>
          <p:cNvSpPr/>
          <p:nvPr/>
        </p:nvSpPr>
        <p:spPr>
          <a:xfrm flipH="1">
            <a:off x="2339640" y="62064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26"/>
          <p:cNvSpPr/>
          <p:nvPr/>
        </p:nvSpPr>
        <p:spPr>
          <a:xfrm flipH="1">
            <a:off x="2123640" y="371628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27"/>
          <p:cNvSpPr/>
          <p:nvPr/>
        </p:nvSpPr>
        <p:spPr>
          <a:xfrm>
            <a:off x="3924360" y="371628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8"/>
          <p:cNvSpPr/>
          <p:nvPr/>
        </p:nvSpPr>
        <p:spPr>
          <a:xfrm>
            <a:off x="3924360" y="357192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-108000" y="189000"/>
            <a:ext cx="10117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DESARROLLO DEL PROYECTO Y CALENDARIO DE ACTIVIDAD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6922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mana 1: 23 al 29 de O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067280" y="620640"/>
            <a:ext cx="46814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mienzo del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grupación de Material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0" y="1916280"/>
            <a:ext cx="4500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mana 2: 30 de Oct al 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N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0" y="33577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mana 3: 6 al 12 de N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0" y="53737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mana 4:  13 al 19 de N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3995640" y="1700280"/>
            <a:ext cx="5148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mienzo Armado del Prototi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idráulica del Mode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aboración Medio de Cultivo Fase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3995640" y="3271680"/>
            <a:ext cx="514836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mado Final del Prototi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ase 1 del Experimento: Determinación del Tiempo de du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aboración Medio de Cultivo Fase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3995640" y="5229360"/>
            <a:ext cx="5400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ase 1 y Fase 2 del proce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oma de Muestras F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tracción de Aire por medio de la Bomba de vací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ESULTADOS DEL EXPERIMEN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256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857160" y="2279520"/>
          <a:ext cx="7459920" cy="3702240"/>
        </p:xfrm>
        <a:graphic>
          <a:graphicData uri="http://schemas.openxmlformats.org/drawingml/2006/table">
            <a:tbl>
              <a:tblPr/>
              <a:tblGrid>
                <a:gridCol w="1865520"/>
                <a:gridCol w="1863720"/>
                <a:gridCol w="1866960"/>
                <a:gridCol w="18637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º de ho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nscurridas</a:t>
                      </a: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del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peri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sorbanc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620n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solu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entración de células en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g/L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50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.476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.258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.298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134"/>
          <p:cNvSpPr/>
          <p:nvPr/>
        </p:nvSpPr>
        <p:spPr>
          <a:xfrm>
            <a:off x="3255840" y="2730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142"/>
          <p:cNvSpPr/>
          <p:nvPr/>
        </p:nvSpPr>
        <p:spPr>
          <a:xfrm>
            <a:off x="931320" y="1428120"/>
            <a:ext cx="73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imes New Roman"/>
              </a:rPr>
              <a:t>x (g/l) =(7.01*Ab +0.026)*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Optimización y diseño de un nuevo prototip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33847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Factores a mejor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708360" y="217980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stema de calefacción de la 1ª et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707640" y="2755800"/>
            <a:ext cx="23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ajada de suer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701520" y="3259080"/>
            <a:ext cx="44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alta de vitaminas del complejo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3706200" y="3763800"/>
            <a:ext cx="34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uso de la bomba de vací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698640" y="4340160"/>
            <a:ext cx="55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terminación del tiempo de crecimient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324000" y="5205240"/>
            <a:ext cx="25430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uevo dise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277800" y="404640"/>
            <a:ext cx="248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Times New Roman"/>
              </a:rPr>
              <a:t>Conclusió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808200" y="1217520"/>
            <a:ext cx="750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quiso crear una herramienta para la investigar la relación entre la cantidad de biomasa y la cantidad de etanol obteni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755640" y="2914560"/>
            <a:ext cx="753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sólo se considera la primera etapa, es un prototipo que puede ser elaborado a nivel esco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55640" y="4365720"/>
            <a:ext cx="752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embargo, si se quiere llevar a cabo la totalidad del proceso se debe hacer con los materiales y recursos necesarios para costear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324000" y="134136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324000" y="443700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324000" y="299736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5:14:32Z</dcterms:created>
  <dc:creator>jmulet</dc:creator>
  <dc:description/>
  <dc:language>en-US</dc:language>
  <cp:lastModifiedBy>Ing Quimica</cp:lastModifiedBy>
  <dcterms:modified xsi:type="dcterms:W3CDTF">2009-06-23T20:03:15Z</dcterms:modified>
  <cp:revision>11</cp:revision>
  <dc:subject/>
  <dc:title>Diapositiva 1</dc:title>
</cp:coreProperties>
</file>