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4B5D-65EF-41C7-97A6-7FC64421B0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380D-CCF0-46FC-939D-51CD0AD60F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49A6-0DC4-4586-8907-FBE16A0EFE1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0215-62A4-481C-8675-942C98D98CF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8EE-2E96-4481-AB56-15E0602D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0EE-134D-4108-AFB2-1966AFD3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2AE-EDC5-4E10-9750-3E66D99D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33C-5588-4B2F-9565-9AFB3A87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B1C1-1946-4253-9885-4C87B651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ADD5-5E19-4FB1-A66B-0BDD9931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51A4-6DD0-4AA6-B17B-5B6A6E01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A5EF-7437-4C09-9221-4249F9C6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D1C6-DE54-49AC-85F6-0580BFAF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D856-729A-433B-93D4-BED3EC7A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CAA8-8302-4C5C-AB77-F56529BC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60C-D394-473F-96B7-4E6A64F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DB68-7B89-4BAD-B017-31307CE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67CC-91A7-4A31-8312-7D965A7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DA35-1643-4F91-8403-DBEBB5B8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E99A-867D-41D4-B894-E7026060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2641-4324-45BA-B799-5B7BE429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076-064B-4CE7-AC49-E6C70E2D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5C8-7CC9-4CDB-800D-EA120318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F35-1711-4D6D-A97B-4D707E64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E8B-8155-4FA8-8175-B35F4664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AA2-F9CE-41AD-B797-3B94BA34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9D7-50C8-4D4C-BE78-09741AF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A16-3F85-4832-8DD0-70F4027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480E-C1FC-409B-8F2B-6D754B452A2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6D1E-3505-4422-94E2-9A2B3624E7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11280" y="476280"/>
            <a:ext cx="813744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D20A-12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rimavera 2006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Times New Roman"/>
              </a:rPr>
              <a:t>PROTOTIPO FINAL DE BIORREACTOR PARA LA PRODUCCIÓN DE BIOMASA Y OBTENCIÓN DE ETA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aviera Mu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esarella Mo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ortencia Jorqu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epartamento de Ing. Química y Biotecnolog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OBJETIVOS DEL PROYECT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84360" y="155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roceso de Fermentación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692360" y="3357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25"/>
          <p:cNvSpPr/>
          <p:nvPr/>
        </p:nvSpPr>
        <p:spPr>
          <a:xfrm>
            <a:off x="2050920" y="39027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Obtención de Energ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28"/>
          <p:cNvSpPr/>
          <p:nvPr/>
        </p:nvSpPr>
        <p:spPr>
          <a:xfrm>
            <a:off x="2771640" y="52135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iocombustib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9"/>
          <p:cNvSpPr/>
          <p:nvPr/>
        </p:nvSpPr>
        <p:spPr>
          <a:xfrm>
            <a:off x="6877080" y="5297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00"/>
                </a:solidFill>
                <a:latin typeface="Times New Roman"/>
              </a:rPr>
              <a:t>ETAN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1"/>
          <p:cNvSpPr/>
          <p:nvPr/>
        </p:nvSpPr>
        <p:spPr>
          <a:xfrm>
            <a:off x="1332000" y="2708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roducción de </a:t>
            </a:r>
            <a:r>
              <a:rPr b="1" lang="es-ES" sz="3200" spc="-1" strike="noStrike">
                <a:solidFill>
                  <a:srgbClr val="cccc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34"/>
          <p:cNvSpPr/>
          <p:nvPr/>
        </p:nvSpPr>
        <p:spPr>
          <a:xfrm flipV="1">
            <a:off x="2195640" y="4581360"/>
            <a:ext cx="576000" cy="122400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35"/>
          <p:cNvSpPr/>
          <p:nvPr/>
        </p:nvSpPr>
        <p:spPr>
          <a:xfrm flipV="1">
            <a:off x="1476360" y="3357000"/>
            <a:ext cx="576360" cy="122364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36"/>
          <p:cNvSpPr/>
          <p:nvPr/>
        </p:nvSpPr>
        <p:spPr>
          <a:xfrm flipV="1">
            <a:off x="755640" y="2133720"/>
            <a:ext cx="576360" cy="122400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137"/>
          <p:cNvSpPr/>
          <p:nvPr/>
        </p:nvSpPr>
        <p:spPr>
          <a:xfrm>
            <a:off x="5867280" y="5372280"/>
            <a:ext cx="935280" cy="43308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38" descr="MMj02836960000[1]"/>
          <p:cNvPicPr/>
          <p:nvPr/>
        </p:nvPicPr>
        <p:blipFill>
          <a:blip r:embed="rId1"/>
          <a:stretch/>
        </p:blipFill>
        <p:spPr>
          <a:xfrm>
            <a:off x="6516720" y="19162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Descripción del Proyec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esquemafinal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937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etapa2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700360" y="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MARA LA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50920" y="9079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longación de la fase La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092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jor homoge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928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jor Distribución de los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206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Nivel de Oxigenación más al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9280" y="2492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recimiento regulado si se controlan los parámet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9640" y="47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372360" y="47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003640" y="90792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ícil toma de muestras debido al aparata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003640" y="1484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to peligro de contaminación por microorganismos extr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003640" y="198900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volumen en el matraz no es const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1835280" y="2997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MARA LOGARÍT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24000" y="3567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796000" y="35672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50920" y="403236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ca Probabilidad de Contaminación por microorganismos aerób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250920" y="46814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posterior Destilación del Etanol es más simp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50920" y="525780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 obliga a las levaduras a solo producir etanol por medio de nutrientes especi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79280" y="583236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más “limpio”: Existe salida de Efluent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50920" y="6408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homogéneo y está a Tº óptim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4788000" y="40086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Filtración se torna complic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788000" y="44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bido a lo complicado del aparataje el proceso se torna dis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4140360" y="62064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4140360" y="47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25"/>
          <p:cNvSpPr/>
          <p:nvPr/>
        </p:nvSpPr>
        <p:spPr>
          <a:xfrm flipH="1">
            <a:off x="2339640" y="62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26"/>
          <p:cNvSpPr/>
          <p:nvPr/>
        </p:nvSpPr>
        <p:spPr>
          <a:xfrm flipH="1">
            <a:off x="2123640" y="3716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3924360" y="3716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-108000" y="189000"/>
            <a:ext cx="1011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SARROLLO DEL PROYECTO Y CALENDARIO DE ACTIVIDAD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692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1: 23 al 29 de O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067280" y="620640"/>
            <a:ext cx="4681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ienzo del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grupación de Materi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1916280"/>
            <a:ext cx="450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2: 30 de Oct al 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0" y="33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3: 6 al 12 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0" y="53737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4:  13 al 19 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995640" y="1700280"/>
            <a:ext cx="514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ienzo Armado del Proto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idráulica del Mode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aboración Medio de Cultivo Fase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995640" y="3271680"/>
            <a:ext cx="51483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mado Final del Proto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se 1 del Experimento: Determinación del Tiempo de du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aboración Medio de Cultivo Fase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3995640" y="5229360"/>
            <a:ext cx="54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se 1 y Fase 2 del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oma de Muestras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tracción de Aire por medio de la Bomba de vací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ESULTADOS DEL EXPERIMEN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57160" y="2279520"/>
          <a:ext cx="7459920" cy="3702240"/>
        </p:xfrm>
        <a:graphic>
          <a:graphicData uri="http://schemas.openxmlformats.org/drawingml/2006/table">
            <a:tbl>
              <a:tblPr/>
              <a:tblGrid>
                <a:gridCol w="1865520"/>
                <a:gridCol w="1863720"/>
                <a:gridCol w="1866960"/>
                <a:gridCol w="1863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º de h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curridas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del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per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a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620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olu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ración de células en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0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47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25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29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134"/>
          <p:cNvSpPr/>
          <p:nvPr/>
        </p:nvSpPr>
        <p:spPr>
          <a:xfrm>
            <a:off x="3255840" y="273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142"/>
          <p:cNvSpPr/>
          <p:nvPr/>
        </p:nvSpPr>
        <p:spPr>
          <a:xfrm>
            <a:off x="931320" y="1428120"/>
            <a:ext cx="73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imes New Roman"/>
              </a:rPr>
              <a:t>x (g/l) =(7.01*Ab +0.026)*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Optimización y diseño de un nuevo prototip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84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actores a mejor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708360" y="2179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stema de calefacción de la 1ª et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707640" y="27558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ajada de suer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701520" y="3259080"/>
            <a:ext cx="44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lta de vitaminas del complejo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706200" y="3763800"/>
            <a:ext cx="34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so de la bomba de va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698640" y="4340160"/>
            <a:ext cx="55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terminación del tiempo de crecimie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24000" y="5205240"/>
            <a:ext cx="2543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uevo dis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277800" y="404640"/>
            <a:ext cx="24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Conclus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08200" y="121752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quiso crear una herramienta para la investigar la relación entre la cantidad de biomasa y la cantidad de etanol obteni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55640" y="2914560"/>
            <a:ext cx="75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sólo se considera la primera etapa, es un prototipo que puede ser elaborado a nivel esco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5640" y="4365720"/>
            <a:ext cx="75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si se quiere llevar a cabo la totalidad del proceso se debe hacer con los materiales y recursos necesarios para costear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324000" y="1341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24000" y="443700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324000" y="2997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4:32Z</dcterms:created>
  <dc:creator>jmulet</dc:creator>
  <dc:description/>
  <dc:language>en-US</dc:language>
  <cp:lastModifiedBy>Ing Quimica</cp:lastModifiedBy>
  <dcterms:modified xsi:type="dcterms:W3CDTF">2009-06-23T20:03:15Z</dcterms:modified>
  <cp:revision>11</cp:revision>
  <dc:subject/>
  <dc:title>Diapositiva 1</dc:title>
</cp:coreProperties>
</file>