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A49D-A715-4111-ABE0-0D8A06F1DD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9F94-F1E8-47A7-94A5-1BE07B5CF28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B5BE-A36B-4546-A5E6-1F7F03B0558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390E-DE1B-47EB-92D8-801C28B3B67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992-D11D-4CD2-A252-8F024213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190-850F-429D-8E22-EC5141C1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AE5-E8D1-46EC-8DBA-A0F92912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E66-5C31-4F30-B326-E9F5053B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DACB-AA34-42D8-8C41-8AD7A93C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F8B9-CEC8-432A-A165-CD969FA3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4AD3-2CE8-4AE3-9949-FB385B0A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6A32-706D-46FF-BAD6-DD38DD82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DF9F-F1DA-40EC-B699-058F256F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9FAE-0660-426B-8930-3F2DB747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6B38-2308-431F-B47A-94F896B1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F91-3D60-4BA1-BB8A-6A63BD62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DF4A-A25B-45C9-8F8B-4F76E64C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7D58-7D3D-4BBD-9927-1E3FEC49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ED5C-71CE-4B3C-8C0F-58EA8B62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D30E-D99B-4264-9C4A-6536CC59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2F5E-D222-4E0B-BA4B-EF16413F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039-F359-483E-96D1-A981B7E4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021-868C-47F9-876F-EA8FC030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BAA-A732-4A7C-9D58-02E12425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3AA-F250-4C7A-AABD-B10022C1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E9A-8E9B-4EED-B2E8-DB1F33CA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9B6-6800-4114-871B-A8C25B18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104-4BE1-4EE0-83C7-6DC1E608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047F-66E3-407D-B908-50B09528C9B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B52D-570A-46E5-A7EF-59B7618A54F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611280" y="476280"/>
            <a:ext cx="813744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D20A-12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rimavera 2006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eec94"/>
                </a:solidFill>
                <a:latin typeface="Times New Roman"/>
              </a:rPr>
              <a:t>PROTOTIPO FINAL DE BIORREACTOR PARA LA PRODUCCIÓN DE BIOMASA Y OBTENCIÓN DE ETA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aviera Mul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esarella Mo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Hortencia Jorqu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epartamento de Ing. Química y Biotecnolog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Times New Roman"/>
              </a:rPr>
              <a:t>OBJETIVOS DEL PROYECT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84360" y="1557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roceso de Fermentación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692360" y="335772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25"/>
          <p:cNvSpPr/>
          <p:nvPr/>
        </p:nvSpPr>
        <p:spPr>
          <a:xfrm>
            <a:off x="2050920" y="39027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Obtención de Energ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28"/>
          <p:cNvSpPr/>
          <p:nvPr/>
        </p:nvSpPr>
        <p:spPr>
          <a:xfrm>
            <a:off x="2771640" y="5213520"/>
            <a:ext cx="30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iocombustib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9"/>
          <p:cNvSpPr/>
          <p:nvPr/>
        </p:nvSpPr>
        <p:spPr>
          <a:xfrm>
            <a:off x="6877080" y="52974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00"/>
                </a:solidFill>
                <a:latin typeface="Times New Roman"/>
              </a:rPr>
              <a:t>ETAN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1"/>
          <p:cNvSpPr/>
          <p:nvPr/>
        </p:nvSpPr>
        <p:spPr>
          <a:xfrm>
            <a:off x="1332000" y="2708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roducción de </a:t>
            </a:r>
            <a:r>
              <a:rPr b="1" lang="es-ES" sz="3200" spc="-1" strike="noStrike">
                <a:solidFill>
                  <a:srgbClr val="cccc00"/>
                </a:solidFill>
                <a:latin typeface="Times New Roman"/>
              </a:rPr>
              <a:t>BIO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134"/>
          <p:cNvSpPr/>
          <p:nvPr/>
        </p:nvSpPr>
        <p:spPr>
          <a:xfrm flipV="1">
            <a:off x="2195640" y="4581360"/>
            <a:ext cx="576000" cy="122400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35"/>
          <p:cNvSpPr/>
          <p:nvPr/>
        </p:nvSpPr>
        <p:spPr>
          <a:xfrm flipV="1">
            <a:off x="1476360" y="3357000"/>
            <a:ext cx="576360" cy="122364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36"/>
          <p:cNvSpPr/>
          <p:nvPr/>
        </p:nvSpPr>
        <p:spPr>
          <a:xfrm flipV="1">
            <a:off x="755640" y="2133720"/>
            <a:ext cx="576360" cy="122400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137"/>
          <p:cNvSpPr/>
          <p:nvPr/>
        </p:nvSpPr>
        <p:spPr>
          <a:xfrm>
            <a:off x="5867280" y="5372280"/>
            <a:ext cx="935280" cy="43308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138" descr="MMj02836960000[1]"/>
          <p:cNvPicPr/>
          <p:nvPr/>
        </p:nvPicPr>
        <p:blipFill>
          <a:blip r:embed="rId1"/>
          <a:stretch/>
        </p:blipFill>
        <p:spPr>
          <a:xfrm>
            <a:off x="6516720" y="191628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Descripción del Proyec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esquemafinal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937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etapa2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700360" y="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MARA LA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50920" y="9079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longación de la fase La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0920" y="134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ejor homoge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7928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ejor Distribución de los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9280" y="206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Nivel de Oxigenación más al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79280" y="2492280"/>
            <a:ext cx="38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recimiento regulado si se controlan los parámet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9640" y="476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372360" y="47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003640" y="90792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ifícil toma de muestras debido al aparataj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5003640" y="148428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to peligro de contaminación por microorganismos extr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003640" y="198900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volumen en el matraz no es consta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1835280" y="299736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MARA LOGARÍT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324000" y="35672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5796000" y="35672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250920" y="4032360"/>
            <a:ext cx="41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oca Probabilidad de Contaminación por microorganismos aerób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250920" y="46814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posterior Destilación del Etanol es más simp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250920" y="525780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 obliga a las levaduras a solo producir etanol por medio de nutrientes especi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79280" y="583236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edio es más “limpio”: Existe salida de Efluent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50920" y="6408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edio es homogéneo y está a Tº óptim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4788000" y="400860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Filtración se torna complic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4788000" y="44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bido a lo complicado del aparataje el proceso se torna dis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4140360" y="620640"/>
            <a:ext cx="19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24"/>
          <p:cNvSpPr/>
          <p:nvPr/>
        </p:nvSpPr>
        <p:spPr>
          <a:xfrm>
            <a:off x="4140360" y="47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25"/>
          <p:cNvSpPr/>
          <p:nvPr/>
        </p:nvSpPr>
        <p:spPr>
          <a:xfrm flipH="1">
            <a:off x="2339640" y="620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26"/>
          <p:cNvSpPr/>
          <p:nvPr/>
        </p:nvSpPr>
        <p:spPr>
          <a:xfrm flipH="1">
            <a:off x="2123640" y="371628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7"/>
          <p:cNvSpPr/>
          <p:nvPr/>
        </p:nvSpPr>
        <p:spPr>
          <a:xfrm>
            <a:off x="3924360" y="371628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3924360" y="357192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-108000" y="189000"/>
            <a:ext cx="1011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DESARROLLO DEL PROYECTO Y CALENDARIO DE ACTIVIDAD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6922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1: 23 al 29 de O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067280" y="620640"/>
            <a:ext cx="4681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mienzo del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grupación de Materia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0" y="1916280"/>
            <a:ext cx="4500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2: 30 de Oct al 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0" y="3357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3: 6 al 12 de 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0" y="53737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4:  13 al 19 de 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995640" y="1700280"/>
            <a:ext cx="5148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mienzo Armado del Protot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idráulica del Mode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aboración Medio de Cultivo Fase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995640" y="3271680"/>
            <a:ext cx="514836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mado Final del Protot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ase 1 del Experimento: Determinación del Tiempo de du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aboración Medio de Cultivo Fase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3995640" y="5229360"/>
            <a:ext cx="5400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ase 1 y Fase 2 del proce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oma de Muestras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tracción de Aire por medio de la Bomba de vací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ESULTADOS DEL EXPERIMEN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57160" y="2279520"/>
          <a:ext cx="7459920" cy="3702240"/>
        </p:xfrm>
        <a:graphic>
          <a:graphicData uri="http://schemas.openxmlformats.org/drawingml/2006/table">
            <a:tbl>
              <a:tblPr/>
              <a:tblGrid>
                <a:gridCol w="1865520"/>
                <a:gridCol w="1863720"/>
                <a:gridCol w="1866960"/>
                <a:gridCol w="18637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º de h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curridas</a:t>
                      </a: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del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peri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a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620n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solu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ración de células en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50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476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.25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.29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134"/>
          <p:cNvSpPr/>
          <p:nvPr/>
        </p:nvSpPr>
        <p:spPr>
          <a:xfrm>
            <a:off x="3255840" y="273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142"/>
          <p:cNvSpPr/>
          <p:nvPr/>
        </p:nvSpPr>
        <p:spPr>
          <a:xfrm>
            <a:off x="931320" y="1428120"/>
            <a:ext cx="73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imes New Roman"/>
              </a:rPr>
              <a:t>x (g/l) =(7.01*Ab +0.026)*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Optimización y diseño de un nuevo prototip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84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actores a mejor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708360" y="2179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stema de calefacción de la 1ª et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707640" y="275580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ajada de suer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701520" y="3259080"/>
            <a:ext cx="44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alta de vitaminas del complejo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706200" y="3763800"/>
            <a:ext cx="34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uso de la bomba de va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698640" y="4340160"/>
            <a:ext cx="55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terminación del tiempo de crecimient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324000" y="5205240"/>
            <a:ext cx="2543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uevo dis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277800" y="404640"/>
            <a:ext cx="24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Times New Roman"/>
              </a:rPr>
              <a:t>Conclusió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808200" y="1217520"/>
            <a:ext cx="750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quiso crear una herramienta para la investigar la relación entre la cantidad de biomasa y la cantidad de etanol obteni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755640" y="2914560"/>
            <a:ext cx="75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sólo se considera la primera etapa, es un prototipo que puede ser elaborado a nivel esco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5640" y="4365720"/>
            <a:ext cx="752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si se quiere llevar a cabo la totalidad del proceso se debe hacer con los materiales y recursos necesarios para costear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324000" y="1341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324000" y="443700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324000" y="2997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5:14:32Z</dcterms:created>
  <dc:creator>jmulet</dc:creator>
  <dc:description/>
  <dc:language>en-US</dc:language>
  <cp:lastModifiedBy>Ing Quimica</cp:lastModifiedBy>
  <dcterms:modified xsi:type="dcterms:W3CDTF">2009-06-23T20:03:15Z</dcterms:modified>
  <cp:revision>11</cp:revision>
  <dc:subject/>
  <dc:title>Diapositiva 1</dc:title>
</cp:coreProperties>
</file>