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035-A7D6-4648-9463-7F668931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8A5-1972-4899-803B-677D0218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361-262C-4F06-89B1-334913DD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6D0-D5F0-45A9-A00E-622E3E21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C4F-8B5A-43A1-8C4F-C10CAA23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620-D081-4266-8F77-1160F2C9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992-A2E4-4478-AF25-90896C4D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45A-B139-47FD-B331-D2877730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994-7BC8-4BFC-9F22-A3CE50D3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0D5-81AC-42F9-8560-FCE8B60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FCC-D49F-40B6-9A5B-A4064A24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1E9-7CD2-4CCA-90B0-AE370BA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45E-8F53-4E8C-B22C-9C1838B0B3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ermentadores__modos_"/>
          <p:cNvPicPr/>
          <p:nvPr/>
        </p:nvPicPr>
        <p:blipFill>
          <a:blip r:embed="rId1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"/>
          <p:cNvPicPr/>
          <p:nvPr/>
        </p:nvPicPr>
        <p:blipFill>
          <a:blip r:embed="rId1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atraz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Ing Quimica</cp:lastModifiedBy>
  <dcterms:modified xsi:type="dcterms:W3CDTF">2009-06-23T20:03:44Z</dcterms:modified>
  <cp:revision>5</cp:revision>
  <dc:subject/>
  <dc:title>Diapositiva 1</dc:title>
</cp:coreProperties>
</file>