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EC3-7A27-4F2A-859D-FDA76FF7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EE0-E053-48F9-8A75-96A2C52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333-1F02-4193-A5B3-C80A671A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5D3-DEB3-4F45-9E3D-5F402924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396-EACD-433F-8403-A524EB17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BA7-0F93-4981-919E-916B3E32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7EF-547F-45BB-8DC7-8F3208C1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8E0-7597-4DCA-8084-7EEED3E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FF1-54EB-4077-8BEB-BB91C52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C39-4600-4A0A-B1B4-59E7C2E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7E4-912B-454C-913C-D6846C45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7C4-4521-4B2D-AA64-43326B8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8FC8-2722-4C39-97EA-8E1968D476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ermentadores__modos_"/>
          <p:cNvPicPr/>
          <p:nvPr/>
        </p:nvPicPr>
        <p:blipFill>
          <a:blip r:embed="rId1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"/>
          <p:cNvPicPr/>
          <p:nvPr/>
        </p:nvPicPr>
        <p:blipFill>
          <a:blip r:embed="rId1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Ing Quimica</cp:lastModifiedBy>
  <dcterms:modified xsi:type="dcterms:W3CDTF">2009-06-23T20:03:44Z</dcterms:modified>
  <cp:revision>5</cp:revision>
  <dc:subject/>
  <dc:title>Diapositiva 1</dc:title>
</cp:coreProperties>
</file>