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728F-81DF-4D6B-9A56-836FC278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C7D5-E1C8-4851-8461-0C6C2DD2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AB1E-D611-4D9C-9D08-3D98BB44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FBA0-E7F2-467E-B4ED-2C21F654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292-FC8D-4F01-A961-07D85B5B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D6BE-80E6-4798-8F95-60FC5644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83E9-5FFF-4F56-9B55-ED4456B6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22F4-258A-49A7-9459-592DAC82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29E-64D2-4D0F-815A-44F1448A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39A1-7656-44C2-9A28-A39D7289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E47-BA0F-45AC-B97A-A79BABBB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2A90-DBE6-477A-B3F3-BF7966F2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1E78-5C82-4C63-A4AC-553384114A2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11280" y="152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: Optimización de la Fer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203640" y="32320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ase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651640" y="4579920"/>
            <a:ext cx="316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gnacio B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drés Fau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vier Pé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audia Vi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24000" y="260280"/>
            <a:ext cx="5616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iversidad de Chile – Fcfm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minario de Diseñ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7596360" y="333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up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700200" y="196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828720" y="1638360"/>
            <a:ext cx="4103640" cy="2077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5148360" y="1484280"/>
            <a:ext cx="322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iveles de biomasa aumentan con respecto a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755640" y="385128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observación de la fase estacion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tapa lag, etapa exponencial y etapa muerte sol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uena coordinación implicó desarrollo ópt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501840" y="2349360"/>
            <a:ext cx="8027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000000"/>
                </a:solidFill>
                <a:latin typeface="Arial"/>
              </a:rPr>
              <a:t>Dudas y consulta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700200" y="412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Qué es un cultivo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ed-bat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8269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á entre un cultivo Batch y uno contin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utiliza para evitar inhibiciones por exceso de sus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volumen varía durante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o o mas (en algunos casos todos) nutrientes son adicionados al reactor durante el cul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755640" y="5493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evita la represión cata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obtienen productos asociados al 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o las células se encuentran “hambrientas”, se optimiza el proceso de 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fermentadores__modos_"/>
          <p:cNvPicPr/>
          <p:nvPr/>
        </p:nvPicPr>
        <p:blipFill>
          <a:blip r:embed="rId1"/>
          <a:srcRect l="0" t="0" r="0" b="15641"/>
          <a:stretch/>
        </p:blipFill>
        <p:spPr>
          <a:xfrm>
            <a:off x="2050920" y="3716280"/>
            <a:ext cx="504036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0020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684360" y="47628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prototipo 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900000" y="1844640"/>
            <a:ext cx="7543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ed-Batch + perf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b"/>
          <p:cNvPicPr/>
          <p:nvPr/>
        </p:nvPicPr>
        <p:blipFill>
          <a:blip r:embed="rId1"/>
          <a:stretch/>
        </p:blipFill>
        <p:spPr>
          <a:xfrm>
            <a:off x="468360" y="2781360"/>
            <a:ext cx="3527280" cy="3479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468360" y="2781360"/>
            <a:ext cx="3527280" cy="3456000"/>
          </a:xfrm>
          <a:prstGeom prst="rect">
            <a:avLst/>
          </a:prstGeom>
          <a:solidFill>
            <a:srgbClr val="3366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211640" y="285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Vaso Precipi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213080" y="57261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4213080" y="4076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Ali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4213080" y="53658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4213080" y="4508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Oxí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4213080" y="37101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213080" y="3284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Agi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4213080" y="49338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entrif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70020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Prác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684360" y="47628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prototipo 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atraz"/>
          <p:cNvPicPr/>
          <p:nvPr/>
        </p:nvPicPr>
        <p:blipFill>
          <a:blip r:embed="rId1"/>
          <a:stretch/>
        </p:blipFill>
        <p:spPr>
          <a:xfrm>
            <a:off x="1547640" y="1773360"/>
            <a:ext cx="583272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00200" y="196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blemas Prototipo 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8436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g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tami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il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iltros de 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ma de M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70020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Prác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684360" y="47628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prototipo 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matraz"/>
          <p:cNvPicPr/>
          <p:nvPr/>
        </p:nvPicPr>
        <p:blipFill>
          <a:blip r:embed="rId1"/>
          <a:stretch/>
        </p:blipFill>
        <p:spPr>
          <a:xfrm>
            <a:off x="1547640" y="1773360"/>
            <a:ext cx="583272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258920" y="3279600"/>
            <a:ext cx="6553080" cy="3318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1908000" y="355680"/>
            <a:ext cx="5040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00200" y="196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436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jor oxige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yor producción de cél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emplazo del agua que se eva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diciones control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trol sobre represión cata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9:01:47Z</dcterms:created>
  <dc:creator>.</dc:creator>
  <dc:description/>
  <dc:language>en-US</dc:language>
  <cp:lastModifiedBy>Ing Quimica</cp:lastModifiedBy>
  <dcterms:modified xsi:type="dcterms:W3CDTF">2009-06-23T20:03:44Z</dcterms:modified>
  <cp:revision>5</cp:revision>
  <dc:subject/>
  <dc:title>Diapositiva 1</dc:title>
</cp:coreProperties>
</file>