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3D9-F4D3-4198-BD2C-2F996602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C7A-B1CE-42FF-9867-F42AA270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A71-8649-4804-A593-9F41C3E6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CD4-51DE-4119-9DF0-EB1BF098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2AC-B01F-4C87-A0AA-E5E44072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755-ACF4-4296-AB8B-0FD17E5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AAC-8ED1-40B1-B8BA-6E31474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72C-0792-43A9-8834-AEEAEFFB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41D-D0EE-4DCE-838B-70762EE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B7D-730E-4255-BBEF-154F0E61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C08-F5A2-4CD8-A863-A83A2791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5B1-E634-4337-AAE7-893EFA02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972-8EBF-4A1F-8349-3D404EB0DA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1128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: Optimización de la Fer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03640" y="323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ase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651640" y="4579920"/>
            <a:ext cx="31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naci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drés Fau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vier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udia 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4000" y="260280"/>
            <a:ext cx="5616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versidad de Chile – Fcfm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minario de Diseñ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828720" y="1638360"/>
            <a:ext cx="41036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5148360" y="1484280"/>
            <a:ext cx="32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iveles de biomasa aumentan con respecto a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755640" y="38512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bservación de la fase estacio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lag, etapa exponencial y etapa muerte sol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coordinación implicó desarrollo óp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01840" y="2349360"/>
            <a:ext cx="802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Dudas y consult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700200" y="412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 un cultivo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d-b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269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 entre un cultivo Batch y un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para evitar inhibiciones por exceso de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olumen varía durante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o o mas (en algunos casos todos) nutrientes son adicionados al reactor durante el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55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vita la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obtienen productos asociados a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las células se encuentran “hambrientas”, se optimiza el proceso de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ermentadores__modos_"/>
          <p:cNvPicPr/>
          <p:nvPr/>
        </p:nvPicPr>
        <p:blipFill>
          <a:blip r:embed="rId1"/>
          <a:srcRect l="0" t="0" r="0" b="15641"/>
          <a:stretch/>
        </p:blipFill>
        <p:spPr>
          <a:xfrm>
            <a:off x="2050920" y="3716280"/>
            <a:ext cx="50403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00000" y="1844640"/>
            <a:ext cx="7543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ed-Batch + per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"/>
          <p:cNvPicPr/>
          <p:nvPr/>
        </p:nvPicPr>
        <p:blipFill>
          <a:blip r:embed="rId1"/>
          <a:stretch/>
        </p:blipFill>
        <p:spPr>
          <a:xfrm>
            <a:off x="468360" y="2781360"/>
            <a:ext cx="35272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8360" y="2781360"/>
            <a:ext cx="3527280" cy="3456000"/>
          </a:xfrm>
          <a:prstGeom prst="rect">
            <a:avLst/>
          </a:prstGeom>
          <a:solidFill>
            <a:srgbClr val="3366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211640" y="28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aso Precip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213080" y="5726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213080" y="4076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213080" y="5365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213080" y="45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213080" y="3710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213080" y="3284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213080" y="4933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traz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s Prototipo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g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ltros de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atraz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58920" y="3279600"/>
            <a:ext cx="6553080" cy="331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1908000" y="355680"/>
            <a:ext cx="504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 oxige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yor producción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emplazo del agua que se eva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diciones contro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ol sobre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1:47Z</dcterms:created>
  <dc:creator>.</dc:creator>
  <dc:description/>
  <dc:language>en-US</dc:language>
  <cp:lastModifiedBy>Ing Quimica</cp:lastModifiedBy>
  <dcterms:modified xsi:type="dcterms:W3CDTF">2009-06-23T20:03:44Z</dcterms:modified>
  <cp:revision>5</cp:revision>
  <dc:subject/>
  <dc:title>Diapositiva 1</dc:title>
</cp:coreProperties>
</file>