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99B2-520A-487F-810C-3B0B5455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0EF8-7000-43F0-BCB4-BFA149C2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D43B-A536-4292-9CBC-2831AD10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A735A-36C4-4ECF-8A5F-FB7A63E7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C423-8547-4D21-B449-5FDE11CD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DA8D-12B6-49BD-91CF-6E564258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8EF-A78D-43C2-9C73-73B79056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EEE6-EF2C-4ED8-8DEE-527E327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641-B032-488A-B931-DBDB328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BA3-DDEA-48E8-9976-9B2C779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4E70-A004-464F-83CD-BF1EF59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B97B-3E49-43D7-819E-F02E086D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748-610A-4DA0-82D4-96E8BC1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A168-E88E-4A3F-B2CF-E919F8F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EC0E-6AEE-4BBC-8D2E-F9D2C813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2E2-1750-4823-B723-35414B58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FD6C-E9F7-4D2E-9392-A1AD9998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37B-169F-4130-BEA2-F784B0F8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C804-A2A0-4E9C-AE60-A8F8142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8F47-C7F5-4EA7-B0CE-1B1BFBB7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D200-56F4-4E2C-A681-CEF456C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62F4-7D85-47D8-B3D2-C1D17A99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C49C-10F0-43B3-9F54-E883A306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50DE-34DD-49BF-B022-DB4C080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8940-36C9-41A4-BA98-33B2840C4B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C100-BA86-49B9-BCA6-00A6BAEA1EA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dfdef6"/>
                </a:solidFill>
                <a:latin typeface="Arial"/>
              </a:rPr>
              <a:t>Prototipos de fermentadore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133360" y="43434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tegrantes: Oscar Bustam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ristian 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odrigo Var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lipe Zúñi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echa:        21/11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79280" y="260280"/>
            <a:ext cx="62215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iversidad de Chile                                                        Facultad de Ciencias Físicas y Matemáticas                     Depto. De Ing. Química y Biotecnología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D20A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dfdef6"/>
                </a:solidFill>
                <a:latin typeface="Arial"/>
              </a:rPr>
              <a:t>Conclusion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Modelo de Fermentador Nº 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8" name="Picture 4" descr="reactor%202"/>
          <p:cNvPicPr/>
          <p:nvPr/>
        </p:nvPicPr>
        <p:blipFill>
          <a:blip r:embed="rId1"/>
          <a:stretch/>
        </p:blipFill>
        <p:spPr>
          <a:xfrm>
            <a:off x="1763640" y="1773360"/>
            <a:ext cx="523872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Durante el experimento de Prueb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te de la Levadura permanecía sedimentada por falta de agi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Sistema de calefacción no funcionó correctam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la estimación del Tiempo de decantació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5210280" cy="510552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5"/>
          <p:cNvSpPr/>
          <p:nvPr/>
        </p:nvSpPr>
        <p:spPr>
          <a:xfrm>
            <a:off x="251460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2438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zcla ine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10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Propuesta de Fermentador Nº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4" descr=""/>
          <p:cNvPicPr/>
          <p:nvPr/>
        </p:nvPicPr>
        <p:blipFill>
          <a:blip r:embed="rId1"/>
          <a:stretch/>
        </p:blipFill>
        <p:spPr>
          <a:xfrm>
            <a:off x="1449360" y="1600200"/>
            <a:ext cx="6245280" cy="4533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dfdef6"/>
                </a:solidFill>
                <a:latin typeface="Arial"/>
              </a:rPr>
              <a:t>Modelo Realizado de Fermentador Nº 2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incipal ventaja de este reactor es su capacidad para retener la biomasa producida en su interi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tra ventaja propia de este modelo es su autonomía de funcionamien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Ventajas Con Respecto al Batc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eguir recipiente adecuado para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usar agitadores mecánicos o magnéticos debido la reducido tamaño del re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mposibilidad de calefaccionar el reactor debido a las características físicas del rea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taminación del sustr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ños físicos en el mod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Dificultades en la Implem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fdef6"/>
                </a:solidFill>
                <a:latin typeface="Arial"/>
              </a:rPr>
              <a:t>Resultados experimentales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88000" y="1413000"/>
          <a:ext cx="4032000" cy="1800000"/>
        </p:xfrm>
        <a:graphic>
          <a:graphicData uri="http://schemas.openxmlformats.org/drawingml/2006/table">
            <a:tbl>
              <a:tblPr/>
              <a:tblGrid>
                <a:gridCol w="806400"/>
                <a:gridCol w="806400"/>
                <a:gridCol w="806400"/>
                <a:gridCol w="806400"/>
                <a:gridCol w="806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[h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.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.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3.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.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Rectangle 5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5" name="Object 4"/>
          <p:cNvGraphicFramePr/>
          <p:nvPr/>
        </p:nvGraphicFramePr>
        <p:xfrm>
          <a:off x="250920" y="1125360"/>
          <a:ext cx="4392360" cy="23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4392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Text Box 6"/>
          <p:cNvSpPr/>
          <p:nvPr/>
        </p:nvSpPr>
        <p:spPr>
          <a:xfrm>
            <a:off x="5292720" y="177336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6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9" name="Object 259"/>
          <p:cNvGraphicFramePr/>
          <p:nvPr/>
        </p:nvGraphicFramePr>
        <p:xfrm>
          <a:off x="250920" y="3716280"/>
          <a:ext cx="4321080" cy="232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40" name="Object 2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16280"/>
                    <a:ext cx="432108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736"/>
          <p:cNvSpPr/>
          <p:nvPr/>
        </p:nvSpPr>
        <p:spPr>
          <a:xfrm>
            <a:off x="5148360" y="3860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859280" y="4005360"/>
          <a:ext cx="3884760" cy="2590560"/>
        </p:xfrm>
        <a:graphic>
          <a:graphicData uri="http://schemas.openxmlformats.org/drawingml/2006/table">
            <a:tbl>
              <a:tblPr/>
              <a:tblGrid>
                <a:gridCol w="776520"/>
                <a:gridCol w="777600"/>
                <a:gridCol w="776520"/>
                <a:gridCol w="777600"/>
                <a:gridCol w="7765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iemp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h]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lució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8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.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9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.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9.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.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Text Box 888"/>
          <p:cNvSpPr/>
          <p:nvPr/>
        </p:nvSpPr>
        <p:spPr>
          <a:xfrm>
            <a:off x="395280" y="63086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(Absorbancia*7.01+0.026)* Dilu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Arial"/>
              </a:rPr>
              <a:t>Modelo optimiza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76688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102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4:46:15Z</dcterms:created>
  <dc:creator>Patricio Escobar Ferrand</dc:creator>
  <dc:description/>
  <dc:language>en-US</dc:language>
  <cp:lastModifiedBy>Ing Quimica</cp:lastModifiedBy>
  <dcterms:modified xsi:type="dcterms:W3CDTF">2009-06-23T20:02:41Z</dcterms:modified>
  <cp:revision>47</cp:revision>
  <dc:subject/>
  <dc:title>Fermentación por cultivos en Perfusión</dc:title>
</cp:coreProperties>
</file>