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B6BE-A037-42EC-B7E0-AD6EB1B5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B9EC-3DDE-4A57-9B67-A969FB8E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8B6D-E9E1-40E8-92C2-38787054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7412-3005-4CB4-9503-CC2FA41B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BE2E-25F3-46B6-BBA1-BCEA7272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9FAE-EEBE-4501-86CE-E8A75D93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FB03-0C7C-416C-83E0-7481122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A9E8-13CE-49E6-A42A-E175978D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4B72-D530-4392-9C9E-FE717665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343E-C81C-478B-AFDD-709331C3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6C63-9787-4A21-975D-7FE32DF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E27D-FF31-46E1-864A-25E1B27A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F20E-2A45-4993-BA53-8C4F92E2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84B7-9E7F-49A2-B28E-7D3D768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700A-5EAC-485E-9C22-F8D749D7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1B7B-672E-4177-B6BE-B8CF9F54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5F01-04E3-4E7B-B7A7-5DD071CD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D08B-5518-4A30-9541-14BD4F8F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DE56-78B7-4B00-A7A1-96A9E11E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C0E3-7E7E-4682-B6E1-469602AE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8879-3990-4002-A0EA-86AF5C4C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2028-E940-4AA4-9A4F-214F25A6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E0B2-12A3-4FAA-9063-F10B1C37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C31E-AC2C-4FCB-9BBA-29D82915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2C15-5141-4E9C-AD04-0FC1D5484F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724-4847-431A-8979-632C18DA7A5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Prototipos de fermentador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133360" y="43434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grantes: Oscar Bustam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stian 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odrigo Var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lipe Zúñi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cha:        21/11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79280" y="260280"/>
            <a:ext cx="6221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Universidad de Chile                                                        Facultad de Ciencias Físicas y Matemáticas                     Depto. De Ing. Química y Biotecnología                         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D20A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dfdef6"/>
                </a:solidFill>
                <a:latin typeface="Arial"/>
              </a:rPr>
              <a:t>Conclusion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Modelo de Fermentador Nº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Picture 4" descr="reactor%202"/>
          <p:cNvPicPr/>
          <p:nvPr/>
        </p:nvPicPr>
        <p:blipFill>
          <a:blip r:embed="rId1"/>
          <a:stretch/>
        </p:blipFill>
        <p:spPr>
          <a:xfrm>
            <a:off x="1763640" y="1773360"/>
            <a:ext cx="52387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Durante el experimento de Prueb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arte de la Levadura permanecía sedimentada por falta de agi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Sistema de calefacción no funcionó correctam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la estimación del Tiempo de decan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10280" cy="510552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5"/>
          <p:cNvSpPr/>
          <p:nvPr/>
        </p:nvSpPr>
        <p:spPr>
          <a:xfrm>
            <a:off x="25146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243828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zcla ine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Propuesta de Fermentador Nº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33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fdef6"/>
                </a:solidFill>
                <a:latin typeface="Arial"/>
              </a:rPr>
              <a:t>Modelo Realizado de Fermentador Nº 2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principal ventaja de este reactor es su capacidad para retener la biomasa producida en su interi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tra ventaja propia de este modelo es su autonomía de funcionamient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Ventajas Con Respecto al Batc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eguir recipiente adecuado para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usar agitadores mecánicos o magnéticos debido la reducido tamaño del re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calefaccionar el reactor debido a las características físicas del rea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aminación del sus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ños físicos en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ef6"/>
                </a:solidFill>
                <a:latin typeface="Arial"/>
              </a:rPr>
              <a:t>Resultados experimental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788000" y="1413000"/>
          <a:ext cx="4032000" cy="1800000"/>
        </p:xfrm>
        <a:graphic>
          <a:graphicData uri="http://schemas.openxmlformats.org/drawingml/2006/table">
            <a:tbl>
              <a:tblPr/>
              <a:tblGrid>
                <a:gridCol w="806400"/>
                <a:gridCol w="806400"/>
                <a:gridCol w="806400"/>
                <a:gridCol w="806400"/>
                <a:gridCol w="806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[h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.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.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Rectangle 5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Object 4"/>
          <p:cNvGraphicFramePr/>
          <p:nvPr/>
        </p:nvGraphicFramePr>
        <p:xfrm>
          <a:off x="250920" y="1125360"/>
          <a:ext cx="4392360" cy="23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4392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6"/>
          <p:cNvSpPr/>
          <p:nvPr/>
        </p:nvSpPr>
        <p:spPr>
          <a:xfrm>
            <a:off x="5292720" y="177336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6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259"/>
          <p:cNvGraphicFramePr/>
          <p:nvPr/>
        </p:nvGraphicFramePr>
        <p:xfrm>
          <a:off x="250920" y="3716280"/>
          <a:ext cx="4321080" cy="232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0" name="Object 2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16280"/>
                    <a:ext cx="432108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Text Box 736"/>
          <p:cNvSpPr/>
          <p:nvPr/>
        </p:nvSpPr>
        <p:spPr>
          <a:xfrm>
            <a:off x="5148360" y="3860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859280" y="4005360"/>
          <a:ext cx="3884760" cy="2590560"/>
        </p:xfrm>
        <a:graphic>
          <a:graphicData uri="http://schemas.openxmlformats.org/drawingml/2006/table">
            <a:tbl>
              <a:tblPr/>
              <a:tblGrid>
                <a:gridCol w="776520"/>
                <a:gridCol w="777600"/>
                <a:gridCol w="776520"/>
                <a:gridCol w="777600"/>
                <a:gridCol w="776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h]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Text Box 888"/>
          <p:cNvSpPr/>
          <p:nvPr/>
        </p:nvSpPr>
        <p:spPr>
          <a:xfrm>
            <a:off x="395280" y="63086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(Absorbancia*7.01+0.026)* Dil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Modelo optimiz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10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4:46:15Z</dcterms:created>
  <dc:creator>Patricio Escobar Ferrand</dc:creator>
  <dc:description/>
  <dc:language>en-US</dc:language>
  <cp:lastModifiedBy>Ing Quimica</cp:lastModifiedBy>
  <dcterms:modified xsi:type="dcterms:W3CDTF">2009-06-23T20:02:41Z</dcterms:modified>
  <cp:revision>47</cp:revision>
  <dc:subject/>
  <dc:title>Fermentación por cultivos en Perfusión</dc:title>
</cp:coreProperties>
</file>