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3ffe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7119-E213-44F1-8197-7DAFB3A390CF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EB48-8684-4D5A-A379-08DDC512D8F1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933-C90E-4ACF-A70F-6B70656C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459-88FC-4479-AEFF-7CDD60E3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A9BD-C5DF-4A25-8860-454B4607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F4A-0123-4F9C-887F-A851432E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B409-4534-46ED-9EAD-2EBCBF42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500A-AB5D-46AA-9DB2-84C3BB66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776B-423E-471A-BE6D-9DD31F64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B5BC-609C-45D2-9C5A-53A34EE6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C532-1DE6-4045-A0D3-69A784D9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D1A0-52FC-45EB-8B5F-9BBD2399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AE46-1A50-4A2D-BC00-DE49C0C7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070D-3F20-4FDF-B557-5FF29EE6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AF56-3278-4D95-B669-5B909632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BCB5-44D1-46AF-9887-87361081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29C0-038E-402F-B54F-683B9719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9289-62CE-48F9-B5F1-9A0B1B8F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94D3-7BEA-4177-9282-272DABB8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EBB-7645-499A-A6E2-D97D60C5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67C-5FFA-4E7F-902E-F6BF2785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5FE-EC5B-4334-9AAD-7D110E8E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C74-13C7-4831-AD76-1585FC91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10C-325C-4FB3-8F84-E65BF7F0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C9D3-8B11-411A-8DBF-69DC236B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48D9-D072-4687-A9D4-6CAF00E0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1567-5099-4C0B-B5A1-588C866E2E0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C1B9-932C-48A2-B50F-E50616D20A1B}" type="slidenum"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-cursos.cl/usuario/aa64982c7b9e35ca8c6a885b294696b0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1960" y="1715760"/>
            <a:ext cx="7340400" cy="15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M.Elena Lienqu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Auxiliar </a:t>
            </a:r>
            <a:r>
              <a:rPr b="0" lang="es-E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Francesca Merca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laza Ercilla 84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mlienque@ing.uchile.c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sultas</a:t>
            </a:r>
            <a:br>
              <a:rPr sz="4400"/>
            </a:br>
            <a:br>
              <a:rPr sz="4400"/>
            </a:br>
            <a:r>
              <a:rPr b="0" lang="es-ES_tradn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mlienque@ing.uchile.c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4" descr="Image2"/>
          <p:cNvPicPr/>
          <p:nvPr/>
        </p:nvPicPr>
        <p:blipFill>
          <a:blip r:embed="rId1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5" descr="t=0"/>
          <p:cNvPicPr/>
          <p:nvPr/>
        </p:nvPicPr>
        <p:blipFill>
          <a:blip r:embed="rId1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antesdeinocular"/>
          <p:cNvPicPr/>
          <p:nvPr/>
        </p:nvPicPr>
        <p:blipFill>
          <a:blip r:embed="rId2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t=6"/>
          <p:cNvPicPr/>
          <p:nvPr/>
        </p:nvPicPr>
        <p:blipFill>
          <a:blip r:embed="rId3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t=30"/>
          <p:cNvPicPr/>
          <p:nvPr/>
        </p:nvPicPr>
        <p:blipFill>
          <a:blip r:embed="rId4"/>
          <a:stretch/>
        </p:blipFill>
        <p:spPr>
          <a:xfrm>
            <a:off x="5219640" y="3936960"/>
            <a:ext cx="3313080" cy="218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940360" y="1773360"/>
          <a:ext cx="2882880" cy="4419360"/>
        </p:xfrm>
        <a:graphic>
          <a:graphicData uri="http://schemas.openxmlformats.org/drawingml/2006/table">
            <a:tbl>
              <a:tblPr/>
              <a:tblGrid>
                <a:gridCol w="1441440"/>
                <a:gridCol w="14414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Fa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Velocidad de crecimiento específi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Latenc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Aceler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Exponenci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6666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800" spc="-1" strike="noStrike" baseline="-25000">
                          <a:solidFill>
                            <a:srgbClr val="006666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Declin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stacionar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Muer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36" descr="antesdeinocular"/>
          <p:cNvPicPr/>
          <p:nvPr/>
        </p:nvPicPr>
        <p:blipFill>
          <a:blip r:embed="rId2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8" descr="t=0"/>
          <p:cNvPicPr/>
          <p:nvPr/>
        </p:nvPicPr>
        <p:blipFill>
          <a:blip r:embed="rId3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1" descr="t=6"/>
          <p:cNvPicPr/>
          <p:nvPr/>
        </p:nvPicPr>
        <p:blipFill>
          <a:blip r:embed="rId4"/>
          <a:stretch/>
        </p:blipFill>
        <p:spPr>
          <a:xfrm>
            <a:off x="755640" y="1628640"/>
            <a:ext cx="1828800" cy="1217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4" descr="t=30"/>
          <p:cNvPicPr/>
          <p:nvPr/>
        </p:nvPicPr>
        <p:blipFill>
          <a:blip r:embed="rId5"/>
          <a:stretch/>
        </p:blipFill>
        <p:spPr>
          <a:xfrm>
            <a:off x="4356000" y="836640"/>
            <a:ext cx="1511280" cy="106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7-Marz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4-Marz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1-Marzo Laboratorio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7-Abril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4-Abril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1-Abril Trabajo Grupal en el laboratorio para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8-Abril Trabajo Grupal en el laboratorio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5-Mayo Presentación Informal y Entrega Informe II   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Mayo Prueba del Prototipo en laboratori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May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9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Junio Discusión de Result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0-Junio 18:0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resentación y Entrega Informe Final de resultados del prototipo</a:t>
            </a: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9-06-23T20:00:51Z</dcterms:modified>
  <cp:revision>147</cp:revision>
  <dc:subject/>
  <dc:title>Sin título de diapositiva</dc:title>
</cp:coreProperties>
</file>