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a3ffe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0A9E-1D35-4E2A-A861-B431BF41B6B6}" type="slidenum">
              <a:rPr b="0" lang="en-GB" sz="1200" spc="-1" strike="noStrike">
                <a:solidFill>
                  <a:srgbClr val="a3ffe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15E3-DCA8-4979-975A-8A5FAF57A1CF}" type="slidenum">
              <a:rPr b="0" lang="en-GB" sz="1200" spc="-1" strike="noStrike">
                <a:solidFill>
                  <a:srgbClr val="a3ffe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2D86-6790-4656-8E37-4C46BB088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9595-8F11-45D7-BF44-09E2C380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6D8C-2546-44D4-93FE-388E39DA0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A246-59EA-4CDE-9ACC-274DDA73B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F57B-4659-45B1-9A40-5AB9D0A0B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8BB0-47C2-493A-83B0-331992E9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09663-5FBA-4E9F-B111-52890CB0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6D0C-2869-4947-8A23-1772626A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4F6F-4AAD-4A4B-A07D-1EE8623F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CA71-2DBB-4A03-B167-D5AF8451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E32C-D679-46F2-A8FE-5B50EA63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F42E-3D3C-4BE2-AB3B-E90AEFC0E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E271-4AE5-4432-812F-50C636B2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5E95-DCDB-4788-A6CD-AD881891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BD7D-E1D8-4AC5-AE16-6DE6BEB2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CF54-0A3B-443B-B14C-C4C784370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7CA66-5140-4B50-A4F7-DC593F5A2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1150-E5BB-4749-AD71-6F37E484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1599-A1AA-446A-B7C3-6345660F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BEFC-D97A-4E8D-AF5A-5C426A29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1E93-943E-49B4-B505-127BC4BE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A02C-56FC-42B3-B76F-4AC84187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46CC-B807-4FD8-BA32-F09A57A8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48F5-649D-4F4A-89B8-805CB06F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A8D8-6035-4EEB-A7BD-C41BBB5E424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BA44-AECA-4163-A33F-257A71283138}" type="slidenum">
              <a:rPr b="0" lang="es-E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u-cursos.cl/usuario/aa64982c7b9e35ca8c6a885b294696b0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1960" y="1715760"/>
            <a:ext cx="7340400" cy="15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Diseño e Implementación de un proceso de producción de biomasa en altas concentraciones para la 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producción de bio-etanol de segunda generación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Prof. M.Elena Lienque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Prof. Auxiliar </a:t>
            </a:r>
            <a:r>
              <a:rPr b="0" lang="es-ES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Francesca Mercad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Centro de Ing. Bioquímica y Biotecnologí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Facultad de Ciencias. Físicas y Matemática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Universidad de Chil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Plaza Ercilla 847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mlienque@ing.uchile.c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onsultas</a:t>
            </a:r>
            <a:br>
              <a:rPr sz="4400"/>
            </a:br>
            <a:br>
              <a:rPr sz="4400"/>
            </a:br>
            <a:r>
              <a:rPr b="0" lang="es-ES_tradnl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mlienque@ing.uchile.c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Picture 4" descr="Image2"/>
          <p:cNvPicPr/>
          <p:nvPr/>
        </p:nvPicPr>
        <p:blipFill>
          <a:blip r:embed="rId1"/>
          <a:stretch/>
        </p:blipFill>
        <p:spPr>
          <a:xfrm>
            <a:off x="1908000" y="2421000"/>
            <a:ext cx="5486400" cy="4172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1835280" y="260280"/>
            <a:ext cx="54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Crecimiento en suspensió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5" descr="t=0"/>
          <p:cNvPicPr/>
          <p:nvPr/>
        </p:nvPicPr>
        <p:blipFill>
          <a:blip r:embed="rId1"/>
          <a:stretch/>
        </p:blipFill>
        <p:spPr>
          <a:xfrm>
            <a:off x="5076720" y="981000"/>
            <a:ext cx="3457800" cy="2290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antesdeinocular"/>
          <p:cNvPicPr/>
          <p:nvPr/>
        </p:nvPicPr>
        <p:blipFill>
          <a:blip r:embed="rId2"/>
          <a:stretch/>
        </p:blipFill>
        <p:spPr>
          <a:xfrm>
            <a:off x="1116000" y="1052640"/>
            <a:ext cx="3457440" cy="2280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t=6"/>
          <p:cNvPicPr/>
          <p:nvPr/>
        </p:nvPicPr>
        <p:blipFill>
          <a:blip r:embed="rId3"/>
          <a:stretch/>
        </p:blipFill>
        <p:spPr>
          <a:xfrm>
            <a:off x="1187280" y="3933720"/>
            <a:ext cx="3384720" cy="2251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t=30"/>
          <p:cNvPicPr/>
          <p:nvPr/>
        </p:nvPicPr>
        <p:blipFill>
          <a:blip r:embed="rId4"/>
          <a:stretch/>
        </p:blipFill>
        <p:spPr>
          <a:xfrm>
            <a:off x="5219640" y="3936960"/>
            <a:ext cx="3313080" cy="2187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468360" y="1298520"/>
            <a:ext cx="5334120" cy="40752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900000" y="333360"/>
            <a:ext cx="75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Curva de Crecimiento en forma batch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940360" y="1773360"/>
          <a:ext cx="2882880" cy="4419360"/>
        </p:xfrm>
        <a:graphic>
          <a:graphicData uri="http://schemas.openxmlformats.org/drawingml/2006/table">
            <a:tbl>
              <a:tblPr/>
              <a:tblGrid>
                <a:gridCol w="1441440"/>
                <a:gridCol w="144144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Fas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Velocidad de crecimiento específic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Latenci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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Aceleració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</a:t>
                      </a:r>
                      <a:r>
                        <a:rPr b="0" lang="es-ES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ma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Exponencia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767600"/>
                        </a:gs>
                        <a:gs pos="50000">
                          <a:srgbClr val="ffff00"/>
                        </a:gs>
                        <a:gs pos="100000">
                          <a:srgbClr val="7676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6666"/>
                          </a:solidFill>
                          <a:latin typeface="Symbol"/>
                          <a:ea typeface="Symbol"/>
                        </a:rPr>
                        <a:t></a:t>
                      </a:r>
                      <a:r>
                        <a:rPr b="0" lang="es-ES" sz="2800" spc="-1" strike="noStrike" baseline="-25000">
                          <a:solidFill>
                            <a:srgbClr val="006666"/>
                          </a:solidFill>
                          <a:latin typeface="Comic Sans MS"/>
                        </a:rPr>
                        <a:t>ma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767600"/>
                        </a:gs>
                        <a:gs pos="50000">
                          <a:srgbClr val="ffff00"/>
                        </a:gs>
                        <a:gs pos="100000">
                          <a:srgbClr val="767600"/>
                        </a:gs>
                      </a:gsLst>
                      <a:lin ang="5400000"/>
                    </a:gra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Declinació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</a:t>
                      </a:r>
                      <a:r>
                        <a:rPr b="0" lang="es-ES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ma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Estacionari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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Muert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3" name="Picture 36" descr="antesdeinocular"/>
          <p:cNvPicPr/>
          <p:nvPr/>
        </p:nvPicPr>
        <p:blipFill>
          <a:blip r:embed="rId2"/>
          <a:stretch/>
        </p:blipFill>
        <p:spPr>
          <a:xfrm>
            <a:off x="0" y="5229360"/>
            <a:ext cx="1828800" cy="1206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8" descr="t=0"/>
          <p:cNvPicPr/>
          <p:nvPr/>
        </p:nvPicPr>
        <p:blipFill>
          <a:blip r:embed="rId3"/>
          <a:stretch/>
        </p:blipFill>
        <p:spPr>
          <a:xfrm>
            <a:off x="324000" y="5229360"/>
            <a:ext cx="1828800" cy="1211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1" descr="t=6"/>
          <p:cNvPicPr/>
          <p:nvPr/>
        </p:nvPicPr>
        <p:blipFill>
          <a:blip r:embed="rId4"/>
          <a:stretch/>
        </p:blipFill>
        <p:spPr>
          <a:xfrm>
            <a:off x="755640" y="1628640"/>
            <a:ext cx="1828800" cy="1217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4" descr="t=30"/>
          <p:cNvPicPr/>
          <p:nvPr/>
        </p:nvPicPr>
        <p:blipFill>
          <a:blip r:embed="rId5"/>
          <a:stretch/>
        </p:blipFill>
        <p:spPr>
          <a:xfrm>
            <a:off x="4356000" y="836640"/>
            <a:ext cx="1511280" cy="1062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alendario de Actividad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7-Marzo Formas de llevar a cabo una fermentació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4-Marzo Laboratorio    Experiencia "Normas de Bioseguridad parte 1”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31-Marzo Laboratorio   Experiencia "Cultivos Batch en Matraz de 500 ml"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07-Abril Presentaciones sobre producción de Bioetanol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4-Abril Formas de llevar a cabo una fermentació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1-Abril Trabajo Grupal en el laboratorio para desarrollo de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8-Abril Trabajo Grupal en el laboratorio desarrollo de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5-Mayo Presentación Informal y Entrega Informe II   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2-Mayo Prueba del Prototipo en laboratorio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6-Mayo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-Junio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9-Junio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3-Junio Discusión de Resultado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30-Junio 18:00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Presentación y Entrega Informe Final de resultados del prototipo</a:t>
            </a: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3T16:21:00Z</dcterms:created>
  <dc:creator>Pc</dc:creator>
  <dc:description/>
  <dc:language>en-US</dc:language>
  <cp:lastModifiedBy>Ing Quimica</cp:lastModifiedBy>
  <dcterms:modified xsi:type="dcterms:W3CDTF">2009-06-23T20:00:51Z</dcterms:modified>
  <cp:revision>147</cp:revision>
  <dc:subject/>
  <dc:title>Sin título de diapositiva</dc:title>
</cp:coreProperties>
</file>