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2481-01CC-4688-9BC7-D0A48B61356F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B1BD-D8A4-4524-BCBC-C42849E512BF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CCA-09BD-4B9B-A78B-A35D305B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62F-6D64-4C5C-9797-B492B560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AB12-9BA6-466C-9F16-B7E7ECB8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B9E-B589-487C-8E2B-903A4DBA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9824-1D34-4422-B4B4-768AF070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9BA1-25E8-44CB-B42F-AD2E2E50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0407-0B3A-4A03-913A-BC563BA5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091F-06A3-4791-A7ED-9B6DF5FA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7BE1-51F2-4BF7-B0E0-63D8C53E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C854-5C5C-4BD4-98A6-4A7DDF3F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778A-DAB0-4154-A62B-AF9D0E5C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75A-EE8C-40F9-A297-FB37AE8A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9792-6199-4A98-B3CE-83DEDE02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9B17-556F-49A4-AB25-44959E09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876E-39A4-474A-9A99-4BF6970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D638-9B0E-4A0B-AF72-6587DE73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386D-115E-4791-8A43-83E744B5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D6F2-6C50-44C0-A2B1-BA362ACE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D8C-8538-4C33-B906-44B7B03A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5EA-6345-4573-93F9-508FDD64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CE1-4BE6-4149-83EB-7B3C75FA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6BE-C427-4228-AB1D-AFDE09CF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C82-BA04-410D-ABD1-CFE00694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DDC-4E59-403F-97DF-8F0AFBF8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C8B5-68AF-4D6F-88AA-3E5E174F58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6435-2BB5-4069-BBBC-E45389E2AD8F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Junio 18: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esentación y Entrega Informe Final de resultados del prototipo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6-23T20:00:51Z</dcterms:modified>
  <cp:revision>147</cp:revision>
  <dc:subject/>
  <dc:title>Sin título de diapositiva</dc:title>
</cp:coreProperties>
</file>