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3ffe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BD81-EB32-435B-B074-2453E515BD8C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FC1A-C8CD-461A-B702-F5A181592A40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103-EB0B-4AE8-B153-88DCF5CD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17C-D847-4A4A-807F-08E20B72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A1FB-964C-466E-8AA8-F1856B9C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A09-B500-4693-9990-B9B1D299C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C8FD-64D8-4D6D-9A20-E2AE6204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E8D5-2507-41E9-8B69-1F4DA9ED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B827-E884-4D76-8A03-673736F9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3A95-566D-4B00-AB02-4A9F5825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663B-13F5-4263-9546-75779A1C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782C-4F5A-4B96-A6B9-E01355A4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370F-961B-4FB0-9EF7-63A6E61C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2DD-BE69-45B6-A3FA-3EFD2571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D2ED-98F7-42BB-93D9-0A595EA4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1E00-0CE5-45EF-895E-438D0891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7B05-30DD-4414-8BE8-019FA346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43A7-6C83-43E6-8D48-EE697FE68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D8B5-9F8E-4952-AA06-9DF397D8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190-3E2A-4F56-B087-5E4E5EF7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D185-1070-4CE2-8F8E-5EF73809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332-A0CA-4A15-8EEF-D365BFA4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239-AF86-4BFD-B6B6-87B079D1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54A0-A57E-40ED-A323-79B3C225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092-96CA-4F9C-86DB-83041334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3C5-DDA3-4927-B24F-F02333CF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E8A4-F393-49F4-B4E5-83028D099D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5B9E-A9AC-40E5-91F7-BE75A5473F7F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sultas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lienque@ing.uchile.c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4" descr="Image2"/>
          <p:cNvPicPr/>
          <p:nvPr/>
        </p:nvPicPr>
        <p:blipFill>
          <a:blip r:embed="rId1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5" descr="t=0"/>
          <p:cNvPicPr/>
          <p:nvPr/>
        </p:nvPicPr>
        <p:blipFill>
          <a:blip r:embed="rId1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antesdeinocular"/>
          <p:cNvPicPr/>
          <p:nvPr/>
        </p:nvPicPr>
        <p:blipFill>
          <a:blip r:embed="rId2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t=6"/>
          <p:cNvPicPr/>
          <p:nvPr/>
        </p:nvPicPr>
        <p:blipFill>
          <a:blip r:embed="rId3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t=30"/>
          <p:cNvPicPr/>
          <p:nvPr/>
        </p:nvPicPr>
        <p:blipFill>
          <a:blip r:embed="rId4"/>
          <a:stretch/>
        </p:blipFill>
        <p:spPr>
          <a:xfrm>
            <a:off x="5219640" y="3936960"/>
            <a:ext cx="331308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940360" y="1773360"/>
          <a:ext cx="2882880" cy="4419360"/>
        </p:xfrm>
        <a:graphic>
          <a:graphicData uri="http://schemas.openxmlformats.org/drawingml/2006/table">
            <a:tbl>
              <a:tblPr/>
              <a:tblGrid>
                <a:gridCol w="144144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Fa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atenc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6666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6666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36" descr="antesdeinocular"/>
          <p:cNvPicPr/>
          <p:nvPr/>
        </p:nvPicPr>
        <p:blipFill>
          <a:blip r:embed="rId2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8" descr="t=0"/>
          <p:cNvPicPr/>
          <p:nvPr/>
        </p:nvPicPr>
        <p:blipFill>
          <a:blip r:embed="rId3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1" descr="t=6"/>
          <p:cNvPicPr/>
          <p:nvPr/>
        </p:nvPicPr>
        <p:blipFill>
          <a:blip r:embed="rId4"/>
          <a:stretch/>
        </p:blipFill>
        <p:spPr>
          <a:xfrm>
            <a:off x="755640" y="16286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4" descr="t=30"/>
          <p:cNvPicPr/>
          <p:nvPr/>
        </p:nvPicPr>
        <p:blipFill>
          <a:blip r:embed="rId5"/>
          <a:stretch/>
        </p:blipFill>
        <p:spPr>
          <a:xfrm>
            <a:off x="4356000" y="83664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0-Junio 18:0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resentación y Entrega Informe Final de resultados del prototipo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9-06-23T20:00:51Z</dcterms:modified>
  <cp:revision>147</cp:revision>
  <dc:subject/>
  <dc:title>Sin título de diapositiva</dc:title>
</cp:coreProperties>
</file>