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a3ffe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CE57-020C-4D09-9630-BD1865509581}" type="slidenum">
              <a:rPr b="0" lang="en-GB" sz="1200" spc="-1" strike="noStrike">
                <a:solidFill>
                  <a:srgbClr val="a3ffe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0F5C-4ADA-44D1-9B07-D4DF1BB8DCE1}" type="slidenum">
              <a:rPr b="0" lang="en-GB" sz="1200" spc="-1" strike="noStrike">
                <a:solidFill>
                  <a:srgbClr val="a3ffe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74DE-B6B2-4461-95B9-14F12E145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6B07-9A05-448C-85E8-34C44066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4AFB-5F82-45BB-92DF-06045E542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DDDB-952F-42E7-8FA7-BCEA27E14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27ED-3674-42A3-BAC7-01DD54A51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F283-289D-4C02-8596-F66B29D0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EE68-F454-4990-9B13-8F59E7A4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B6F9-257B-4BA4-A772-71CA066A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ABE0-F243-4E7D-AE4B-DC882376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DD2C-F883-46D0-9E23-F0EDE5C5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27E3-EB3F-4037-9E40-415DB888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E07A-12EB-4054-9A5A-D4F6B6C3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6A9F-5DDB-4B5A-A6AF-59C7E7D2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E57E-C208-403E-99F9-B8B93444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FEDA-61B5-4FA6-96A4-6FC39263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D9AB-7502-424D-ABFE-C2318513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69DE-C9F1-4ECE-B665-3899A7291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8FF6-C0CA-4FA2-802A-D8A98BE1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D21C-005E-4545-A25F-1628B7E8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C95C-B896-4FEF-9EB3-9FF5345B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6B5A-2430-495F-A02A-9659E1D5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1284-2C0C-4E82-9197-53603F3E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9BE4-6789-462C-8183-8E2BEC80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AD02-5AC0-4CB2-A1BA-C2CC560E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6A03-3657-459F-97A2-E4DF822A22D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B481-68E9-4C32-986A-3A70B3EB9F17}" type="slidenum"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u-cursos.cl/usuario/aa64982c7b9e35ca8c6a885b294696b0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1960" y="1715760"/>
            <a:ext cx="7340400" cy="15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Diseño e Implementación de un proceso de producción de biomasa en altas concentraciones para la 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producción de bio-etanol de segunda generación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of. M.Elena Lienque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of. Auxiliar </a:t>
            </a:r>
            <a:r>
              <a:rPr b="0" lang="es-ES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Francesca Mercad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Centro de Ing. Bioquímica y Biotecnologí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Facultad de Ciencias. Físicas y Matemática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Universidad de Chi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Plaza Ercilla 847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mlienque@ing.uchile.c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onsultas</a:t>
            </a:r>
            <a:br>
              <a:rPr sz="4400"/>
            </a:br>
            <a:br>
              <a:rPr sz="4400"/>
            </a:br>
            <a:r>
              <a:rPr b="0" lang="es-ES_tradnl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mlienque@ing.uchile.c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Picture 4" descr="Image2"/>
          <p:cNvPicPr/>
          <p:nvPr/>
        </p:nvPicPr>
        <p:blipFill>
          <a:blip r:embed="rId1"/>
          <a:stretch/>
        </p:blipFill>
        <p:spPr>
          <a:xfrm>
            <a:off x="1908000" y="2421000"/>
            <a:ext cx="5486400" cy="4172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1835280" y="26028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Crecimiento en suspensió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5" descr="t=0"/>
          <p:cNvPicPr/>
          <p:nvPr/>
        </p:nvPicPr>
        <p:blipFill>
          <a:blip r:embed="rId1"/>
          <a:stretch/>
        </p:blipFill>
        <p:spPr>
          <a:xfrm>
            <a:off x="5076720" y="981000"/>
            <a:ext cx="3457800" cy="2290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antesdeinocular"/>
          <p:cNvPicPr/>
          <p:nvPr/>
        </p:nvPicPr>
        <p:blipFill>
          <a:blip r:embed="rId2"/>
          <a:stretch/>
        </p:blipFill>
        <p:spPr>
          <a:xfrm>
            <a:off x="1116000" y="1052640"/>
            <a:ext cx="3457440" cy="2280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t=6"/>
          <p:cNvPicPr/>
          <p:nvPr/>
        </p:nvPicPr>
        <p:blipFill>
          <a:blip r:embed="rId3"/>
          <a:stretch/>
        </p:blipFill>
        <p:spPr>
          <a:xfrm>
            <a:off x="1187280" y="3933720"/>
            <a:ext cx="3384720" cy="2251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t=30"/>
          <p:cNvPicPr/>
          <p:nvPr/>
        </p:nvPicPr>
        <p:blipFill>
          <a:blip r:embed="rId4"/>
          <a:stretch/>
        </p:blipFill>
        <p:spPr>
          <a:xfrm>
            <a:off x="5219640" y="3936960"/>
            <a:ext cx="3313080" cy="2187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468360" y="1298520"/>
            <a:ext cx="5334120" cy="40752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900000" y="333360"/>
            <a:ext cx="75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urva de Crecimiento en forma batc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940360" y="1773360"/>
          <a:ext cx="2882880" cy="4419360"/>
        </p:xfrm>
        <a:graphic>
          <a:graphicData uri="http://schemas.openxmlformats.org/drawingml/2006/table">
            <a:tbl>
              <a:tblPr/>
              <a:tblGrid>
                <a:gridCol w="1441440"/>
                <a:gridCol w="144144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Fas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Velocidad de crecimiento específic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Latenci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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Aceleració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</a:t>
                      </a:r>
                      <a:r>
                        <a:rPr b="0" lang="es-ES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Exponencia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767600"/>
                        </a:gs>
                        <a:gs pos="50000">
                          <a:srgbClr val="ffff00"/>
                        </a:gs>
                        <a:gs pos="100000">
                          <a:srgbClr val="7676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6666"/>
                          </a:solidFill>
                          <a:latin typeface="Symbol"/>
                          <a:ea typeface="Symbol"/>
                        </a:rPr>
                        <a:t></a:t>
                      </a:r>
                      <a:r>
                        <a:rPr b="0" lang="es-ES" sz="2800" spc="-1" strike="noStrike" baseline="-25000">
                          <a:solidFill>
                            <a:srgbClr val="006666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767600"/>
                        </a:gs>
                        <a:gs pos="50000">
                          <a:srgbClr val="ffff00"/>
                        </a:gs>
                        <a:gs pos="100000">
                          <a:srgbClr val="767600"/>
                        </a:gs>
                      </a:gsLst>
                      <a:lin ang="5400000"/>
                    </a:gra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Declinació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</a:t>
                      </a:r>
                      <a:r>
                        <a:rPr b="0" lang="es-ES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Estacionari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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Muert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3" name="Picture 36" descr="antesdeinocular"/>
          <p:cNvPicPr/>
          <p:nvPr/>
        </p:nvPicPr>
        <p:blipFill>
          <a:blip r:embed="rId2"/>
          <a:stretch/>
        </p:blipFill>
        <p:spPr>
          <a:xfrm>
            <a:off x="0" y="5229360"/>
            <a:ext cx="1828800" cy="1206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8" descr="t=0"/>
          <p:cNvPicPr/>
          <p:nvPr/>
        </p:nvPicPr>
        <p:blipFill>
          <a:blip r:embed="rId3"/>
          <a:stretch/>
        </p:blipFill>
        <p:spPr>
          <a:xfrm>
            <a:off x="324000" y="5229360"/>
            <a:ext cx="1828800" cy="1211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1" descr="t=6"/>
          <p:cNvPicPr/>
          <p:nvPr/>
        </p:nvPicPr>
        <p:blipFill>
          <a:blip r:embed="rId4"/>
          <a:stretch/>
        </p:blipFill>
        <p:spPr>
          <a:xfrm>
            <a:off x="755640" y="1628640"/>
            <a:ext cx="1828800" cy="1217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4" descr="t=30"/>
          <p:cNvPicPr/>
          <p:nvPr/>
        </p:nvPicPr>
        <p:blipFill>
          <a:blip r:embed="rId5"/>
          <a:stretch/>
        </p:blipFill>
        <p:spPr>
          <a:xfrm>
            <a:off x="4356000" y="836640"/>
            <a:ext cx="1511280" cy="1062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alendario de Actividad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7-Marzo Formas de llevar a cabo una fermentació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4-Marzo Laboratorio    Experiencia "Normas de Bioseguridad parte 1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31-Marzo Laboratorio   Experiencia "Cultivos Batch en Matraz de 500 ml"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07-Abril Presentaciones sobre producción de Bioetanol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4-Abril Formas de llevar a cabo una fermentació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1-Abril Trabajo Grupal en el laboratorio para desarrollo de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8-Abril Trabajo Grupal en el laboratorio desarrollo de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5-Mayo Presentación Informal y Entrega Informe II   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2-Mayo Prueba del Prototipo en laboratorio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6-May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-Juni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9-Juni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3-Junio Discusión de Resultado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30-Junio 18:00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Presentación y Entrega Informe Final de resultados del prototipo</a:t>
            </a: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3T16:21:00Z</dcterms:created>
  <dc:creator>Pc</dc:creator>
  <dc:description/>
  <dc:language>en-US</dc:language>
  <cp:lastModifiedBy>Ing Quimica</cp:lastModifiedBy>
  <dcterms:modified xsi:type="dcterms:W3CDTF">2009-06-23T20:00:51Z</dcterms:modified>
  <cp:revision>147</cp:revision>
  <dc:subject/>
  <dc:title>Sin título de diapositiva</dc:title>
</cp:coreProperties>
</file>