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a3ffe7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3395-A015-4EB2-A06E-FFCBBDF3161D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F5A3-E9B8-4E73-A855-EC608E8D6DC9}" type="slidenum">
              <a:rPr b="0" lang="en-GB" sz="1200" spc="-1" strike="noStrike">
                <a:solidFill>
                  <a:srgbClr val="a3ffe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337-F622-469C-8E39-45E67A6A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712-FF4A-461A-962E-8DD7CE18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CA15-3075-4F78-90CA-B6CD3B76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135-565F-4894-A9DC-690900AA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2A06-7A5F-4F6F-AD86-8F6499AC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91A5-385A-4A69-B0E4-6137C07B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A53-7515-4DA6-B8C3-2B31AD91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7D33-F91B-4946-B1F1-EE1B6A7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39BB-E770-4FB6-BA0C-4A675913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313C-32E8-4EAC-AF06-83778EF3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B098-6AE5-482D-9D45-061AE776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3CE1-065B-4144-B30B-79C94385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12AB-96E1-4A06-A8EB-7BC8CD1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E40B-03CA-46CD-8490-11AD7F4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FE3F-88E7-4C51-8F43-C47D3CED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B31B-2CA0-4629-A6F3-9FF3E424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8B98-3A60-4E83-A0A2-0045A6F2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3A9-47E7-419F-9873-C9B3E0E6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5F6-4557-47F3-AD0C-7E128183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CC08-345A-4F17-88A5-C46A6902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0B2-6EE1-425D-9A94-8D8F1FE8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623-4B69-4B67-862C-E42774BD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407-E7C2-482F-B9F3-0D96556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BB6D-02BB-48F4-B5D6-BEBAD581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18AB-7017-490F-B1D3-9416B650AE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08B9-0BA0-47AE-A73E-CD2EEDDBEDE6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u-cursos.cl/usuario/aa64982c7b9e35ca8c6a885b294696b0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1960" y="1715760"/>
            <a:ext cx="7340400" cy="15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Diseño e Implementación de un proceso de producción de biomasa en altas concentraciones para la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producción de bio-etanol de segunda generación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M.Elena Lienque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. Auxiliar </a:t>
            </a:r>
            <a:r>
              <a:rPr b="0" lang="es-ES" sz="2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Francesca Mercado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entro de Ing. Bioquímica y Biotecnologí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Facultad de Ciencias. Físicas y Matemática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Universidad de Chi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laza Ercilla 847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mlienque@ing.uchile.c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onsultas</a:t>
            </a:r>
            <a:br>
              <a:rPr sz="4400"/>
            </a:br>
            <a:br>
              <a:rPr sz="4400"/>
            </a:br>
            <a:r>
              <a:rPr b="0" lang="es-ES_tradnl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mlienque@ing.uchile.c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Picture 4" descr="Image2"/>
          <p:cNvPicPr/>
          <p:nvPr/>
        </p:nvPicPr>
        <p:blipFill>
          <a:blip r:embed="rId1"/>
          <a:stretch/>
        </p:blipFill>
        <p:spPr>
          <a:xfrm>
            <a:off x="1908000" y="2421000"/>
            <a:ext cx="5486400" cy="4172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835280" y="26028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Comic Sans MS"/>
              </a:rPr>
              <a:t>Crecimiento en suspensió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t=0"/>
          <p:cNvPicPr/>
          <p:nvPr/>
        </p:nvPicPr>
        <p:blipFill>
          <a:blip r:embed="rId1"/>
          <a:stretch/>
        </p:blipFill>
        <p:spPr>
          <a:xfrm>
            <a:off x="5076720" y="981000"/>
            <a:ext cx="3457800" cy="22906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antesdeinocular"/>
          <p:cNvPicPr/>
          <p:nvPr/>
        </p:nvPicPr>
        <p:blipFill>
          <a:blip r:embed="rId2"/>
          <a:stretch/>
        </p:blipFill>
        <p:spPr>
          <a:xfrm>
            <a:off x="1116000" y="1052640"/>
            <a:ext cx="3457440" cy="22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t=6"/>
          <p:cNvPicPr/>
          <p:nvPr/>
        </p:nvPicPr>
        <p:blipFill>
          <a:blip r:embed="rId3"/>
          <a:stretch/>
        </p:blipFill>
        <p:spPr>
          <a:xfrm>
            <a:off x="1187280" y="3933720"/>
            <a:ext cx="3384720" cy="225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t=30"/>
          <p:cNvPicPr/>
          <p:nvPr/>
        </p:nvPicPr>
        <p:blipFill>
          <a:blip r:embed="rId4"/>
          <a:stretch/>
        </p:blipFill>
        <p:spPr>
          <a:xfrm>
            <a:off x="5219640" y="3936960"/>
            <a:ext cx="3313080" cy="2187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468360" y="1298520"/>
            <a:ext cx="5334120" cy="4075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00000" y="333360"/>
            <a:ext cx="75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Curva de Crecimiento en forma batc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940360" y="1773360"/>
          <a:ext cx="2882880" cy="4419360"/>
        </p:xfrm>
        <a:graphic>
          <a:graphicData uri="http://schemas.openxmlformats.org/drawingml/2006/table">
            <a:tbl>
              <a:tblPr/>
              <a:tblGrid>
                <a:gridCol w="1441440"/>
                <a:gridCol w="14414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Fas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Latenc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6666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s-ES" sz="2800" spc="-1" strike="noStrike" baseline="-25000">
                          <a:solidFill>
                            <a:srgbClr val="006666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gradFill rotWithShape="0">
                      <a:gsLst>
                        <a:gs pos="0">
                          <a:srgbClr val="767600"/>
                        </a:gs>
                        <a:gs pos="50000">
                          <a:srgbClr val="ffff00"/>
                        </a:gs>
                        <a:gs pos="100000">
                          <a:srgbClr val="767600"/>
                        </a:gs>
                      </a:gsLst>
                      <a:lin ang="5400000"/>
                    </a:gra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ffff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36" descr="antesdeinocular"/>
          <p:cNvPicPr/>
          <p:nvPr/>
        </p:nvPicPr>
        <p:blipFill>
          <a:blip r:embed="rId2"/>
          <a:stretch/>
        </p:blipFill>
        <p:spPr>
          <a:xfrm>
            <a:off x="0" y="5229360"/>
            <a:ext cx="1828800" cy="120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8" descr="t=0"/>
          <p:cNvPicPr/>
          <p:nvPr/>
        </p:nvPicPr>
        <p:blipFill>
          <a:blip r:embed="rId3"/>
          <a:stretch/>
        </p:blipFill>
        <p:spPr>
          <a:xfrm>
            <a:off x="324000" y="5229360"/>
            <a:ext cx="1828800" cy="1211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1" descr="t=6"/>
          <p:cNvPicPr/>
          <p:nvPr/>
        </p:nvPicPr>
        <p:blipFill>
          <a:blip r:embed="rId4"/>
          <a:stretch/>
        </p:blipFill>
        <p:spPr>
          <a:xfrm>
            <a:off x="755640" y="1628640"/>
            <a:ext cx="1828800" cy="1217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4" descr="t=30"/>
          <p:cNvPicPr/>
          <p:nvPr/>
        </p:nvPicPr>
        <p:blipFill>
          <a:blip r:embed="rId5"/>
          <a:stretch/>
        </p:blipFill>
        <p:spPr>
          <a:xfrm>
            <a:off x="4356000" y="836640"/>
            <a:ext cx="1511280" cy="1062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Calendario de Activida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7-Marzo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4-Marzo Laboratorio    Experiencia "Normas de Bioseguridad parte 1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1-Marzo Laboratorio   Experiencia "Cultivos Batch en Matraz de 500 ml"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07-Abril Presentaciones sobre producción de Bioetanol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4-Abril Formas de llevar a cabo una fermentació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1-Abril Trabajo Grupal en el laboratorio para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8-Abril Trabajo Grupal en el laboratorio desarrollo de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5-Mayo Presentación Informal y Entrega Informe II    Propuesta de Optimización de una fermentació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12-Mayo Prueba del Prototipo en laboratorio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6-May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9-Junio Prueba Prototipo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23-Junio Discusión de Resultado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30-Junio 18:0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Presentación y Entrega Informe Final de resultados del prototipo</a:t>
            </a:r>
            <a:r>
              <a:rPr b="0" lang="es-ES" sz="24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9-06-23T20:00:51Z</dcterms:modified>
  <cp:revision>147</cp:revision>
  <dc:subject/>
  <dc:title>Sin título de diapositiva</dc:title>
</cp:coreProperties>
</file>