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A484-FA0B-4757-ADAB-546D6A6E3BCA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3947-DA3C-4708-9781-19FF59545D5A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509-52C4-4536-970E-DC2996AC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FD1-D5DC-460B-BE54-55A48D7F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D21-4286-4171-AA36-CA21C775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42E-C78A-4C93-A945-A48EC81B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63FE-1E2C-4CCA-9144-E9732F37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5B37-AAB4-411D-BE20-C12B22A8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7217-5428-4732-8E5C-9FA349A4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206F-317D-4D8D-9E1C-A6E4BEE0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A5F9-E2C0-4C28-B862-CC1A45D0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829C-8FE4-4F6B-A1AB-1CC402FA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373A-8D9F-4ED4-BD12-810C499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23F-A8F9-4146-85BC-AC3B9457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6036-66B8-4586-AC9E-28AA2EEE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A233-35CB-4605-82F6-3F07085C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2994-62E0-4332-B7FA-885E215B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9711-F583-4A96-AAF9-754854D1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FC7E-CE90-47EA-AED2-64120FB2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55D-A2DF-4212-ABBE-107C4EBC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403-60F3-4032-80DB-DC3EB0BD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F73-C8F3-4152-A80F-0B0D60E2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811-2082-4DAB-B05F-1B8DB63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877-E413-42D4-B079-DC092C1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9A3-CE3F-4035-B24F-9A7C8B3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08E-9A0D-407C-B46B-7217FA7B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875B-0766-4AF9-B97F-7433AAC411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B10-17F2-4108-A66A-68660B9C66D8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Junio 18: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esentación y Entrega Informe Final de resultados del prototipo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6-23T20:00:51Z</dcterms:modified>
  <cp:revision>147</cp:revision>
  <dc:subject/>
  <dc:title>Sin título de diapositiva</dc:title>
</cp:coreProperties>
</file>