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2E2-01F5-4314-8058-E69B1966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5A1-3FBA-4DE6-8573-574D1B66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ABF-7BB5-4075-8476-946FB8E9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4DE-1877-4876-9A5E-3ED03348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90E5-3AD8-4940-B46E-F4EB4A7B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469-CDA7-4635-8E98-6FA1BD56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0925-2643-4248-B2F1-0641899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5E3-26D1-4AA6-9516-78F3508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441F-1A73-491D-8172-7FEABA7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8533-147E-4C38-BD30-56D8CCA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D5F-0DD9-4000-A0BE-D336B87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93F-2C22-47E1-A1B5-B226CCD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8682-3FEE-4DD6-9988-1DA441C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278-9247-4A91-8D3B-39CE888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958A-5323-4622-AD86-9A58F9FE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BF5-BC0E-440A-B0B6-210979A7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DB1A-EEFC-4D37-A88A-3C063A11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4B2-8329-4C7E-95B6-ED4AD63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B1E-6461-4A13-85F6-77036B0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C4B-CFCA-416E-819D-E5550E9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63D-C446-4FDF-B227-2E305618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2EF-2E53-41E5-9C0F-CEF9F30B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A49-11AE-4D37-983C-EEB42E7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833-FB0D-4645-86B3-08CE018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3D71-7D58-4557-9B72-C10D0196004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C89F-D46D-4077-A317-95775354C0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M.Elena Lienqu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Auxiliar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rancesca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ntro de Ing. Bioquímica y Bio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acultad de Ciencias. Físicas y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laza Ercilla 8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lienque@ing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namiento en barr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ción de las células por medio de una barrera semipermeable, que permite el paso selectivo de los nutrientes y productos de metabolism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croencapsulación, emulsificación, membranas de microfiltración, ultrafiltración y dia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rapamiento en matriz poros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ámicas, carbón activado,  vidrio poroso, agar, alginato de cal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on atrapadas en una matriz porosa, polimérica que las retiene. En dichas matrices tanto los nutrientes como los productos pueden atraves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 rot="5400000">
            <a:off x="970920" y="549000"/>
            <a:ext cx="1511280" cy="180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 flipH="1" rot="10800000">
            <a:off x="1835280" y="4941360"/>
            <a:ext cx="1728720" cy="1413000"/>
          </a:xfrm>
          <a:prstGeom prst="pi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43" name="Oval 6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31" descr="viktordij1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64" name="Line 33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3" descr="bt3"/>
          <p:cNvPicPr/>
          <p:nvPr/>
        </p:nvPicPr>
        <p:blipFill>
          <a:blip r:embed="rId1"/>
          <a:stretch/>
        </p:blipFill>
        <p:spPr>
          <a:xfrm>
            <a:off x="2124000" y="1971720"/>
            <a:ext cx="5043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3" descr="bt5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de 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403280" y="17002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3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fac&amp;equ_fermentor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68360" y="1628640"/>
            <a:ext cx="84582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s colocar dos o más fermentadores en se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esta manera se pue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ir productos formados después del crecimiento (Sólo hay crecimiento en el primer fermentad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iar problemas fisiológicos interesantes (se agrega algún tipo de ag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Torsten4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Times New Roman"/>
              </a:rPr>
              <a:t>Definición (European Federation of Biotechnology, 198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biocatalizadores inmovilizados son enzimas, células u organelos (o combinación de ellos) confinados o localizados en cierta región definida del espacio, con retención de su actividad catalítica y, si es necesario, de su viabilidad, y que pueden ser usados de modo repetido y continu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élulas confinadas en un espacio fís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r una fase sólida disp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scó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alta d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íticamente a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ontacto con un medio reactivo líquido libre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 está compartiment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sóli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ransporte de reactivos hacia y desde el biocatalizador debe estar gobernado por difu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86064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ención de sus actividades catalíticas y viabilid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tamientos a los que son sometidos tanto células como enzimas libres, afectan en cierto grado su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ntabilidad del proceso: debe alcanzarse un valor sobre el 25% de l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a células: mantener la vi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dida de actividad reducid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558972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adas en forma continua y repet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Fácil separación del 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medio de reacción.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Reuti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Sin perdida de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élulas o enzimas inmovilizadas pueden ser separadas fáci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e debe conocer cómo afecta la inmovilización a la estabilidad del catalizador y por ello, la extensión de su uso repet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718920" cy="1871640"/>
          </a:xfrm>
          <a:custGeom>
            <a:avLst/>
            <a:gdLst>
              <a:gd name="textAreaLeft" fmla="*/ 0 w 718920"/>
              <a:gd name="textAreaRight" fmla="*/ 259560 w 718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sorción superfici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células animales)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drio, virutas de madera, resinas de intercambio, celulosas, sílica activ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herencia de las células a l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perfici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l soporte iner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permanente vivas y activ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adherencia débil y que está limitada por el área del sop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agreg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Lodos Activado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e unen entre si sin la participación de un soporte sólido, formando agregad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Francisca</cp:lastModifiedBy>
  <dcterms:modified xsi:type="dcterms:W3CDTF">2009-04-07T22:21:18Z</dcterms:modified>
  <cp:revision>82</cp:revision>
  <dc:subject/>
  <dc:title>Cultivo Continuo</dc:title>
</cp:coreProperties>
</file>