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7BB-FE2C-4F7F-A546-DF090952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DC7-0AC3-43EB-9D0F-40E2F8BA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067-C666-41D0-A4E5-FB598C22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B86-A16C-473B-9AEE-623C1BF9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EEA1-C078-44D3-A48E-62857200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4E72-A1F2-4404-8D8B-63C5F156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7923-01D0-45EE-A60E-7D1F213E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966D-FA1D-4B6F-B504-15351EFE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1C11-70BA-44A5-B0CD-7B99BDBB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0551-A01A-45C2-8B1A-B0EDBF26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7C4B-251A-4AE0-8F43-8A94D73A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E68-1E38-42FD-B233-A8169D3E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EF62-EC96-494D-9784-EAD23D19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BD9-ACB8-413B-83D7-7566434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1176-E028-4843-B4C8-F4F6AE73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3844-DD9F-4D14-ACCE-2C62BA50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A1C2-282B-4E69-8A7A-8D36961A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F78-371E-45D5-86D7-B905FE59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4A7-0E20-4335-AF46-35AD4711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FBB-BBA9-4BE2-BE6E-3B6A3C34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66F-426F-45F5-B6B1-D0BD004E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B59-83EC-4F8A-B34C-0F3327F9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7BC-8B6A-4413-8D14-73490D63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D66-1917-45F2-BC8E-F3675185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41E9-DC30-45E8-A3AD-2951E8A87C8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93AA-AA8E-48B5-9ED8-FDC0FA8553A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Modificacion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f. M.Elena Lienqu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f. Auxiliar </a:t>
            </a:r>
            <a:r>
              <a:rPr b="0" lang="es-E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rancesca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ntro de Ing. Bioquímica y Bio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acultad de Ciencias. Físicas y Matem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laza Ercilla 84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lienque@ing.uchil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finamiento en barr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nción de las células por medio de una barrera semipermeable, que permite el paso selectivo de los nutrientes y productos de metabolismos cel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croencapsulación, emulsificación, membranas de microfiltración, ultrafiltración y dia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trapamiento en matriz poros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rámicas, carbón activado,  vidrio poroso, agar, alginato de cal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son atrapadas en una matriz porosa, polimérica que las retiene. En dichas matrices tanto los nutrientes como los productos pueden atraves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 rot="5400000">
            <a:off x="970920" y="549000"/>
            <a:ext cx="1511280" cy="1800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 flipH="1" rot="10800000">
            <a:off x="1835280" y="4941360"/>
            <a:ext cx="1728720" cy="1413000"/>
          </a:xfrm>
          <a:prstGeom prst="pie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43" name="Oval 6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Oval 12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3" name="Picture 31" descr="viktordij1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64" name="Line 33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3" descr="bt3"/>
          <p:cNvPicPr/>
          <p:nvPr/>
        </p:nvPicPr>
        <p:blipFill>
          <a:blip r:embed="rId1"/>
          <a:stretch/>
        </p:blipFill>
        <p:spPr>
          <a:xfrm>
            <a:off x="2124000" y="1971720"/>
            <a:ext cx="50436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3" descr="bt5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de 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594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1403280" y="17002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3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fac&amp;equ_fermentor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468360" y="1628640"/>
            <a:ext cx="84582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s colocar dos o más fermentadores en ser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esta manera se pue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ir productos formados después del crecimiento (Sólo hay crecimiento en el primer fermentad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udiar problemas fisiológicos interesantes (se agrega algún tipo de agen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s-E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Object 10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Torsten4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eec94"/>
                </a:solidFill>
                <a:latin typeface="Times New Roman"/>
              </a:rPr>
              <a:t>Definición (European Federation of Biotechnology, 1983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biocatalizadores inmovilizados son enzimas, células u organelos (o combinación de ellos) confinados o localizados en cierta región definida del espacio, con retención de su actividad catalítica y, si es necesario, de su viabilidad, y que pueden ser usados de modo repetido y continu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élulas confinadas en un espacio fís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r una fase sólida disp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scó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 alta den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íticamente a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contacto con un medio reactivo líquido libre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iz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izador está compartimenta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e sóli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transporte de reactivos hacia y desde el biocatalizador debe estar gobernado por difu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386064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tención de sus actividades catalíticas y viabilida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atamientos a los que son sometidos tanto células como enzimas libres, afectan en cierto grado su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ntabilidad del proceso: debe alcanzarse un valor sobre el 25% de la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a células: mantener la viabi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dida de actividad reducid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5589720"/>
            <a:ext cx="20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adas en forma continua y repeti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Fácil separación del cataliz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medio de reacción.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Reuti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Sin perdida de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élulas o enzimas inmovilizadas pueden ser separadas fáci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e debe conocer cómo afecta la inmovilización a la estabilidad del catalizador y por ello, la extensión de su uso repet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718920" cy="1871640"/>
          </a:xfrm>
          <a:custGeom>
            <a:avLst/>
            <a:gdLst>
              <a:gd name="textAreaLeft" fmla="*/ 0 w 718920"/>
              <a:gd name="textAreaRight" fmla="*/ 259560 w 71892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sorción superfici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células animales)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drio, virutas de madera, resinas de intercambio, celulosas, sílica activ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herencia de las células a l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perfici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l soporte iner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permanente vivas y activ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adherencia débil y que está limitada por el área del sop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natural o indu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agreg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Lodos Activado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se unen entre si sin la participación de un soporte sólido, formando agregados cel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natural o indu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Francisca</cp:lastModifiedBy>
  <dcterms:modified xsi:type="dcterms:W3CDTF">2009-04-07T22:21:18Z</dcterms:modified>
  <cp:revision>82</cp:revision>
  <dc:subject/>
  <dc:title>Cultivo Continuo</dc:title>
</cp:coreProperties>
</file>