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B94-76D3-4981-B17D-BD2ABF8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B04-F769-430F-B8CF-2403598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EC4-ADD7-4E66-824F-131559B3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B55-BAD3-4008-A680-2F8F0A87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4D62-3B1D-4F19-B772-71F52E27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2F0F-EE0F-4747-8978-663F9D3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616-093C-4AB6-8E4F-F3E8434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CB7-0D39-4FEB-A3EE-429F57C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42A-52D2-4E6B-A376-76C3113C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D4A-5260-4313-8353-20F25674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8E3-EF9D-4726-9570-871B797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771-0DCB-4C29-89DA-B752661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A94E-5A1E-4978-B1AA-646360B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20C-6FBF-47C7-BF65-B9547E2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75CA-26D6-4544-9052-32E9CF48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060-7E28-4F73-AE0E-272E62B0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C22-AD39-4681-B47E-0A796082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4F0-F44C-4BA8-8D43-B5D2572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96F-D248-45FB-B866-6C35274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A9B-FAAF-429B-81DF-CC4AD1C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D93-FB3B-4034-B4A1-8CF61D54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F45-B166-47EA-A62C-64793DA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899-CD1B-4DF7-9B7E-87BC4D0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993-F115-4506-98CB-C732469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D97-EC94-436B-8539-B5E381653E6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8753-E7F8-4E04-8E72-2A611C35856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M.Elena Lienqu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Auxiliar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rancesca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ntro de Ing. Bioquímica y Bio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acultad de Ciencias. Físicas y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laza Ercilla 8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lienque@ing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namiento en barr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ción de las células por medio de una barrera semipermeable, que permite el paso selectivo de los nutrientes y productos de metabolism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croencapsulación, emulsificación, membranas de microfiltración, ultrafiltración y dia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rapamiento en matriz poros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ámicas, carbón activado,  vidrio poroso, agar, alginato de cal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on atrapadas en una matriz porosa, polimérica que las retiene. En dichas matrices tanto los nutrientes como los productos pueden atraves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 rot="5400000">
            <a:off x="970920" y="549000"/>
            <a:ext cx="1511280" cy="180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 flipH="1" rot="10800000">
            <a:off x="1835280" y="4941360"/>
            <a:ext cx="1728720" cy="1413000"/>
          </a:xfrm>
          <a:prstGeom prst="pi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43" name="Oval 6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31" descr="viktordij1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64" name="Line 33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3" descr="bt3"/>
          <p:cNvPicPr/>
          <p:nvPr/>
        </p:nvPicPr>
        <p:blipFill>
          <a:blip r:embed="rId1"/>
          <a:stretch/>
        </p:blipFill>
        <p:spPr>
          <a:xfrm>
            <a:off x="2124000" y="1971720"/>
            <a:ext cx="5043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3" descr="bt5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de 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403280" y="17002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3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fac&amp;equ_fermentor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68360" y="1628640"/>
            <a:ext cx="84582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s colocar dos o más fermentadores en se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esta manera se pue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ir productos formados después del crecimiento (Sólo hay crecimiento en el primer fermentad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iar problemas fisiológicos interesantes (se agrega algún tipo de ag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Torsten4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Times New Roman"/>
              </a:rPr>
              <a:t>Definición (European Federation of Biotechnology, 198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biocatalizadores inmovilizados son enzimas, células u organelos (o combinación de ellos) confinados o localizados en cierta región definida del espacio, con retención de su actividad catalítica y, si es necesario, de su viabilidad, y que pueden ser usados de modo repetido y continu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élulas confinadas en un espacio fís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r una fase sólida disp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scó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alta d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íticamente a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ontacto con un medio reactivo líquido libre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 está compartiment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sóli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ransporte de reactivos hacia y desde el biocatalizador debe estar gobernado por difu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86064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ención de sus actividades catalíticas y viabilid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tamientos a los que son sometidos tanto células como enzimas libres, afectan en cierto grado su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ntabilidad del proceso: debe alcanzarse un valor sobre el 25% de l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a células: mantener la vi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dida de actividad reducid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558972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adas en forma continua y repet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Fácil separación del 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medio de reacción.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Reuti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Sin perdida de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élulas o enzimas inmovilizadas pueden ser separadas fáci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e debe conocer cómo afecta la inmovilización a la estabilidad del catalizador y por ello, la extensión de su uso repet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718920" cy="1871640"/>
          </a:xfrm>
          <a:custGeom>
            <a:avLst/>
            <a:gdLst>
              <a:gd name="textAreaLeft" fmla="*/ 0 w 718920"/>
              <a:gd name="textAreaRight" fmla="*/ 259560 w 718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sorción superfici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células animales)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drio, virutas de madera, resinas de intercambio, celulosas, sílica activ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herencia de las células a l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perfici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l soporte iner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permanente vivas y activ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adherencia débil y que está limitada por el área del sop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agreg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Lodos Activado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e unen entre si sin la participación de un soporte sólido, formando agregad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Francisca</cp:lastModifiedBy>
  <dcterms:modified xsi:type="dcterms:W3CDTF">2009-04-07T22:21:18Z</dcterms:modified>
  <cp:revision>82</cp:revision>
  <dc:subject/>
  <dc:title>Cultivo Continuo</dc:title>
</cp:coreProperties>
</file>