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56A-26C3-4195-924B-404512FC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9A0-9138-43EC-934D-4FF883E6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BFA-D9DB-4904-9410-4AB66820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8F0-3E36-4343-9754-B8DFC2C4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ACAA-4F09-4E6D-B37C-3732A73C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7F6-A9B4-4885-905B-46A3C824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870C-C3E7-4AAE-A638-A31C09B1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183F-F017-42DA-99B5-5D729631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B6C5-757D-4FA8-B303-9BC83846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8C50-3B63-4221-923C-1FD90131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4D5E-9A13-44FD-ADCD-4B233D9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ED4-3011-4BC0-9F63-D3685C7E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16A6-7716-40D0-AC4D-60862516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A58D-D1DD-48C0-89EE-776FC7A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58D7-CEE3-444E-8103-A0F060E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B37D-E49E-4A47-9C07-CAB8B57C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7B6-4E02-4CE8-B22D-35AB25C0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4F8-7AA6-42ED-9189-B77E7F6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B5B-E8A1-490A-A0EE-D8B68FC3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044-2D3E-4E9F-8D55-810D749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A19-00EE-4CA1-B639-4A180209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723-901B-4DC7-A2BA-5A44BA1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717-0A97-4E1D-BFCC-536810F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E44-ED6D-46D4-B1CA-C272C14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8F25-AB07-49AD-B2A7-619A4501C9C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E80A-3D69-46AB-9B88-353A329C96C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M.Elena Lienqu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f. Auxiliar </a:t>
            </a:r>
            <a:r>
              <a:rPr b="0" lang="es-E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Francesca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ntro de Ing. Bioquímica y Bio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acultad de Ciencias. Físicas y Matem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laza Ercilla 84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lienque@ing.uchil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inamiento en barr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ción de las células por medio de una barrera semipermeable, que permite el paso selectivo de los nutrientes y productos de metabolism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croencapsulación, emulsificación, membranas de microfiltración, ultrafiltración y dia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rapamiento en matriz poros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rámicas, carbón activado,  vidrio poroso, agar, alginato de cal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on atrapadas en una matriz porosa, polimérica que las retiene. En dichas matrices tanto los nutrientes como los productos pueden atraves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 rot="5400000">
            <a:off x="970920" y="549000"/>
            <a:ext cx="1511280" cy="1800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 flipH="1" rot="10800000">
            <a:off x="1835280" y="4941360"/>
            <a:ext cx="1728720" cy="1413000"/>
          </a:xfrm>
          <a:prstGeom prst="pie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43" name="Oval 6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3" name="Picture 31" descr="viktordij1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64" name="Line 33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3" descr="bt3"/>
          <p:cNvPicPr/>
          <p:nvPr/>
        </p:nvPicPr>
        <p:blipFill>
          <a:blip r:embed="rId1"/>
          <a:stretch/>
        </p:blipFill>
        <p:spPr>
          <a:xfrm>
            <a:off x="2124000" y="1971720"/>
            <a:ext cx="50436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3" descr="bt5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de 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5292720" y="1197000"/>
            <a:ext cx="3594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1403280" y="17002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3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4" descr="fac&amp;equ_fermentor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AutoShape 6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68360" y="1628640"/>
            <a:ext cx="84582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s colocar dos o más fermentadores en ser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esta manera se pue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ir productos formados después del crecimiento (Sólo hay crecimiento en el primer fermentad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udiar problemas fisiológicos interesantes (se agrega algún tipo de agen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s-E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Object 10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Torsten4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eec94"/>
                </a:solidFill>
                <a:latin typeface="Times New Roman"/>
              </a:rPr>
              <a:t>Definición (European Federation of Biotechnology, 1983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biocatalizadores inmovilizados son enzimas, células u organelos (o combinación de ellos) confinados o localizados en cierta región definida del espacio, con retención de su actividad catalítica y, si es necesario, de su viabilidad, y que pueden ser usados de modo repetido y continu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élulas confinadas en un espacio fís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r una fase sólida disper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scó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alta dens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íticamente ac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ontacto con un medio reactivo líquido libre 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lizador está compartiment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e sóli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transporte de reactivos hacia y desde el biocatalizador debe estar gobernado por difu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86064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tención de sus actividades catalíticas y viabilida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tamientos a los que son sometidos tanto células como enzimas libres, afectan en cierto grado su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ntabilidad del proceso: debe alcanzarse un valor sobre el 25% de la activ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a células: mantener la viabi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dida de actividad reducid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558972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adas en forma continua y repet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Fácil separación del cat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l medio de reacción.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Reuti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Sin perdida de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élulas o enzimas inmovilizadas pueden ser separadas fáci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e debe conocer cómo afecta la inmovilización a la estabilidad del catalizador y por ello, la extensión de su uso repet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718920" cy="1871640"/>
          </a:xfrm>
          <a:custGeom>
            <a:avLst/>
            <a:gdLst>
              <a:gd name="textAreaLeft" fmla="*/ 0 w 718920"/>
              <a:gd name="textAreaRight" fmla="*/ 259560 w 71892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sorción superfici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células animales)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idrio, virutas de madera, resinas de intercambio, celulosas, sílica activ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herencia de las células a la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perfici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l soporte iner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permanente vivas y activ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adherencia débil y que está limitada por el área del sop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agreg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(Lodos Activado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élulas se unen entre si sin la participación de un soporte sólido, formando agregados cel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ser natural o indu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Francisca</cp:lastModifiedBy>
  <dcterms:modified xsi:type="dcterms:W3CDTF">2009-04-07T22:21:18Z</dcterms:modified>
  <cp:revision>82</cp:revision>
  <dc:subject/>
  <dc:title>Cultivo Continuo</dc:title>
</cp:coreProperties>
</file>