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3ffe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7CE1-91A6-4201-BEF2-0E59914CE4FF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8AD6-1098-46EC-83F4-26D0851C0F93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DC2C-1646-4626-894A-F020001F3174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22F-F3C6-4043-9E4E-C22F46EB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0D1-0D82-492C-8DD4-9E77B65B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0BE-7774-4A61-AE27-263F4066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D59-F5A5-4FAE-B61C-7A2E5893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0F71-BC0C-4AD8-B43A-06D8771A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303C-CD3B-4A3F-ABE2-351539F7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7436-59E8-499E-A375-7B8B7C37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3F3C-DC53-43FD-9C19-2758F5FA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ED50-1F58-4FE5-B325-64699DE2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C393-32C4-4C28-8D61-E5E5F958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4697-05E2-47CE-98B4-B670506A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DDA-013F-4266-8296-71FFE30B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710F-D95A-4657-944D-A0161838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136C-8766-4A0E-A46F-3B9A92E8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65F4-04F8-43D2-BD56-B78C110E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2953-1177-4C72-BAAB-DDFB2980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D9D4-3F54-4775-8A35-582971FB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018-DA65-4E57-B946-9E526136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F5E-A2EE-45A9-AB1B-6F8195BB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C0D-9A5C-418C-8234-BC76C558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8B1-640E-412D-87E0-EC2735AF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7211-D3EA-4155-83C3-55D47656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FD3-A13D-4B97-93D7-26C6A1C6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F261-FDE9-4C27-A444-07D226E5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57E6-0491-4E5D-B067-20E94AD143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0C0D-F076-4BE9-A703-88A1182F5674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Auxiliar </a:t>
            </a:r>
            <a:r>
              <a:rPr b="0" lang="es-E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Francesca Merca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Bebidas Alcohól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ino y vinag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ervez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ak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4" descr="Fermentacao_tanques_od"/>
          <p:cNvPicPr/>
          <p:nvPr/>
        </p:nvPicPr>
        <p:blipFill>
          <a:blip r:embed="rId1"/>
          <a:stretch/>
        </p:blipFill>
        <p:spPr>
          <a:xfrm>
            <a:off x="3203640" y="2930400"/>
            <a:ext cx="5178240" cy="2822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28760" y="31680"/>
            <a:ext cx="8280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Criterios más importantes para el diseño de un fermentador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El tanque debe diseñarse para que funcione asépticament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Se debe proporcionar un sistema adecuado de aireación y agitación para cubrir las necesidades metabólicas de los microorganism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Bajo consumo energétic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Control de pH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Toma de muestr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Sistema para el control de la temperatur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Las pérdidas por evaporación no deben ser excesivas.</a:t>
            </a:r>
            <a:br>
              <a:rPr sz="2800"/>
            </a:b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28760" y="32760"/>
            <a:ext cx="8280360" cy="75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Mínimas operaciones laborales durante el funcionamiento, recolección, limpieza y mantenimient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El tanque debe ser versátil para la aplicación de diversas modalidades de proces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Las superficies internas del tanque deben ser lis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La geometría del fermentador debe ser similar a otros tanques más pequeños o mayores de la planta o a los de la planta piloto para poder reproducir procesos a diferentes escal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Es recomendable utilizar materiales baratos que proporcionen resultados satisfactori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28760" y="-196200"/>
            <a:ext cx="828036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Factores fisicoquímicos que afectan al rendimiento de las fermentaciones industrial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-Oxígen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-Temperatur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-pH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95280" y="1411200"/>
            <a:ext cx="828036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el crecimiento en suspensión, los organismos están sumergidos y dispersados en el medio nutritivo y su movimiento sigue al del medio.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los sistemas con soporte, los organismos crecen como una monocapa o película sobre una superficie en contacto con un medio nutritivo.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406600" y="411120"/>
            <a:ext cx="419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Tipos de fermentador</a:t>
            </a:r>
            <a:r>
              <a:rPr b="0" lang="es-ES_tradnl" sz="2800" spc="-1" strike="noStrike">
                <a:solidFill>
                  <a:srgbClr val="006666"/>
                </a:solidFill>
                <a:latin typeface="Times New Roman"/>
              </a:rPr>
              <a:t>: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5" descr="t=0"/>
          <p:cNvPicPr/>
          <p:nvPr/>
        </p:nvPicPr>
        <p:blipFill>
          <a:blip r:embed="rId1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antesdeinocular"/>
          <p:cNvPicPr/>
          <p:nvPr/>
        </p:nvPicPr>
        <p:blipFill>
          <a:blip r:embed="rId2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t=6"/>
          <p:cNvPicPr/>
          <p:nvPr/>
        </p:nvPicPr>
        <p:blipFill>
          <a:blip r:embed="rId3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t=30"/>
          <p:cNvPicPr/>
          <p:nvPr/>
        </p:nvPicPr>
        <p:blipFill>
          <a:blip r:embed="rId4"/>
          <a:stretch/>
        </p:blipFill>
        <p:spPr>
          <a:xfrm>
            <a:off x="5219640" y="3936960"/>
            <a:ext cx="3313080" cy="218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95280" y="304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Formas de llevar a cabo un cultivo en suspens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3" descr="fermentadores__modos_"/>
          <p:cNvPicPr/>
          <p:nvPr/>
        </p:nvPicPr>
        <p:blipFill>
          <a:blip r:embed="rId1"/>
          <a:stretch/>
        </p:blipFill>
        <p:spPr>
          <a:xfrm>
            <a:off x="1619280" y="1844640"/>
            <a:ext cx="6769080" cy="3319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1908000" y="4508640"/>
            <a:ext cx="136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Batc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395280" y="-4680"/>
            <a:ext cx="84963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Cultivo Batch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(Por Lotes o Tanda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Estos bio-reactores operan en forma</a:t>
            </a: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continua (carga, fermentación, descarga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6721560" cy="360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940360" y="1773360"/>
          <a:ext cx="2882880" cy="4419360"/>
        </p:xfrm>
        <a:graphic>
          <a:graphicData uri="http://schemas.openxmlformats.org/drawingml/2006/table">
            <a:tbl>
              <a:tblPr/>
              <a:tblGrid>
                <a:gridCol w="1441440"/>
                <a:gridCol w="14414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Fa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Velocidad de crecimiento específ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Latenc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celer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xponenci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6666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800" spc="-1" strike="noStrike" baseline="-25000">
                          <a:solidFill>
                            <a:srgbClr val="006666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Declin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stacionar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Picture 36" descr="antesdeinocular"/>
          <p:cNvPicPr/>
          <p:nvPr/>
        </p:nvPicPr>
        <p:blipFill>
          <a:blip r:embed="rId2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8" descr="t=0"/>
          <p:cNvPicPr/>
          <p:nvPr/>
        </p:nvPicPr>
        <p:blipFill>
          <a:blip r:embed="rId3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1" descr="t=6"/>
          <p:cNvPicPr/>
          <p:nvPr/>
        </p:nvPicPr>
        <p:blipFill>
          <a:blip r:embed="rId4"/>
          <a:stretch/>
        </p:blipFill>
        <p:spPr>
          <a:xfrm>
            <a:off x="755640" y="1628640"/>
            <a:ext cx="1828800" cy="1217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4" descr="t=30"/>
          <p:cNvPicPr/>
          <p:nvPr/>
        </p:nvPicPr>
        <p:blipFill>
          <a:blip r:embed="rId5"/>
          <a:stretch/>
        </p:blipFill>
        <p:spPr>
          <a:xfrm>
            <a:off x="4356000" y="836640"/>
            <a:ext cx="1511280" cy="10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457200" y="0"/>
            <a:ext cx="86868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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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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upuesto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No hay entrada ni salida de células F =0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erte celular despreciable, 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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971640" y="1197000"/>
                <a:ext cx="4933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Text Box 4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7010280" y="1905120"/>
          <a:ext cx="181944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905120"/>
                    <a:ext cx="18194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Object 6"/>
              <p:cNvSpPr txBox="1"/>
              <p:nvPr/>
            </p:nvSpPr>
            <p:spPr>
              <a:xfrm>
                <a:off x="971640" y="4724280"/>
                <a:ext cx="3659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Text Box 7"/>
          <p:cNvSpPr/>
          <p:nvPr/>
        </p:nvSpPr>
        <p:spPr>
          <a:xfrm>
            <a:off x="5508720" y="4221000"/>
            <a:ext cx="32162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inici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fin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sultas</a:t>
            </a:r>
            <a:br>
              <a:rPr sz="4400"/>
            </a:br>
            <a:br>
              <a:rPr sz="4400"/>
            </a:br>
            <a:r>
              <a:rPr b="0" lang="es-ES_tradn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lienque@ing.uchile.c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4" descr="Image2"/>
          <p:cNvPicPr/>
          <p:nvPr/>
        </p:nvPicPr>
        <p:blipFill>
          <a:blip r:embed="rId1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57200" y="228600"/>
            <a:ext cx="815328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 (cont..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plicando  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i </a:t>
            </a:r>
            <a:r>
              <a:rPr b="0" lang="es-E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ante, entonces la expresión anterior es integrable, considerando  que  la concentración inicial de biomasa en t=0 es x</a:t>
            </a:r>
            <a:r>
              <a:rPr b="0" lang="es-ES" sz="1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Esta situación ocurre principalmente en 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as fase de crecimiento exponencial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982880" y="4495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1979640" y="1484280"/>
                <a:ext cx="42418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Line 6"/>
          <p:cNvSpPr/>
          <p:nvPr/>
        </p:nvSpPr>
        <p:spPr>
          <a:xfrm flipV="1">
            <a:off x="4284720" y="5734080"/>
            <a:ext cx="316692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1332000" y="3716280"/>
            <a:ext cx="7812000" cy="2151000"/>
            <a:chOff x="1332000" y="3716280"/>
            <a:chExt cx="7812000" cy="2151000"/>
          </a:xfrm>
        </p:grpSpPr>
        <mc:AlternateContent>
          <mc:Choice xmlns:a14="http://schemas.microsoft.com/office/drawing/2010/main" Requires="a14">
            <p:sp>
              <p:nvSpPr>
                <p:cNvPr id="176" name="Object 8"/>
                <p:cNvSpPr txBox="1"/>
                <p:nvPr/>
              </p:nvSpPr>
              <p:spPr>
                <a:xfrm>
                  <a:off x="1332000" y="4167000"/>
                  <a:ext cx="287964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∗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μ</m:t>
                          </m:r>
                          <m:r>
                            <m:t xml:space="preserve">∗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177" name="Picture 9" descr=""/>
            <p:cNvPicPr/>
            <p:nvPr/>
          </p:nvPicPr>
          <p:blipFill>
            <a:blip r:embed="rId1"/>
            <a:stretch/>
          </p:blipFill>
          <p:spPr>
            <a:xfrm>
              <a:off x="6329520" y="3716280"/>
              <a:ext cx="281448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Line 10"/>
            <p:cNvSpPr/>
            <p:nvPr/>
          </p:nvSpPr>
          <p:spPr>
            <a:xfrm>
              <a:off x="4284720" y="4670280"/>
              <a:ext cx="3166920" cy="0"/>
            </a:xfrm>
            <a:prstGeom prst="line">
              <a:avLst/>
            </a:prstGeom>
            <a:ln w="57240">
              <a:solidFill>
                <a:srgbClr val="a3ffe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79" name="Text Box 11"/>
          <p:cNvSpPr/>
          <p:nvPr/>
        </p:nvSpPr>
        <p:spPr>
          <a:xfrm>
            <a:off x="826920" y="5805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Times New Roman"/>
              </a:rPr>
              <a:t>Experimento 31 de Marz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5508720" y="1125360"/>
            <a:ext cx="338436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oducirse inhibición por sustrato que extiende la etapa de latenc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Laboratorio    Experiencia "Cultivos Batch en Matraz de 500 ml"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Cultivo Continu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Existen diferentes mo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 operar fermentador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tinuo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Quimostato</a:t>
            </a:r>
            <a:r>
              <a:rPr b="1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Verdana"/>
              </a:rPr>
              <a:t>(Perfectamente agitado, CSTR, RPA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Verdana"/>
              </a:rPr>
              <a:t>Si el biorreactor está bien mezclado, la corriente de producto que sale del bio-reactor posee la misma composición que el líquido presente en el interior del reacto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Picture 4" descr="chemost"/>
          <p:cNvPicPr/>
          <p:nvPr/>
        </p:nvPicPr>
        <p:blipFill>
          <a:blip r:embed="rId1"/>
          <a:stretch/>
        </p:blipFill>
        <p:spPr>
          <a:xfrm>
            <a:off x="5105520" y="98100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Características del Quimostato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990360"/>
            <a:ext cx="847692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e le llamó Quimostato dado que la composición química y biológica del medio se mantiene constante, para ello se debe controlar:</a:t>
            </a:r>
            <a:r>
              <a:rPr b="0" lang="es-ES" sz="2800" spc="-1" strike="noStrike">
                <a:solidFill>
                  <a:srgbClr val="eaeaea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volumen del líquido en el reactor se mantiene constante, ajustando los flujos de entrada y salida al mismo valo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pH del medio mediante la adición de ácido o base. Generalmente se adiciona ácid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suministro continuo de O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( o aire), en el caso de sistemas aeróbic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n nivel de agitación adecuado que garantice la homogeneidad del sistem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os principales componentes de un cultivo continuo son: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Reactor de volumen constan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istema de alimentación de medio y salida de product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Tanque estéril de medio (entrada y salid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ntrol de pH, T, OD (Oxígeno disuelto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istema de aireación y agitació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1905120" y="380880"/>
            <a:ext cx="5409360" cy="5714640"/>
            <a:chOff x="1905120" y="380880"/>
            <a:chExt cx="5409360" cy="5714640"/>
          </a:xfrm>
        </p:grpSpPr>
        <p:sp>
          <p:nvSpPr>
            <p:cNvPr id="191" name="Text Box 3"/>
            <p:cNvSpPr/>
            <p:nvPr/>
          </p:nvSpPr>
          <p:spPr>
            <a:xfrm>
              <a:off x="2541240" y="5810040"/>
              <a:ext cx="47732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eaeaea"/>
                  </a:solidFill>
                  <a:latin typeface="Times New Roman"/>
                </a:rPr>
                <a:t>Fig.  1 Típico Fermentador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aphicFrame>
          <p:nvGraphicFramePr>
            <p:cNvPr id="192" name="Object 4"/>
            <p:cNvGraphicFramePr/>
            <p:nvPr/>
          </p:nvGraphicFramePr>
          <p:xfrm>
            <a:off x="1905120" y="380880"/>
            <a:ext cx="5369760" cy="533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380880"/>
                      <a:ext cx="5369760" cy="53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94" name="Picture 5" descr="f15_5"/>
          <p:cNvPicPr/>
          <p:nvPr/>
        </p:nvPicPr>
        <p:blipFill>
          <a:blip r:embed="rId3"/>
          <a:stretch/>
        </p:blipFill>
        <p:spPr>
          <a:xfrm>
            <a:off x="1258920" y="10152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0" y="1268280"/>
            <a:ext cx="21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508720" y="61657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Line 8"/>
          <p:cNvSpPr/>
          <p:nvPr/>
        </p:nvSpPr>
        <p:spPr>
          <a:xfrm flipV="1">
            <a:off x="1835280" y="980640"/>
            <a:ext cx="288720" cy="79236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Line 9"/>
          <p:cNvSpPr/>
          <p:nvPr/>
        </p:nvSpPr>
        <p:spPr>
          <a:xfrm flipH="1" flipV="1">
            <a:off x="4716360" y="6308280"/>
            <a:ext cx="719280" cy="7308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57200" y="0"/>
            <a:ext cx="8686800" cy="47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alance de Biomas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3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"/>
              <a:tabLst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uestos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Alimentación estéril,  x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0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Estado estacionario, no hay acumulación.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y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x/s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[gr célula/gr sustrato] : Conversión  (yield) de células referidas a nutriente consumido.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187280" y="836640"/>
                <a:ext cx="65786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4500720" y="3414600"/>
                <a:ext cx="5490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Text Box 5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7"/>
              <p:cNvSpPr txBox="1"/>
              <p:nvPr/>
            </p:nvSpPr>
            <p:spPr>
              <a:xfrm>
                <a:off x="4211640" y="2708280"/>
                <a:ext cx="5284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2590920" y="5638680"/>
                <a:ext cx="255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3902040" cy="479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1258920" y="0"/>
            <a:ext cx="684216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IOMASA UTILIZADA EN LA PRODUCCION DE BIOETAN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419640" y="1916280"/>
            <a:ext cx="1871640" cy="8413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LMID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Maíz, Trigo, Papa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938920" y="1844640"/>
            <a:ext cx="223200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LIGNOCELULOS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Residuos Forestales, Agrícola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Plantacion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Line 5"/>
          <p:cNvSpPr/>
          <p:nvPr/>
        </p:nvSpPr>
        <p:spPr>
          <a:xfrm>
            <a:off x="4354560" y="278136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7020000" y="270828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11" name="Group 7"/>
          <p:cNvGrpSpPr/>
          <p:nvPr/>
        </p:nvGrpSpPr>
        <p:grpSpPr>
          <a:xfrm>
            <a:off x="971640" y="1916280"/>
            <a:ext cx="1511280" cy="2017440"/>
            <a:chOff x="971640" y="1916280"/>
            <a:chExt cx="1511280" cy="2017440"/>
          </a:xfrm>
        </p:grpSpPr>
        <p:sp>
          <p:nvSpPr>
            <p:cNvPr id="212" name="Rectangle 8"/>
            <p:cNvSpPr/>
            <p:nvPr/>
          </p:nvSpPr>
          <p:spPr>
            <a:xfrm>
              <a:off x="971640" y="1916280"/>
              <a:ext cx="1511280" cy="84132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AZUCAR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Caña de Azúcar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Remolacha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1619280" y="2708280"/>
              <a:ext cx="0" cy="57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1258920" y="3284640"/>
              <a:ext cx="914400" cy="6490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Arial"/>
                </a:rPr>
                <a:t>Jarabe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15" name="Rectangle 11"/>
          <p:cNvSpPr/>
          <p:nvPr/>
        </p:nvSpPr>
        <p:spPr>
          <a:xfrm>
            <a:off x="3562200" y="3284640"/>
            <a:ext cx="1584360" cy="57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Moliend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4354560" y="386064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6227640" y="2997360"/>
            <a:ext cx="172728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Pretratamient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6227640" y="4292640"/>
            <a:ext cx="1727280" cy="574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Tratamiento d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Celulosa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7020000" y="3860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3490920" y="4221000"/>
            <a:ext cx="1727280" cy="57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Obtención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úcares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AutoShape 17"/>
          <p:cNvSpPr/>
          <p:nvPr/>
        </p:nvSpPr>
        <p:spPr>
          <a:xfrm>
            <a:off x="3274920" y="5157720"/>
            <a:ext cx="2376720" cy="1008000"/>
          </a:xfrm>
          <a:prstGeom prst="flowChartProcess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Fermentar, Destilar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Deshidrata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1619280" y="3933720"/>
            <a:ext cx="0" cy="151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1619280" y="5445000"/>
            <a:ext cx="1584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5651640" y="544500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3706920" y="6308640"/>
            <a:ext cx="1512720" cy="366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ETAN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161928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435456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702000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Line 25"/>
          <p:cNvSpPr/>
          <p:nvPr/>
        </p:nvSpPr>
        <p:spPr>
          <a:xfrm>
            <a:off x="4354560" y="479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Line 26"/>
          <p:cNvSpPr/>
          <p:nvPr/>
        </p:nvSpPr>
        <p:spPr>
          <a:xfrm>
            <a:off x="4356000" y="6165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6299280" y="5157720"/>
            <a:ext cx="1582560" cy="642600"/>
          </a:xfrm>
          <a:prstGeom prst="rect">
            <a:avLst/>
          </a:prstGeom>
          <a:solidFill>
            <a:srgbClr val="33cc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ucares fermentabl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Line 28"/>
          <p:cNvSpPr/>
          <p:nvPr/>
        </p:nvSpPr>
        <p:spPr>
          <a:xfrm>
            <a:off x="7020000" y="4869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50920" y="1052640"/>
            <a:ext cx="5400720" cy="38890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1835280" y="2852640"/>
            <a:ext cx="2808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Primera Gener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6012000" y="2781360"/>
            <a:ext cx="25923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Segunda Gener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2195640" y="4292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-2 cent/galó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7920000" y="4437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20 cent/galó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8" name="Picture 34" descr="800px-Cut_sugarcane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1187280" y="1197000"/>
            <a:ext cx="1081080" cy="801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5" descr="maiz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51280" y="1125360"/>
            <a:ext cx="1149480" cy="827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6" descr="straw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443640" y="1052640"/>
            <a:ext cx="1195560" cy="8269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7"/>
          <p:cNvSpPr/>
          <p:nvPr/>
        </p:nvSpPr>
        <p:spPr>
          <a:xfrm>
            <a:off x="2195640" y="549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Presentación 1:   7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 de Abri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Rectangle 38"/>
          <p:cNvSpPr/>
          <p:nvPr/>
        </p:nvSpPr>
        <p:spPr>
          <a:xfrm>
            <a:off x="5867280" y="981000"/>
            <a:ext cx="2881440" cy="4896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Rectangle 39"/>
          <p:cNvSpPr/>
          <p:nvPr/>
        </p:nvSpPr>
        <p:spPr>
          <a:xfrm>
            <a:off x="2987640" y="5157720"/>
            <a:ext cx="2735280" cy="15112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250920" y="5519880"/>
            <a:ext cx="2520720" cy="133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Formas de ferment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SHF, SSF, SSCF y CBP o DMC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7-Marz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4-Marz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1-Marzo Laboratorio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Abril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Abril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Abril Trabajo Grupal en el laboratorio para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700" spc="-1" strike="noStrike">
                <a:solidFill>
                  <a:srgbClr val="ffffcc"/>
                </a:solidFill>
                <a:latin typeface="Arial"/>
              </a:rPr>
              <a:t>Producción de Biomasa a escala Industrial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Abril Trabajo Grupal en el laboratorio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5-Mayo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Mayo Prueba del Prototipo en laboratori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May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9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6-Junio Discusión de Result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Junio Presentación y Entrega Informe III    Informe Final de resultados del prototipo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¿Qué es la fermentació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1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f. Acción y efecto de ferment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r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(Del lat.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fermentāre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).</a:t>
            </a: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1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intr. Dicho de los hidratos de carbono: Degradarse por acción enzimática, dando lugar a productos sencillos, como el alcohol etílic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¿Cómo debemos entender la fermentació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 Anaeróbic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(ausencia de oxígeno): produce compuestos menos oxidad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 Aeróbic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(presencia de oxígeno): produce compuestos algo más oxidad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¿Por qué en un microorganismo se produce la fermentació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eaeaea"/>
                </a:solidFill>
                <a:uFillTx/>
                <a:latin typeface="Verdana"/>
              </a:rPr>
              <a:t>Respuest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Para producir energí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eaeaea"/>
                </a:solidFill>
                <a:uFillTx/>
                <a:latin typeface="Verdana"/>
              </a:rPr>
              <a:t>Ejemplo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Levadura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Saccharomyces cerevisiae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en ausencia de oxígen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lucosa </a:t>
            </a:r>
            <a:r>
              <a:rPr b="0" lang="es-E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Etanol + CO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+ Energí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Tipos de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95280" y="1197000"/>
          <a:ext cx="8748720" cy="5514840"/>
        </p:xfrm>
        <a:graphic>
          <a:graphicData uri="http://schemas.openxmlformats.org/drawingml/2006/table">
            <a:tbl>
              <a:tblPr/>
              <a:tblGrid>
                <a:gridCol w="2916360"/>
                <a:gridCol w="2916000"/>
                <a:gridCol w="291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Tipo de fermentació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Producto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Organismo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cohól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Etanol +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Levadura (Saccharomyces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del ácido láctico (Streptococcus, lactobacillus, etc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mixt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, ácido acético, etanol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entéricas (Escherichia, Salmonella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utanedi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utanediol, ácido láctico, ácido acético, etanol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entéricas (Aerobacter, Serratia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buri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burítico, ácido acético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gunos clostridios (Clostridium butyricum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etona – butan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etona, butanol, etan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gunos clostridios (Clostridium acetobutylicum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propión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propión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Propionibacterium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roductos de la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Ácidos Orgánic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minoácid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Vitamin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Hormonas (esteroide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ntibiótic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Pickl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hucru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roductos de la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ceite de oliv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ceto balsám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alsa de soy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9-03-17T17:28:00Z</dcterms:modified>
  <cp:revision>146</cp:revision>
  <dc:subject/>
  <dc:title>Sin título de diapositiva</dc:title>
</cp:coreProperties>
</file>