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7F76-A877-4D45-B6C5-7F73A9774F7E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727-EE7D-4C67-A89F-4F631BB0AED1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DD3-265F-4E2C-996E-E3D3E3D5CA0E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BEA-047F-4C02-8327-BAA1EA9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AB8-E92B-47D2-B127-8C7ED9AE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BE9-1BB4-4F6B-A09A-56FC391D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B50-4307-4478-BB41-5E0C515C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725B-DFA8-4FC3-89C6-7B7C09C7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FBAD-2688-4F93-B8D2-AAFF0EC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421-7822-4670-A5ED-979D545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84FE-AD77-4BB3-B90B-B9F50355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E32-40E2-4BDA-ADE6-80D5B88E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0F53-4363-4198-AC5B-BE152C3A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9BF6-F710-4D3A-A12E-97D535C0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C6C-4A22-44A2-80C2-39213D83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4F0A-D743-48B0-8168-13B35A2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1D1B-2E56-4719-AA31-3C3BD1C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D07-9EC9-4862-BE87-0E3BEFC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6234-C7A3-44A9-AAF2-82964A7B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233-458D-43F6-9F55-DFE25979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86C-B14D-4E72-B7DA-DF930839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058-DE40-48AF-A386-D7E14D2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260-1DAD-40DD-A53F-FCF8062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2E6-2BA3-4EBE-B266-8C9487E0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4DC-A405-44C2-90A1-63F7DE0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8E5-F674-4433-BBB7-EAD56EA9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EE9-07A2-4D69-BBAE-1E040A46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85F-6DB7-4E1B-8928-22B56156BD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F8F-A051-4A71-8025-769C94218E63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Fermentacao_tanques_od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28760" y="3168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riterios más importantes para el diseño de un fermentad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diseñarse para que funcione asépticam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e debe proporcionar un sistema adecuado de aireación y agitación para cubrir las necesidades metabólicas de los microorganism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Bajo consumo energétic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Control de p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Toma de muest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Sistema para el control de la tempera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pérdidas por evaporación no deben ser excesivas.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28760" y="32760"/>
            <a:ext cx="8280360" cy="75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Mínimas operaciones laborales durante el funcionamiento, recolección, limpieza y mantenimien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l tanque debe ser versátil para la aplicación de diversas modalidades de proces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s superficies internas del tanque deben ser lis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La geometría del fermentador debe ser similar a otros tanques más pequeños o mayores de la planta o a los de la planta piloto para poder reproducir procesos a diferentes esca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Es recomendable utilizar materiales baratos que proporcionen resultados satisfactor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28760" y="-196200"/>
            <a:ext cx="82803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Factores fisicoquímicos que afectan al rendimiento de las fermentaciones industria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Oxíge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Tempera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Comic Sans MS"/>
              </a:rPr>
              <a:t>-p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3" descr="fermentadores__modos_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4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7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6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76" name="Object 8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77" name="Picture 9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Experimento 31 de Marz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4" descr="chemost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91" name="Text Box 3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aphicFrame>
          <p:nvGraphicFramePr>
            <p:cNvPr id="192" name="Object 4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94" name="Picture 5" descr="f15_5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8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9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1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7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7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Abri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197000"/>
          <a:ext cx="8748720" cy="551484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3-17T17:28:00Z</dcterms:modified>
  <cp:revision>146</cp:revision>
  <dc:subject/>
  <dc:title>Sin título de diapositiva</dc:title>
</cp:coreProperties>
</file>