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96D-E3C2-4947-9662-EB791066A160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DA1-2BC5-4D19-B8B4-146C5EBE4106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32F-9099-4F4C-8CAE-EE472BDB2DAA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42E-287A-4045-9B2B-3D1BA339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681-9783-4652-9FCE-8A5B75B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F72-C237-4D63-BB7D-13635F6E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3B7-13E1-4F76-99F4-F009F6E0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51BF-5552-420F-B323-6A3A695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CA4-73E3-491D-BEFF-5F653CB4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F347-0A71-4147-8C43-3343C05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7B5-A275-4CB1-888A-3780EBDE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186-A6E1-4C6D-A221-A68C107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DA07-962D-486E-A6E7-9CE4CDA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AAC-FA86-4813-A022-DA98BFA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5DF-0056-4468-84E4-1A2B2FE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7AB-97AC-4C05-9EC1-DEA7693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4BA-5DA4-4E70-9724-B183A55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13B5-FC31-4BEE-BA84-7D249A3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C5AD-4ECB-40CF-B65D-F821470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7307-0E05-4737-806C-05F2E8FA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C39-8216-40BB-B22C-F99F2E04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65F-6F14-4DCC-B0C8-87050CD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EE7-850F-4EA0-A782-07FB21C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120-B405-4D8C-B358-83AAE5D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CDC-EF8F-4739-B08B-5317B57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4F1-5333-4D8E-B222-70076BE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C9A-0FC5-4F60-8965-A89F67D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2E7-F3BE-4524-8B21-5DEEDDC368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530-971A-4EE9-A220-B2F7DC6417C2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Fermentacao_tanques_od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28760" y="316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riterios más importantes para el diseño de un fermentad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diseñarse para que funcione asépticam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e debe proporcionar un sistema adecuado de aireación y agitación para cubrir las necesidades metabólicas de los microorganism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Bajo consumo energétic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ontrol de p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Toma de muest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istema para el control de la tempera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pérdidas por evaporación no deben ser excesivas.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28760" y="32760"/>
            <a:ext cx="8280360" cy="75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Mínimas operaciones laborales durante el funcionamiento, recolección, limpieza y mantenimien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ser versátil para la aplicación de diversas modalidades de proces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superficies internas del tanque deben ser lis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 geometría del fermentador debe ser similar a otros tanques más pequeños o mayores de la planta o a los de la planta piloto para poder reproducir procesos a diferentes esca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s recomendable utilizar materiales baratos que proporcionen resultados satisfactor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28760" y="-196200"/>
            <a:ext cx="82803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Factores fisicoquímicos que afectan al rendimiento de las fermentaciones industri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Oxíge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Tempera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p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3" descr="fermentadores__modos_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4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7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6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76" name="Object 8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77" name="Picture 9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Experimento 31 de Marz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chemost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91" name="Text Box 3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aphicFrame>
          <p:nvGraphicFramePr>
            <p:cNvPr id="192" name="Object 4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94" name="Picture 5" descr="f15_5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8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9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1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7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7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Abr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197000"/>
          <a:ext cx="8748720" cy="551484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3-17T17:28:00Z</dcterms:modified>
  <cp:revision>146</cp:revision>
  <dc:subject/>
  <dc:title>Sin título de diapositiva</dc:title>
</cp:coreProperties>
</file>