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980-ABF9-478B-9C20-2907326E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6EC-5CE8-4BBE-8F4F-5536CD7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F88-9F0B-443D-BAC6-13DDCD90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F71-5E06-4166-845F-9AD0C003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4363-B7D3-4BC9-A02B-C676EE62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E2E7-5AC7-4790-9FFD-A2BB2C68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171A-A2E4-4145-95DD-21968448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8623-A2AF-4BC7-BFF0-4119BA06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5B11-A43B-4BB7-9FBA-C8483AE2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3B87-A451-48FB-A8B4-7F0F352E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2D6F-3946-44E7-B0B2-73675920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601-1C10-4A3D-99BA-CBB71924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FEC4-9A5D-477C-BDB4-FD02B1A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4880-22FE-49BA-A22C-D172E01F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C541-9085-47BF-A38B-87CEFB7F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AA07-AD04-4659-BDA8-63708A88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5B2A-DE3E-47FA-A175-1D817F29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F13-2EB4-40BB-9DCD-01FA0B43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979-EF4F-4B4E-A9CB-30E70132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8B2-9644-445E-8AF8-6B563C77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C45-5FC3-4C46-82BB-1E46D58F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F1C-227B-4BCF-B512-EA80F1F0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B08-8807-4A3F-812B-0D425AF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722-956E-4534-9465-68690B4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308B-2979-46B4-845F-EE25C97C0A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730E-79D3-46E8-9BB8-BF09C3221694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2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122" name="Rectangle 8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5" name="Rectangle 11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AutoShape 17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20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26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539640" y="1052640"/>
            <a:ext cx="5400720" cy="5805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684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63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34" descr="800px-Cut_sugarcane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5" descr="maiz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6" descr="stra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tapas básicas del proceso de producción de Bioetanol de segunda Gener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449280" y="2060640"/>
            <a:ext cx="869472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4788000" y="3429000"/>
            <a:ext cx="2376360" cy="2016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Comprender el proceso de producción de bioetano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ferenciar ent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sob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ferentes Formas de operar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tinu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6945840" y="1965240"/>
            <a:ext cx="1908720" cy="2271960"/>
            <a:chOff x="6945840" y="1965240"/>
            <a:chExt cx="1908720" cy="2271960"/>
          </a:xfrm>
        </p:grpSpPr>
        <p:sp>
          <p:nvSpPr>
            <p:cNvPr id="161" name="Rectangle 6"/>
            <p:cNvSpPr/>
            <p:nvPr/>
          </p:nvSpPr>
          <p:spPr>
            <a:xfrm rot="20403600">
              <a:off x="7235640" y="2133360"/>
              <a:ext cx="1328400" cy="19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pic>
          <p:nvPicPr>
            <p:cNvPr id="162" name="Picture 7" descr="muestras2"/>
            <p:cNvPicPr/>
            <p:nvPr/>
          </p:nvPicPr>
          <p:blipFill>
            <a:blip r:embed="rId2"/>
            <a:stretch/>
          </p:blipFill>
          <p:spPr>
            <a:xfrm>
              <a:off x="7296120" y="2133720"/>
              <a:ext cx="1267920" cy="193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eñar una forma optimizada de llevar a cabo una fermentació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4" descr="j0291984"/>
          <p:cNvPicPr/>
          <p:nvPr/>
        </p:nvPicPr>
        <p:blipFill>
          <a:blip r:embed="rId1"/>
          <a:stretch/>
        </p:blipFill>
        <p:spPr>
          <a:xfrm>
            <a:off x="7308720" y="90792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Trabajo en Equipo de 3-4 perso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regas de Informes escrit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Inform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esentaciones Orales por cada Infor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Present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Desarrollo d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valu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= 10%*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+1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0%*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+ 30%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09-03-06T16:18:37Z</dcterms:modified>
  <cp:revision>110</cp:revision>
  <dc:subject/>
  <dc:title>Diapositiva 1</dc:title>
</cp:coreProperties>
</file>