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C26-0457-496A-B868-3276532E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8B3-C6DF-4422-BE1C-9C8A77F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B23-811C-4309-ABEF-4C3D84A2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4E8-5658-4A59-AFE6-C54E7221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ECA3-71F4-4F4A-9908-CA45478C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7B1D-F68C-450E-A389-582D9FD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89E-2526-4376-AA02-170E5FA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B37-DD9B-4F09-BFA0-485FE83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7E2A-3C27-4CB4-BAD3-FFB6332E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6978-E77D-4E63-9D20-D140474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5A4-BC14-4C2A-BF1F-95AA19B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5FB-7D21-434F-8734-B3A78EB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F81A-08EB-4DE3-A46F-2FAF069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950-A180-4584-813E-50AF879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4F2-ED78-49E2-93CD-7619F4BF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B08-B07B-4D68-9E93-9B397471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F30A-F4F2-43B9-8E32-1CA2FD71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573-7A79-4536-8D95-DE49754A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A1C-6E40-4CCC-AF6E-1DD4C4F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F54-D549-4DB6-BC17-DB9459C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61F-D690-4E35-8B1B-2968A9DA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8C3-C07F-4C3F-87B3-9A6CB5C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58C-0031-43B5-B5C5-6F1438B2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C6B-FD2A-438F-BE84-3993BDF4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490-7449-432C-9254-A62A9B1522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43FC-37D3-41E2-9DBC-A9DA08A6662B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Rectangle 6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pic>
          <p:nvPicPr>
            <p:cNvPr id="162" name="Picture 7" descr="muestras2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j0291984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9-03-06T16:18:37Z</dcterms:modified>
  <cp:revision>110</cp:revision>
  <dc:subject/>
  <dc:title>Diapositiva 1</dc:title>
</cp:coreProperties>
</file>