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A07-A94D-46EF-B7E2-C77AD3C0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78C-891F-471F-A8D9-9E4FDC3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F65-0852-42F4-9555-313642D7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AB2-93F2-4308-8A3F-FD397F6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9C2-9B69-44DD-8F26-BED9AA8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F8B8-C29E-4894-9CF0-6849F776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DC48-767E-4CD0-8181-60EB024A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82E6-76F6-47AC-8856-E80C6F12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DF4-CE7C-4539-8606-7160CE5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5F34-C0CE-4F87-9255-9DBCCD9E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8A6-FAB5-4415-BFA1-A933AE2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EFB-F629-4F5A-8629-BBA0D0C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E1FD-AB11-4F7B-B37F-4A7EADB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6CF-D202-4024-88BC-83885E4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6A6-0310-4AD4-85B0-1AE56C45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C72-31A5-4024-BFEC-CCCCFB6A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23C-4A08-4149-813E-39648B7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180-26D8-47A8-81E5-7D394C2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F2B-A6C3-4E2D-862E-458774D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222-6DB7-4C08-8289-3BA6AD2B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6A2-D397-4B24-8237-FBBD484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986-4597-466A-9C53-7D2EEC5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8AD-5D5C-4F47-8F92-2AED859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1FE-8A79-4CC1-89B3-23107B8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3D9E-433D-406F-846B-42E57B7E56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19F-7827-4085-8B3F-7900DC022405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Rectangle 6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pic>
          <p:nvPicPr>
            <p:cNvPr id="162" name="Picture 7" descr="muestras2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j0291984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9-03-06T16:18:37Z</dcterms:modified>
  <cp:revision>110</cp:revision>
  <dc:subject/>
  <dc:title>Diapositiva 1</dc:title>
</cp:coreProperties>
</file>