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64E-FC33-4332-B095-572774FA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D68-2CEB-4D52-BAF7-AD2D7FEE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6BD-5473-4573-8759-CAA614A7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FB9-3739-4632-8F69-11D68D12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B36B-0886-4C02-A303-931BF692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147E-FDB1-436C-871F-C8013949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ADBB-2410-4949-8800-C37DADA3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C444-3AD4-4C12-9EF7-5E43343C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9DB6-68C3-4A9E-AF2E-2FAA28E8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5B41-AB5F-426B-ABB3-663F73FE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EE52-E209-4C16-942D-E1292EB4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F4D-48F6-4FB9-BD72-0EF4F7D6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B11E-E316-43CE-8E4A-BB4EF0C1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4D39-6C20-4AFE-BF92-D3512AF2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6F12-B302-4F3F-A23D-DDC833FE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1173-67F1-40A1-B1C4-9F130407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7CBB-6A60-4F18-A4B5-85B0CEB1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0AD-2AFD-4403-AE2B-42EC1035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CDF-7958-4F06-B351-B121E74C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20B-0E2F-4B34-ABF5-B3B75D57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A9D-3DCB-4F9C-B1DE-8CCDAF28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048-B576-45D1-842D-246927A9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F88-BF9E-47B2-88E2-E553C0C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294-5811-4260-999A-6FB795B2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FF67-6093-441E-9B29-85B45ED8E2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7378-F544-4AC1-978D-700D5BF20137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12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122" name="Rectangle 8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25" name="Rectangle 11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AutoShape 17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20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26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539640" y="1052640"/>
            <a:ext cx="5400720" cy="5805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68436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63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34" descr="800px-Cut_sugarcane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5" descr="maiz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6" descr="straw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tapas básicas del proceso de producción de Bioetanol de segunda Gener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449280" y="2060640"/>
            <a:ext cx="8694720" cy="445932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4788000" y="3429000"/>
            <a:ext cx="2376360" cy="2016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Comprender el proceso de producción de bioetano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ferenciar ent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sob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j0299125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iferentes Formas de operar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tinu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j0299125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6945840" y="1965240"/>
            <a:ext cx="1908720" cy="2271960"/>
            <a:chOff x="6945840" y="1965240"/>
            <a:chExt cx="1908720" cy="2271960"/>
          </a:xfrm>
        </p:grpSpPr>
        <p:sp>
          <p:nvSpPr>
            <p:cNvPr id="161" name="Rectangle 6"/>
            <p:cNvSpPr/>
            <p:nvPr/>
          </p:nvSpPr>
          <p:spPr>
            <a:xfrm rot="20403600">
              <a:off x="7235640" y="2133360"/>
              <a:ext cx="1328400" cy="19350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pic>
          <p:nvPicPr>
            <p:cNvPr id="162" name="Picture 7" descr="muestras2"/>
            <p:cNvPicPr/>
            <p:nvPr/>
          </p:nvPicPr>
          <p:blipFill>
            <a:blip r:embed="rId2"/>
            <a:stretch/>
          </p:blipFill>
          <p:spPr>
            <a:xfrm>
              <a:off x="7296120" y="2133720"/>
              <a:ext cx="1267920" cy="193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eñar una forma optimizada de llevar a cabo una fermentación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4" descr="j0291984"/>
          <p:cNvPicPr/>
          <p:nvPr/>
        </p:nvPicPr>
        <p:blipFill>
          <a:blip r:embed="rId1"/>
          <a:stretch/>
        </p:blipFill>
        <p:spPr>
          <a:xfrm>
            <a:off x="7308720" y="90792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Trabajo en Equipo de 3-4 person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regas de Informes escrit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Inform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esentaciones Orales por cada Infor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Presenta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Desarrollo d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valu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= 10%*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+1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0%*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+ 30%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09-03-06T16:18:37Z</dcterms:modified>
  <cp:revision>110</cp:revision>
  <dc:subject/>
  <dc:title>Diapositiva 1</dc:title>
</cp:coreProperties>
</file>