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1B5-6DE2-4ADA-8102-099CBDDF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D40-690A-4774-BB1B-87A1778D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A41-5AF6-4D7A-9A86-3B4BDEE6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7B6-803F-4242-A83C-6E33486D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693D-38FC-4EAF-87E1-D9247BA7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776D-B27C-433B-AFA2-15D75C79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8E15-BB46-4185-AB53-D162D758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41E3-F847-4C86-BA27-FE1A0027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B0B4-0E26-4CE5-8141-3F031F4A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2DC3-3DB7-4F9E-9C6F-C9498C19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6535-91A3-4AC8-9932-E6EABB95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2D0-DF3A-4CBC-A7EA-FE056DD1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68F5-04B3-4F04-8E26-E31597E7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1F21-2404-4D73-B0B6-77EA29C2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9ED9-9913-4A32-8730-DCD130B1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ED4E-9EC4-4773-AAAB-335EA0A4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3153-BA71-4970-AFFE-C24B858F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EDBE-9787-4136-A910-4B45E75E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5F9-C045-4381-99AA-E8998189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CEE-9386-4947-94EA-11CF9191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D3F-F76E-470D-B45B-D9A5AFB4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4A4-DAD3-4737-BA84-AE9219B6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2AA0-E88D-4AD1-A2B4-763A4110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990-86AC-4BC7-A957-132EB31E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5B49-4840-4E83-8830-F2F48737A7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0528-7FEC-459A-A6FC-9D98AF658634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Auxiliar </a:t>
            </a:r>
            <a:r>
              <a:rPr b="0" lang="es-E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Francesca Merca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12"/>
          <p:cNvGraphicFramePr/>
          <p:nvPr/>
        </p:nvGraphicFramePr>
        <p:xfrm>
          <a:off x="1908000" y="404640"/>
          <a:ext cx="432468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432468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13"/>
          <p:cNvSpPr/>
          <p:nvPr/>
        </p:nvSpPr>
        <p:spPr>
          <a:xfrm>
            <a:off x="262728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¿¿Preguntas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258920" y="0"/>
            <a:ext cx="68421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IOMASA UTILIZADA EN LA PRODUCCION DE BIOETAN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419640" y="1916280"/>
            <a:ext cx="1871640" cy="841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Maíz, Trigo, Papa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938920" y="1844640"/>
            <a:ext cx="223200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LIGNOCELULOS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Residuos Forestales, Agrícola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Plantacion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4354560" y="278136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7020000" y="270828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971640" y="1916280"/>
            <a:ext cx="1511280" cy="2017440"/>
            <a:chOff x="971640" y="1916280"/>
            <a:chExt cx="1511280" cy="2017440"/>
          </a:xfrm>
        </p:grpSpPr>
        <p:sp>
          <p:nvSpPr>
            <p:cNvPr id="122" name="Rectangle 8"/>
            <p:cNvSpPr/>
            <p:nvPr/>
          </p:nvSpPr>
          <p:spPr>
            <a:xfrm>
              <a:off x="971640" y="1916280"/>
              <a:ext cx="1511280" cy="84132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AZUCAR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Caña de Azúcar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Remolacha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>
              <a:off x="1619280" y="2708280"/>
              <a:ext cx="0" cy="57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1258920" y="3284640"/>
              <a:ext cx="914400" cy="6490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</a:rPr>
                <a:t>Jarabe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25" name="Rectangle 11"/>
          <p:cNvSpPr/>
          <p:nvPr/>
        </p:nvSpPr>
        <p:spPr>
          <a:xfrm>
            <a:off x="3562200" y="3284640"/>
            <a:ext cx="1584360" cy="57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Moliend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4354560" y="386064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6227640" y="2997360"/>
            <a:ext cx="172728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Pretratamient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6227640" y="4292640"/>
            <a:ext cx="1727280" cy="574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Tratamiento d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Celulosa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7020000" y="3860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3490920" y="4221000"/>
            <a:ext cx="1727280" cy="57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Obtención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úcares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AutoShape 17"/>
          <p:cNvSpPr/>
          <p:nvPr/>
        </p:nvSpPr>
        <p:spPr>
          <a:xfrm>
            <a:off x="3274920" y="5157720"/>
            <a:ext cx="2376720" cy="1008000"/>
          </a:xfrm>
          <a:prstGeom prst="flowChartProcess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r, Destilar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Deshidrata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1619280" y="3933720"/>
            <a:ext cx="0" cy="151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1619280" y="5445000"/>
            <a:ext cx="1584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20"/>
          <p:cNvSpPr/>
          <p:nvPr/>
        </p:nvSpPr>
        <p:spPr>
          <a:xfrm flipH="1">
            <a:off x="5651640" y="544500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3706920" y="6308640"/>
            <a:ext cx="1512720" cy="366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ETAN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161928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435456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702000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Line 25"/>
          <p:cNvSpPr/>
          <p:nvPr/>
        </p:nvSpPr>
        <p:spPr>
          <a:xfrm>
            <a:off x="4354560" y="479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Line 26"/>
          <p:cNvSpPr/>
          <p:nvPr/>
        </p:nvSpPr>
        <p:spPr>
          <a:xfrm>
            <a:off x="4356000" y="6165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6299280" y="5157720"/>
            <a:ext cx="158256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ucares fermentabl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Line 28"/>
          <p:cNvSpPr/>
          <p:nvPr/>
        </p:nvSpPr>
        <p:spPr>
          <a:xfrm>
            <a:off x="7020000" y="4869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Rectangle 29"/>
          <p:cNvSpPr/>
          <p:nvPr/>
        </p:nvSpPr>
        <p:spPr>
          <a:xfrm>
            <a:off x="539640" y="1052640"/>
            <a:ext cx="5400720" cy="580536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30"/>
          <p:cNvSpPr/>
          <p:nvPr/>
        </p:nvSpPr>
        <p:spPr>
          <a:xfrm>
            <a:off x="684360" y="595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Primera Gener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630072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Segunda Gener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2195640" y="429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-2 cent/gal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7920000" y="443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20 cent/gal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34" descr="800px-Cut_sugarcane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187280" y="1197000"/>
            <a:ext cx="1081080" cy="801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5" descr="maiz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51280" y="1125360"/>
            <a:ext cx="1149480" cy="827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6" descr="straw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443640" y="1052640"/>
            <a:ext cx="11955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tapas básicas del proceso de producción de Bioetanol de segunda Gener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449280" y="2060640"/>
            <a:ext cx="8694720" cy="4459320"/>
          </a:xfrm>
          <a:prstGeom prst="rect">
            <a:avLst/>
          </a:prstGeom>
          <a:ln w="0">
            <a:noFill/>
          </a:ln>
        </p:spPr>
      </p:pic>
      <p:sp>
        <p:nvSpPr>
          <p:cNvPr id="153" name="Oval 8"/>
          <p:cNvSpPr/>
          <p:nvPr/>
        </p:nvSpPr>
        <p:spPr>
          <a:xfrm>
            <a:off x="4788000" y="3429000"/>
            <a:ext cx="2376360" cy="2016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09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Comprender el proceso de producción de bioetano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ferenciar entre bio-etanol de primera y segunda gener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sobre bio-etanol de primera y segunda gener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4" descr="j0299125"/>
          <p:cNvPicPr/>
          <p:nvPr/>
        </p:nvPicPr>
        <p:blipFill>
          <a:blip r:embed="rId1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Diferentes Formas de operar una fermentació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at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ntinu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4" descr="j0299125"/>
          <p:cNvPicPr/>
          <p:nvPr/>
        </p:nvPicPr>
        <p:blipFill>
          <a:blip r:embed="rId1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6945840" y="1965240"/>
            <a:ext cx="1908720" cy="2271960"/>
            <a:chOff x="6945840" y="1965240"/>
            <a:chExt cx="1908720" cy="2271960"/>
          </a:xfrm>
        </p:grpSpPr>
        <p:sp>
          <p:nvSpPr>
            <p:cNvPr id="161" name="Rectangle 6"/>
            <p:cNvSpPr/>
            <p:nvPr/>
          </p:nvSpPr>
          <p:spPr>
            <a:xfrm rot="20403600">
              <a:off x="7235640" y="2133360"/>
              <a:ext cx="1328400" cy="193500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pic>
          <p:nvPicPr>
            <p:cNvPr id="162" name="Picture 7" descr="muestras2"/>
            <p:cNvPicPr/>
            <p:nvPr/>
          </p:nvPicPr>
          <p:blipFill>
            <a:blip r:embed="rId2"/>
            <a:stretch/>
          </p:blipFill>
          <p:spPr>
            <a:xfrm>
              <a:off x="7296120" y="2133720"/>
              <a:ext cx="1267920" cy="1935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eñar una forma optimizada de llevar a cabo una fermentación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4" descr="j0291984"/>
          <p:cNvPicPr/>
          <p:nvPr/>
        </p:nvPicPr>
        <p:blipFill>
          <a:blip r:embed="rId1"/>
          <a:stretch/>
        </p:blipFill>
        <p:spPr>
          <a:xfrm>
            <a:off x="7308720" y="90792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Trabajo en Equipo de 3-4 person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ntregas de Informes escrit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3 Inform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esentaciones Orales por cada Inform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3 Presentacion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Desarrollo del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valu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N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= 10%*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+15% 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+ 25% 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+ 20%*N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p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 + 30%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7-Marz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4-Marz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1-Marzo Laboratorio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Abril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Abril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Abril Trabajo Grupal en el laboratorio para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Abril Trabajo Grupal en el laboratorio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5-Mayo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Mayo Prueba del Prototipo en laboratori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May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9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6-Junio Discusión de Result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Junio Presentación y Entrega Informe III    Informe Final de resultados del prototip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1:24:28Z</dcterms:created>
  <dc:creator>guest</dc:creator>
  <dc:description/>
  <dc:language>en-US</dc:language>
  <cp:lastModifiedBy>Ing Quimica</cp:lastModifiedBy>
  <dcterms:modified xsi:type="dcterms:W3CDTF">2009-03-06T16:18:37Z</dcterms:modified>
  <cp:revision>110</cp:revision>
  <dc:subject/>
  <dc:title>Diapositiva 1</dc:title>
</cp:coreProperties>
</file>