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B0FD-B3C7-4173-87A4-2A985097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58C-2473-4BFF-8272-4474531A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C2B-AEEE-42A2-A9BA-4121EEDA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9968-A269-4C93-B137-3B87FFB1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055-07E4-4FB6-95CA-BAC03229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EF44-42E9-42EF-885B-8B970C43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7C9-EAD8-4E6D-9200-4E19296E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9DBC-AB06-4BFE-824F-9104834E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8BA-4820-4E76-97BC-3606C140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0104-9877-497D-B4EE-DB245149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38DA-0849-4EEE-A68E-28879F4C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A86-EF61-46BD-9420-8A139BC8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44AF-B1B9-430C-B304-D76E83105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887B0F8A-1E13-4729-9472-8A3A9D0BD32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IngMinas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EI2001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ección 24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strategias de decisión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Javier Santibáñ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amilo Mora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12-05-20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yo tengo $1 ho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nto valdría si lo tuviese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ómo saber si un proyecto es más rentable que ot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ién toma las decisiones estratégic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or actualizado neto (VPN, VNA, NPV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iene unidades monetarias ($, US$, €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do una tasa de descuento r, inversión F, ingresos I, costos C, en t periodos, se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357120" y="4343400"/>
            <a:ext cx="842976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do una tasa de descuento r, inversión F, ingresos I, costos C, en t periodos, se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a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126036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 Interna de re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 de descuento para la cual el VAN es igual a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lquier tasa de descuento r &lt; TIR, implica VAN &gt;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iodo de recuperación del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iene unidades de tiempo (años, meses, día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fine como el tiempo en que el proyecto se demora en recuperar la plata invertida al inicio de la operación (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3352680" y="5105520"/>
            <a:ext cx="2962440" cy="99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4829040" cy="3051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32767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Camilo</cp:lastModifiedBy>
  <dcterms:modified xsi:type="dcterms:W3CDTF">2009-05-12T21:12:30Z</dcterms:modified>
  <cp:revision>57</cp:revision>
  <dc:subject/>
  <dc:title>Design and Planning of Block Caving Operations</dc:title>
</cp:coreProperties>
</file>