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D56-90AB-4AF0-B6BB-611E96E0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52B-2744-4D21-91FB-6DF4F348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587-A819-4868-A1C6-1B923416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EFD-56D8-42D7-A6C5-834875D6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466-3FC9-4455-A0FB-A9B86F09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670-807C-4BE5-99B0-3959C458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DC3-70B5-4DD9-80A2-C36BE02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314-7447-43B8-AFFC-C17E469B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FB7-CB85-47D7-90AA-318EDCA5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47E-CE41-417D-9EDC-CDA57AF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205-4065-4AB5-AEEA-2211B2C6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5EE-4CF8-4ECD-B848-56A3707D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14CA-7637-4425-AD0F-541C3B12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D9EDAE6-8D71-4095-A07F-66E262B9F3B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strategias de decisión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12-05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yo tengo $1 ho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nto valdría si lo tuvies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saber si un proyecto es más rentable que ot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ién toma las decisiones estratégi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 actualizado neto (VPN, VNA, NP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monetarias ($, US$, 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57120" y="4343400"/>
            <a:ext cx="842976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a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126036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descuento para la cual el VAN es igual a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lquier tasa de descuento r &lt; TIR, implica VAN &gt;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iodo de recuperación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de tiempo (años, meses, dí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fine como el tiempo en que el proyecto se demora en recuperar la plata invertida al inicio de la operación 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296244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829040" cy="305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276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5-12T21:12:30Z</dcterms:modified>
  <cp:revision>57</cp:revision>
  <dc:subject/>
  <dc:title>Design and Planning of Block Caving Operations</dc:title>
</cp:coreProperties>
</file>