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E3B-EC2F-4312-ADC0-F59E4019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16A-EA64-4BF5-8886-07A37108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7EA-0807-40D5-ADDA-E3C0F55D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556-3BD2-4EC2-ABD2-2E491422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5B2-5070-4762-B2C3-F00F9495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FF3-05F5-49FB-A2B4-9C3A7C3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ACC-D728-4372-84E2-DFC2C9E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D60-CEB2-4DB4-B3B5-D0F9C25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A38-EACB-461B-99DD-09402DC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67A-8072-41E6-8ED5-667244D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AF3-784A-48CF-B7F2-38C56F2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CD0-4C37-48EF-ADD8-37A5936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6D96-BC27-4834-86C0-01A72B0D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F638A71-3C77-45CC-9F83-182475B6FD0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strategias de decisión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12-05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yo tengo $1 ho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nto valdría si lo tuvies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royecto es más rentable que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ién toma las decisiones estratég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 actualizado neto (VPN, VNA, NP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monetarias ($, US$, 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4343400"/>
            <a:ext cx="842976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2603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descuento para la cual el VAN es igual a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quier tasa de descuento r &lt; TIR, implica VAN &g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de tiempo (años, meses, dí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fine como el tiempo en que el proyecto se demora en recuperar la plata invertida al inicio de la operación 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296244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29040" cy="30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76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5-12T21:12:30Z</dcterms:modified>
  <cp:revision>57</cp:revision>
  <dc:subject/>
  <dc:title>Design and Planning of Block Caving Operations</dc:title>
</cp:coreProperties>
</file>