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EF5-4733-489C-9CD1-15215E76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22B7-D49B-4A4A-9F01-F61ADFBB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99B-5A79-4F95-BFEC-B1C2077E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4D4-37EF-4EBB-BA7F-C3E65D2B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31C-ADBF-4D8F-822B-10493B9B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F60-631B-4F7C-873E-91370FC4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D529-EC4D-4EAE-8446-1D339E21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5238-6BA5-4B00-A79B-87ADC6C0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161-5D31-4213-ADAE-19B04A3F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211-EB5A-4D93-BF60-F46D2112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C84-8810-4C75-9713-5ED0BC24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59B-DACD-4B68-B14D-21392A71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BBCE-8867-4B37-8D85-4D0292339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2AB0F1E6-941E-497E-A2E2-B5F718480C7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IngMinas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EI2001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ección 24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strategias de decisión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Javier Santibáñ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amilo Mora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12-05-20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yo tengo $1 ho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nto valdría si lo tuviese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ómo saber si un proyecto es más rentable que ot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ién toma las decisiones estratégic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or actualizado neto (VPN, VNA, NPV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iene unidades monetarias ($, US$, €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do una tasa de descuento r, inversión F, ingresos I, costos C, en t periodos, se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357120" y="4343400"/>
            <a:ext cx="842976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do una tasa de descuento r, inversión F, ingresos I, costos C, en t periodos, se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a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126036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 Interna de re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 de descuento para la cual el VAN es igual a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lquier tasa de descuento r &lt; TIR, implica VAN &gt;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iodo de recuperación de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iene unidades de tiempo (años, meses, día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fine como el tiempo en que el proyecto se demora en recuperar la plata invertida al inicio de la operación (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3352680" y="5105520"/>
            <a:ext cx="296244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4829040" cy="3051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32767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Camilo</cp:lastModifiedBy>
  <dcterms:modified xsi:type="dcterms:W3CDTF">2009-05-12T21:12:30Z</dcterms:modified>
  <cp:revision>57</cp:revision>
  <dc:subject/>
  <dc:title>Design and Planning of Block Caving Operations</dc:title>
</cp:coreProperties>
</file>