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F96A-2BA9-4915-B064-A9E3B7B92A6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5901-8E22-4381-8BCB-61F4DC7B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7C5-8C53-422B-825D-30FC4F5A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253-D8E1-49B1-B6B5-47328BC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D1F-5DC5-40FC-823A-63E3D1FE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050-02E0-4E7D-AB95-B1872CB9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CF4-C135-43EF-97B2-554343FA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633-03E2-41BC-B13A-8DC042BD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F9E-CB18-4CAE-A678-ABE4322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E57-5CCD-4425-B997-1275609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4FD-7EDD-4D7C-B709-FE34E5D6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D78-A555-4749-8CB5-83FFB885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D7B-A542-49BE-B451-AB5C300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94B-D7D5-4E5B-A468-67C71D1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2006-E38D-4071-A2C3-A8530DF4650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 rot="16200000">
            <a:off x="50040" y="1956960"/>
            <a:ext cx="1553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it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 de Secuencia en un R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02800" y="1776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373280" y="28954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13"/>
          <p:cNvCxnSpPr>
            <a:stCxn id="62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4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15"/>
          <p:cNvSpPr/>
          <p:nvPr/>
        </p:nvSpPr>
        <p:spPr>
          <a:xfrm>
            <a:off x="7362360" y="4876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8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9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27999" t="25780" r="21000" b="4888"/>
          <a:stretch/>
        </p:blipFill>
        <p:spPr>
          <a:xfrm>
            <a:off x="5105520" y="4114800"/>
            <a:ext cx="35877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27000" t="28669" r="20001" b="5556"/>
          <a:stretch/>
        </p:blipFill>
        <p:spPr>
          <a:xfrm>
            <a:off x="533520" y="1981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7 CuadroTexto"/>
          <p:cNvSpPr/>
          <p:nvPr/>
        </p:nvSpPr>
        <p:spPr>
          <a:xfrm>
            <a:off x="2869920" y="48769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5914080" y="3809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neral/ Esté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rcRect l="3501" t="31113" r="87501" b="56448"/>
          <a:stretch/>
        </p:blipFill>
        <p:spPr>
          <a:xfrm>
            <a:off x="685800" y="4800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strategia de Consumo de un Ban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7501" t="29333" r="21000" b="5778"/>
          <a:stretch/>
        </p:blipFill>
        <p:spPr>
          <a:xfrm>
            <a:off x="457200" y="1523880"/>
            <a:ext cx="4408560" cy="31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3999" t="29333" r="84001" b="42670"/>
          <a:stretch/>
        </p:blipFill>
        <p:spPr>
          <a:xfrm>
            <a:off x="228600" y="4495680"/>
            <a:ext cx="11430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82" name="5 Conector recto de flecha"/>
          <p:cNvCxnSpPr/>
          <p:nvPr/>
        </p:nvCxnSpPr>
        <p:spPr>
          <a:xfrm>
            <a:off x="5486400" y="4495320"/>
            <a:ext cx="32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7 Conector recto de flecha"/>
          <p:cNvCxnSpPr/>
          <p:nvPr/>
        </p:nvCxnSpPr>
        <p:spPr>
          <a:xfrm flipH="1" flipV="1">
            <a:off x="5333400" y="1904760"/>
            <a:ext cx="766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9 CuadroTexto"/>
          <p:cNvSpPr/>
          <p:nvPr/>
        </p:nvSpPr>
        <p:spPr>
          <a:xfrm>
            <a:off x="8530560" y="4648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>
            <a:off x="5045760" y="19051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5562720" y="3505320"/>
            <a:ext cx="304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Rectángulo"/>
          <p:cNvSpPr/>
          <p:nvPr/>
        </p:nvSpPr>
        <p:spPr>
          <a:xfrm>
            <a:off x="594360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Rectángulo"/>
          <p:cNvSpPr/>
          <p:nvPr/>
        </p:nvSpPr>
        <p:spPr>
          <a:xfrm>
            <a:off x="632448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Rectángulo"/>
          <p:cNvSpPr/>
          <p:nvPr/>
        </p:nvSpPr>
        <p:spPr>
          <a:xfrm>
            <a:off x="7467480" y="3505320"/>
            <a:ext cx="304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Rectángulo"/>
          <p:cNvSpPr/>
          <p:nvPr/>
        </p:nvSpPr>
        <p:spPr>
          <a:xfrm>
            <a:off x="7848720" y="3886200"/>
            <a:ext cx="3045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Rectángulo"/>
          <p:cNvSpPr/>
          <p:nvPr/>
        </p:nvSpPr>
        <p:spPr>
          <a:xfrm>
            <a:off x="6705720" y="3048120"/>
            <a:ext cx="30456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706896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Forma libre"/>
          <p:cNvSpPr/>
          <p:nvPr/>
        </p:nvSpPr>
        <p:spPr>
          <a:xfrm>
            <a:off x="2540160" y="2421000"/>
            <a:ext cx="3135240" cy="94608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0 Forma libre"/>
          <p:cNvSpPr/>
          <p:nvPr/>
        </p:nvSpPr>
        <p:spPr>
          <a:xfrm>
            <a:off x="3048120" y="3919680"/>
            <a:ext cx="3106440" cy="1207800"/>
          </a:xfrm>
          <a:prstGeom prst="pie">
            <a:avLst/>
          </a:prstGeom>
          <a:noFill/>
          <a:ln w="936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2 Forma libre"/>
          <p:cNvSpPr/>
          <p:nvPr/>
        </p:nvSpPr>
        <p:spPr>
          <a:xfrm>
            <a:off x="2757600" y="4238640"/>
            <a:ext cx="4311360" cy="1557360"/>
          </a:xfrm>
          <a:prstGeom prst="pie">
            <a:avLst/>
          </a:prstGeom>
          <a:noFill/>
          <a:ln w="9360">
            <a:solidFill>
              <a:srgbClr val="a6f0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13925" t="9885" r="19736" b="16760"/>
          <a:stretch/>
        </p:blipFill>
        <p:spPr>
          <a:xfrm>
            <a:off x="250920" y="333360"/>
            <a:ext cx="583236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Line 3"/>
          <p:cNvSpPr/>
          <p:nvPr/>
        </p:nvSpPr>
        <p:spPr>
          <a:xfrm flipH="1">
            <a:off x="971640" y="620640"/>
            <a:ext cx="79200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700360" y="155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564000" y="285264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4869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7964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28472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mi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643280" y="2276640"/>
            <a:ext cx="216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4836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3203640" y="69192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659640" y="47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planta = 7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sos a seg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 considerando los costos de transporte variable 4 km a planta y 1.5 Km a botad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ribuir la extracción de mineral y estéril en el tiempo considerando los siguientes rendimient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palas 1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cargadores 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imar el número de camines necesarios para realizar la extracción de mi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6:25Z</dcterms:created>
  <dc:creator>Erubio</dc:creator>
  <dc:description/>
  <dc:language>en-US</dc:language>
  <cp:lastModifiedBy>Camilo</cp:lastModifiedBy>
  <dcterms:modified xsi:type="dcterms:W3CDTF">2009-04-21T23:13:50Z</dcterms:modified>
  <cp:revision>8</cp:revision>
  <dc:subject/>
  <dc:title>Programa de Producción</dc:title>
</cp:coreProperties>
</file>