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744-B39D-48AC-9FB5-7975EA2F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E35-F3C9-49EA-8F54-3AE183D2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49D-8A52-4DD1-8836-1AE6B7C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2AB-A307-440A-80EC-B82B53DB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FE3-3A2B-4312-A2D2-82685C13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6B2-2C50-415A-BBA3-A7944FA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B11-6BC6-466B-808D-3DE9195B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3ED-A345-4F12-83F8-9A8EA6D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2F7-384C-4C37-8399-0118F999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AA5-D8DE-4820-9745-42A1534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1AB-88AD-4864-A320-65643C9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FB2-7527-4ADA-A1B2-17E3E20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311-FAA5-4D3B-9173-9B74643D0DB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ones del cuerpo mineralizado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ón del bloque (h = 15 m)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úmero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de cada bloque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total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por bloque (fino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total (fino total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nsidad Máxima, Mínima y promedio [ton/m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ey Máxima, Mínima y Promedio [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planta = 4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Entregar un Excel o un Word con un resumen del análisis estadístic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50:59Z</dcterms:created>
  <dc:creator>JSB</dc:creator>
  <dc:description/>
  <dc:language>en-US</dc:language>
  <cp:lastModifiedBy>Camilo</cp:lastModifiedBy>
  <dcterms:modified xsi:type="dcterms:W3CDTF">2009-04-14T22:40:06Z</dcterms:modified>
  <cp:revision>13</cp:revision>
  <dc:subject/>
  <dc:title>Diapositiva 1</dc:title>
</cp:coreProperties>
</file>